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1.jpeg" ContentType="image/jpeg"/>
  <Override PartName="/ppt/media/image29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416D-0E08-4893-9D93-AC138802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B34-5136-4042-AA68-6145F194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5BEC-9B54-4432-9781-83859DE0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74D-96F2-4637-B10D-99CFAB18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E15-C427-4B4A-B55E-48CEEB03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C14-4219-4C40-886E-A7144691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E12-2F37-4867-A1B0-74609892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1B3-47E2-421B-95E4-755D64AA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377-0FF4-41C8-9461-5CCFD543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441-01A2-4B03-93BD-8AE2A9E4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43E5-CAA8-4347-8FB1-A924094A1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1E3-B95A-498A-B945-96B00477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16A-E604-494B-B559-C5A51AE21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B512-DB60-41E0-A016-FA335BC3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AF0E-51DD-41F0-AA66-F2DD27707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B778-5988-4EFB-B35B-AE6649E6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8234-FCCA-41EC-9451-D7F85E0B9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AE6-B7A4-43B9-9C3E-EF7A00A9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FE3-64EF-4938-BB39-74837F43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87B-1C9B-44EB-9A59-984151F4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991-842C-4B34-8490-D82E573AF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A26B-ED62-4B0E-9893-218D9AD5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6AA-FBC3-47B4-AAE2-83181752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4CB-8A10-4BC5-B682-795AAF99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2E5F-E1C6-4BF8-82B2-966CB0F38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4AE-B8E1-4F05-9DD2-F78ACAD4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02880" y="4249800"/>
            <a:ext cx="497052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808-0874-4B9A-92FB-FDF4A2FA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81FE-0E36-4BFA-A7A8-27DB9390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98BB-1788-4061-AE50-ECB05FE8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1E5-D89B-49BC-99C6-FB8EC03A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C0B-5140-4C33-AFAF-439CB3D9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23B-AB08-4595-B726-2B4E9E89C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2A60-8C4A-4808-ACB4-BD9442D8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3A0B-EC03-4ACF-86BC-19359FD6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B572-9A09-4384-8A1B-9194B24F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740-108D-4683-A023-95808D66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6BD-E79D-4919-9D88-F0E83150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4413-3101-4169-AABF-DAF9BDB0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C61F-2676-4044-A3CF-A7151F44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117-4615-431A-9C4F-613C7508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A0ED-18D9-4AD1-9BFD-5C715017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56D-E805-40E6-82DF-B626A68FE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C1D8-472A-417A-9B3F-45C479D2A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8AE6-66D8-4F3F-BD30-4C460789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DAF4-3FA1-4CB0-990A-942B2402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5A7E-39A7-4C7D-9FAC-25336934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F2A-968B-4B66-B9C6-29BCAB3C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5B9-A875-420E-AF9D-A36A4F2E4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B6B8-89E1-434F-B9B8-BBDBE28A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E8F-F96E-43E2-8A89-3309A591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3BA-80F1-4BCC-8E85-93A8A4B1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AED-FA1B-4518-A6B9-AB281F94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ADE-020B-434D-A093-D062965B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7933-360C-49C9-AF2C-953C9077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A8AC-C466-49EE-B465-278695C0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F226-091C-4212-A298-A2B256BC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3447-34FA-4E6B-9BD9-953FB6DF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D010-8F37-49D6-8F71-500CA831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EC34-FE67-453C-A452-5BF87013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E9B8-3C03-47CC-88D5-AEB82ADA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601-B4C3-4BFC-9330-D3066C4A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2727-CCFE-4BCD-9655-6276C0C8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029-7F77-4915-9173-FE63509C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F7F-AF86-4761-A79C-62A627D2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616E-7B16-4C85-B381-23DDD13D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7D8-1146-4690-8A77-F0D303BBB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872B-5291-4B84-AE93-1D7DC0C9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DD8-0FA8-48FC-B35C-617E94CA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72F7-7126-4D24-B8E1-D470861B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D66-6CC2-41C8-A889-678DA35F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B52-DCEB-4C05-B78F-F6420A20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639-67D9-4B6D-924C-7F5423D6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3967-8EDA-4922-8E67-0CBC3144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703-7C19-4A27-8DB5-80B0EBF42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BB1-CE1F-4AEB-9FE5-C5B976AF4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887-BCB9-4FAC-BCAF-CAA58ACF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D28-C7C9-4700-8FE5-50BC3A29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67EC-5AFB-4936-8F9B-2657BEA7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452B-D2F4-4387-8528-315C38BC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8BB-FE26-42E9-A8B9-80F8BA456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13A-B1B9-498C-9B88-B10AB0D9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A76-99BE-4B7E-BF51-8B92357CD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D57-386D-49B6-9824-BA663CC9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CF09-D9DD-4525-AF7B-CB5B189D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976-1076-4CE6-83F4-4D3BBB14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8E8-3475-4D69-B7F2-360DC1A59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26F-D5D8-40CE-975B-D3BD4FA0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D5D-CC21-4266-8442-1809AE53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116-8789-45C9-AA07-02CB32D6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0F2-AF4E-4A1F-B45F-2D443D5A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B36-5EF8-444B-8C24-067F640D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EFE3-B449-41F8-BAB4-B35383CC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D1C-E6E8-4284-B3FE-34E97B7F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D4F-FBEB-4516-B621-D0D10250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812-0CDE-442E-95EA-59A53D67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387-F54D-4933-A7FB-CD8052D7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29DE-B5FC-4C26-A753-72E1B5B5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D5F-3CA2-4372-A159-6969BD62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82CA-1815-47EE-9689-71CEABF4E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48C-D3A0-4BAB-9D56-CF81A799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B4E-C372-4C3D-9B13-DBDC6BDD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3A9-DAD7-4E4D-B969-3B359F45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EBB1-A6B3-40AC-8E25-48F57414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536-0E0E-41A1-9753-CAD5304A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BAF-D980-41F4-97ED-3088453C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FD07-E4BE-4CEE-81F9-81E95FD7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2D1-6B54-4751-9936-C8464BD0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E79B-2AE5-46E1-90FA-707B7FCA4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4591-1DF4-4008-B434-68461A15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F99-A80D-42AC-B2B0-F9865AF20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745-9CFD-45B4-81EA-B4E942CBE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322-3C0C-466F-BA60-D084EDB0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697C-013D-465D-90C4-E6DE8456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E212-0719-48CC-A4E9-2C37D7E6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6A54-AB1B-44AE-8564-4E9C2CA36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8B6-BD0A-4F1C-9A2D-FA1969B3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C26-CE96-4B5C-A4C4-637686A7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44B-6A08-4F36-B18F-D71D66A4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C347-290F-42BC-A4AC-E1F0AE8D7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299-D721-4DA5-95F9-C8B2DF64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C77-057A-49D7-A740-98CD7D3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72D-9027-4063-8106-48633296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91C-5258-47BE-B7D3-5334F7B6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03E4-57DA-4734-9DF1-F2C8F2C4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B335-5F72-4AE3-8E17-C7CCDC6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5FED-9447-4950-B4B4-A0EA58A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E687-670E-441F-940A-CEF8E2B7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536-0DA3-476A-B1F8-62099B55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3B7-63FB-40BB-BFFD-655A943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F052-4689-45D2-A20B-D253F5E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53B-FE1C-4A5B-BCC1-D35A77E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31E-38E2-45CC-A78F-13C3AE5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8C2C-2B2B-4EB9-AC10-86C6AAF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AF5-9A2C-4065-BAC4-C6AF502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F668-2061-4DB9-863F-6A03FA18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1A8-83CD-4651-88E9-D0692B7D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49E-D79A-4A88-945B-A73FF426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41A-04E2-4DA2-B5DF-F65F7C5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AE4-2E42-4499-B1E2-3CEEB8D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C2C-2C55-4A28-BD2E-F8B9FD24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34F-4447-4FBB-8E53-8CDE19E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35F-5F90-483D-A268-2D9DB6F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D1C-7DF0-4272-808E-76E310E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ACA-8E55-4A57-861D-675C00C08A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C62-C509-4FCC-B679-F52693328B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Arial"/>
              </a:rPr>
              <a:t>Interface Gráfica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rso de Linguagem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sé Antonio F. de Macê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macedo@inf.puc-rio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lasses para Tipos Básico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que encapsulam os tip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4C1-E721-4F6D-A092-5047F5A2DA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5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Grid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setLayout(new GridLayout(2,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(1,1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(1,2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(1,3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(2,1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(2,2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(2,3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B8B-10C0-4C3F-8D2A-258626A48A46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Combinando </a:t>
            </a:r>
            <a:r>
              <a:rPr b="0" i="1" lang="pt-BR" sz="3800" spc="-1" strike="noStrike">
                <a:solidFill>
                  <a:srgbClr val="a50021"/>
                </a:solidFill>
                <a:latin typeface="Arial"/>
              </a:rPr>
              <a:t>layout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39760" y="1720800"/>
            <a:ext cx="5697720" cy="40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8DA-F14C-480E-8811-2B872D02B6A7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43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Multi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ria três painé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sul  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leste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norte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Layout (new BorderLayout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7B1-8AFE-479E-B13E-DC611DB23ABD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n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rte.setLayout(new FlowLayout(FlowLayout.CENTE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ria um ró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abel label = new Label ("Digite o text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a fonte do rótul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nt font = new Font("Serif", Font.BOLD | Font.ITALIC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abel.setFont (fo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adiciona o painel norte à posição norte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rte.add (labe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North", nor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a área de texto ao centro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Center", new TextArea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6AE-3FE0-46C7-B793-2E6D981934E6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32880" y="1295280"/>
            <a:ext cx="8510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les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setLayout (new GridLayout (3,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..., adiciona vários botões a el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Reformat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Ortografia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Opçõe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o adiciona à posição leste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East", les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79F-A836-43F2-8843-1BAED92F92B9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32880" y="1295280"/>
            <a:ext cx="8510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s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setLayout (new FlowLayout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..., adiciona vários botões a el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Salv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Cancel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Ajuda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o adiciona à posição sul do "applet"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South", su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91B-DB38-4DE5-9167-A2045F188599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odelo de Eventos 1.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DK 1.1 - Modelo de Dele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da componente registra um objeto que irá receber os eventos (objeto listener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recepetor de eventos é um objeto de uma classe separada da classe compon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s eventos são objetos que são reportados somente aos “listeners” registr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da evento tem uma interface listener associ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AEE-435E-4747-91A2-BE3AF4818D53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odelo de Eventos 1.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57200" y="1752480"/>
            <a:ext cx="7828200" cy="4654080"/>
            <a:chOff x="457200" y="1752480"/>
            <a:chExt cx="7828200" cy="4654080"/>
          </a:xfrm>
        </p:grpSpPr>
        <p:grpSp>
          <p:nvGrpSpPr>
            <p:cNvPr id="372" name=""/>
            <p:cNvGrpSpPr/>
            <p:nvPr/>
          </p:nvGrpSpPr>
          <p:grpSpPr>
            <a:xfrm>
              <a:off x="457200" y="2165040"/>
              <a:ext cx="3216960" cy="1924920"/>
              <a:chOff x="457200" y="2165040"/>
              <a:chExt cx="3216960" cy="1924920"/>
            </a:xfrm>
          </p:grpSpPr>
          <p:sp>
            <p:nvSpPr>
              <p:cNvPr id="373" name=""/>
              <p:cNvSpPr/>
              <p:nvPr/>
            </p:nvSpPr>
            <p:spPr>
              <a:xfrm>
                <a:off x="457200" y="2165040"/>
                <a:ext cx="3216960" cy="192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85960" y="2646000"/>
                <a:ext cx="2430720" cy="1100160"/>
              </a:xfrm>
              <a:prstGeom prst="rect">
                <a:avLst/>
              </a:prstGeom>
              <a:solidFill>
                <a:srgbClr val="d9d8e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15480" y="3058560"/>
                <a:ext cx="1358280" cy="481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BOTÃ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7920" y="216504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86680" y="2646000"/>
                <a:ext cx="85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a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142960" y="31276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Ev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998080" y="3333960"/>
              <a:ext cx="207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8720" y="4846680"/>
              <a:ext cx="4789800" cy="1099800"/>
            </a:xfrm>
            <a:prstGeom prst="rect">
              <a:avLst/>
            </a:prstGeom>
            <a:solidFill>
              <a:srgbClr val="676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actionPerformed (ActionEvent 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// tratamento do ev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18000" y="4434120"/>
              <a:ext cx="46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Objeto Listener - tratador de ev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5120" y="1752480"/>
              <a:ext cx="6276600" cy="398880"/>
            </a:xfrm>
            <a:prstGeom prst="rect">
              <a:avLst/>
            </a:prstGeom>
            <a:solidFill>
              <a:srgbClr val="6767ff"/>
            </a:solidFill>
            <a:ln w="12600">
              <a:solidFill>
                <a:srgbClr val="0616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botao.addActionListener(new Tratador(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1400" y="594684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ratador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75" idx="4"/>
              <a:endCxn id="381" idx="1"/>
            </p:cNvCxnSpPr>
            <p:nvPr/>
          </p:nvCxnSpPr>
          <p:spPr>
            <a:xfrm>
              <a:off x="2494800" y="3540240"/>
              <a:ext cx="1130400" cy="110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F12-2407-4115-9EB3-B6F5E3C4C5B8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public class TesteE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static void main (String p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anela janela = new Janela(“Contador de \”cliques\”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anela.inici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B50-4312-44A5-A4E4-E3DD0AFF7060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Janela extends 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ota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(String ti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per(tit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 = new Button("0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Clique no botão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D08-35B4-44E8-AF2E-CA3342E68137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s de Us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b = new Boolean(“tru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b.booleanValue()) ... else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i = new Integer(“123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 = i.intValu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func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==Float.POSITIVE_INFINITY || f==Float.NEGATIVE_INFIN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f==Float.N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A78-F9AE-4568-B0B4-4E616078B5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iniciar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ratador tratador = new Tratador(bota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ndo tratadores de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tao.addActionListener(Tratador);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WindowListener(Tratad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864-58E7-415D-A430-138F08C733FC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628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Tratador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implements ActionListen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WindowListener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ot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ratador(Button bota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his.botao = bot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actionPerformed(ActionEvent e)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liques = Integer.parseInt(botao.getLabel())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tao.setLabel(String.valueOf(clique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713-EBA6-4600-83A4-1B8BC2432118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Closing (WindowEvent 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Activat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Clos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Deactivat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Deiconified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Iconifi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Open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299-A2E5-4F16-BAB6-C19194B98C72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Usando eventos em menu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90920" y="1600200"/>
          <a:ext cx="32065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2065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2811600" cy="12225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813040" cy="1222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1143000" y="5257800"/>
            <a:ext cx="2813040" cy="12222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257800" y="5257800"/>
            <a:ext cx="2813040" cy="12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6CF-3D05-4AF0-83CA-FCB245CE58A2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MenuEventsTest extends Frame implements ActionListen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indowListener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extField e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MenuEventsTes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co = new TextField(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ec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 menuB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 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Item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C9B-0398-403D-8F1A-E49BC5029C2B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1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 = new Menu("Fil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New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Ope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S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714-B103-4C86-A1FE-008730A528AD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195200" y="1676520"/>
            <a:ext cx="7175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Sepa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Exi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 = new MenuB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.add(men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MenuBar(menuB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Window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9BA-878F-44F6-85DE-0532BCB27DA0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83880" y="1600200"/>
            <a:ext cx="773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EventsTest menuEventsTest = new MenuEventsTes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 eco.setText(((MenuItem)event.getSource()).getLabel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Closing (WindowEvent ev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7AC-DD69-43DA-9787-101E8FD2C199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95200" y="1523880"/>
            <a:ext cx="7175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Activat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Clos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Deactivat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Deiconified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Iconifi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Open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05E-2ADC-47B0-9134-71008D0845CD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classes que faz parte da biblioteca Java Foundation Classes (JF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ão do AWT (Abstract Windowing Toolkit) integrada ao JDK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696080" y="457200"/>
            <a:ext cx="79056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9C9-444C-479C-A5AC-11A7D3F75416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String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ing imu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Bu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ing mu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0DF-CD41-4108-AEB0-CAC25DC72E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Vantagens do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rência e Comport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lo do S.O. nativo 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vo exclusivo Java chamado Me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s implementados inteiramente em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lhor compatibilidade entre plataformas do que AW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EA7-4C09-41D6-AEC2-CDDFB10154D8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TENÇ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utilizar classes Swing é necessário importar o pac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 Evite misturar componentes AWT e 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342200">
            <a:off x="2666160" y="3352680"/>
            <a:ext cx="2819520" cy="11430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850-9567-4119-820A-8BF6DFB310AD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523880" y="2286000"/>
            <a:ext cx="62485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14520" y="3174840"/>
            <a:ext cx="62578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14520" y="4076640"/>
            <a:ext cx="6257880" cy="3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14520" y="4724280"/>
            <a:ext cx="62578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plicativos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r pacote Swing (e geralmente awt também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rar sub-classe de JFram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MinhaJanela extends J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haJanela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mensionar janela automaticament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rnar janela visív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9E5-2C7E-44E3-A682-54D43A3BE95C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5280" y="3962520"/>
            <a:ext cx="6934320" cy="167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 trabalhar com Swing, utilizamo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m container intermediário chamado 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painel de conteú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 adicionamos outros containers e com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ão, precisamos dizer qual é o painel de conteú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Button botao = new JButton (“Texto bota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Panel pane = new J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ne.add(botao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ContentPane(pane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 instrução transforma pane no painel de conteúdo!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ortant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7150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23C-0C0D-4451-84A5-2F6E375DE0DB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371600" y="1612800"/>
            <a:ext cx="7086600" cy="349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5168880"/>
            <a:ext cx="7086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untando tud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JFram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haJanela(String titulo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u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anel pane = new JPane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botao = new JButton (“Texto bota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e.add(bota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etContentPane(pa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TestaMinhaJanel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= new 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“Titulo da Aplicaca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526-1AC0-4BF3-8825-F56469E94DA2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ntão, Conceitos Importantes: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aplicação cria 3 componentes comu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frame, ou janela principal (JFram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painel, também chamado pane (JPanel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botão (JButt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Frame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 top-level contain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2100" spc="-1" strike="noStrike">
                <a:solidFill>
                  <a:srgbClr val="ff0066"/>
                </a:solidFill>
                <a:latin typeface="Arial"/>
              </a:rPr>
              <a:t>content pan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panel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n intermediate container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----------------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Button  ...        Jlabel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tomic component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CE3-CF78-482A-9B91-406D90390BDD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TENÇ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vez definido o painel de conteúdo para um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todos como setLayout (LayoutManager) e add(Component) são chamados a partir do painel de conteúdo e não do container de alto ní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6ED-6BF4-469F-9E6F-2FCDF41C0F45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s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m componentes Swing correspondentes a cada um dos componentes AWT que estud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m novos construtores para componentes S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CC5-F620-43B9-820B-9FD4BE46DC2A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71600" y="4952880"/>
            <a:ext cx="77724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Label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inhamento individua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Label(String, 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ótulo de texto, alinhamento=JLabel.{LEFT, CENTER, RIGHT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Label(String, Icon, 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dem mais ícone da seguinte for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Icon icone = new ImageIcon("nomeIcone.gif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Label titulo = new JLabel("titulo",icone,JLabel.LEFT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705720" y="1765440"/>
            <a:ext cx="2286000" cy="14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E07-D72D-41B0-A97E-1D0C2E031C9C}" type="slidenum">
              <a:t>1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Button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Str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Ic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String, Ic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texto, ícon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214720" cy="15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736-6481-40F5-8FC9-EB3559E931A4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 apartir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 apartir de vetore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sulta, comparação e pesqu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ver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3A3-5180-4F20-9147-DE860F0535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311640" y="4267080"/>
            <a:ext cx="23270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étodo setEchoChar(char) não é mais suport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TextField(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TextField(String,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largur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JPassword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qui o método setEchoChar(char) é suport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 idênt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PasswordField(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PasswordField(String,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largur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TextField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213336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F2A-9093-47DC-9391-D2CA2CFABE3C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TextArea(int, 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TextArea(String,int, 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texto, linhas,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EC6-115B-44D0-A0F5-2ECBC75E8C85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Ic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Icon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Ic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Icon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ícone, boolean true para caixa selecioand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715000" y="1824120"/>
            <a:ext cx="311472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0D0-BEF8-4053-8211-95DB89419909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RadioButton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cessidade de declarar a classe ButtonGroup para que apenas um componente possa ser selecionado de cada v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sse CheckboxGroup não é mais utiliza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E34-2EA8-4F46-9FFF-F0D17A54873E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RadioButton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birdButton = new JRadioButton(bird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Button.setSelected(tr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catButton = new JRadioButton(cat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dogButton = new JRadioButton(dog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rabbitButton = new JRadioButton(rabbit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pigButton = new JRadioButton(pig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Agrupa  radio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bird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cat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dog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rabbit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pig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386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6C0-2C0A-46BA-A8ED-F975E2741C3F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Combo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vo nome para classe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omboBox(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m argu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em(Objec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iciona item à li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tEditable(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se para transformar em lista de escolha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ue para transformar em lista com inclusão permitid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629400" y="2730600"/>
            <a:ext cx="2286000" cy="18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34C-F21C-416D-88A8-126FF0B623AA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Scroll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crollBar(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crollBar(int, int, int, int, int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orientação JScrollBar.{HORIZONTAL, VERTICAL}, valor inicial, tamanho da caixa, valor mínimo, valor máxim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CD5-DF01-4E65-8088-84F7B664FF09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Novos Recursos do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enciador de Interface que controla Aparência e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emônicos de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as Descr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ixas de Diálogo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A8D-A8C8-4745-A703-CAF48BCBDF3A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Definição de Aparência e Comportament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36003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Manager.setLookAndFeel(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UIManager.getSystemLookAndFeelClassNam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err.println("Couldn't use the system " + "look and feel: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UIManager possui método setLookAndFeel(LookAndFeel) que permite escolher aparência e comportamento de um p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10080"/>
            <a:ext cx="22860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parência e comportamento multiplataforma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910-BECD-4B55-AFA4-1F7E3852E4EE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LookAnd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PlatformLookAnd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222800" cy="18111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971800" y="4648320"/>
            <a:ext cx="422280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4BF-5C02-4AB4-B10B-BCF0E1446ABF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texto = new String(“Exemplo 1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 = texto.charAt(1);     // c==‘x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compareTo(“exemplo 1”); //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dst = new char[5];     // dst={0,0,0,0,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getChars(2,5,dst,1);    // dst={0,e,m,p,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indexOf(‘o’,2);         // =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lastIndexOf(‘w’);       // =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 = texto.toLowerCase();  // texto==“exemplo 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 = String.valueOf(12.5); // texto==“12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CCF-08F6-41A1-AC68-204004C0EF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Mnemônicos de Teclad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ência de teclas que permite usar pgm Java com teclado e sem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 de usar mnemônico varia com a plataforma (no Windows é tecla A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setMenmonic(char) do componente deve ser cham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Button botao = new JButton("Info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tao.setMnemonic('i'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ionar (ALT + i) aciona o component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2D5-BBB1-409B-9513-E82F94435549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Dicas Descritivas (Balões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as textuais que aparecem se o mouse permanecer por alguns segundos sobre um c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 podem ter tamanho máximo de uma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setToolTipText(String) do componente deve ser cham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ScrollBar speed = new JScrollBa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ed.setToolTipText("Mova para alterar velocidade"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6DA-7D0F-4DED-B8BE-1B5DEF9C4117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aixas de Diálogo Padr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e JOptionPane oferece métodos que criam caixas de diálogo padr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confirm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entrada de tex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mensag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genér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291-B873-47EF-97DF-976407761017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Confirm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189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/No/Can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Confirm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showConfirmDialog(Component, Object, String, int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s botões a serem apresentados - JOptionPane.{YES_NO_OPTION, YES_NO_CANCEL_OPTION)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into descreve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CFB-36C8-47E7-9D63-9BD1802FFA3B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Input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da de dados com campo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Input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 showInputDialog(Component, Object, String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84D-3D12-4E6D-A71A-D412D083DAD4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Message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Message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 showMessageDialog(Component, Object, String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2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iferença das outras: não retorna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182-2B69-40C5-9542-C4588D7649F2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Option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ção que combina recursos das anteri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OptionPane.showOptionDialog(Component, Object, String, int, int, Icon, Object[], Objec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quarto informa os botões a serem apresentados - JOptionPane.{YES_NO_OPTION, YES_NO_CANCEL_OPTION))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 literal 0 para outros bot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quinto informa o tipo de caixa para a seleção de ícone - JOptionPane.{ERROR_MESSAGE, INFORMATION_MESSAGE, PLAIN_MESSAGE, QUESTION_MESSAGE, WARNING_MESSAGE})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 literal 0 para outro íc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exto é o novo íc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étimo é um array de componentes para escolhas ao invés dos botões YES_NO_CANC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oitavo indica qual o objeto do array que aparecerá selecio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644-D575-4FD1-90D5-05D4F1FCDE7F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 que permite a seleção de um ou mais elementos de uma 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052880" y="3052800"/>
            <a:ext cx="27288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83D-B4A6-48B9-BDE2-16D956620EB3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Construtore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 = new JLis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(Object[ ] l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ring dados[ ] = {“zero”, “um”, “dois”}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Dados = new JList(dado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D22-9150-4A51-890A-CBF3A86895BD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Alguns Método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learSelec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[ ]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Indice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Valu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sSelectedIndex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sSelectionEmp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etVisibleRowCount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visibleRow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etSelectedIndex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4FF-D172-4D5C-B956-C28993C6D93E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 para ajustar capa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 a partir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su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alt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095-AEB9-4652-A23A-1D6FE7F13A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JScrollPan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 não implementa diretamente o scrolling (não exibe barra de rolag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através do uso de JScroll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ring itens[ ] = {“lar”, “ama”, “vio”, “ros”}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 = new Jlist(itens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ScrollPane scrPane = new JScrollPane(lst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5E7-FEA0-49EB-8642-15D8140A9441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dor que facilita arrumação de compo-nentes em ‘caixas’ verticais ou horizon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mensão da ‘caixa’ será função do tamanho e tipo do maior c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195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CE4-C01A-487E-A273-3A57520EED88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são colocados em linha ou coluna ú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 de eixos: especifica-se qual o eixo do sentido principal de gerenciamento (eixo x ou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rumação dos 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ixo X: esquerda para dir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ixo Y: cima para bai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55C-398B-481E-8D4B-9B807BB3B0FB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BoxLayout (Container target, int ax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X_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Y_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6CF-1604-44DE-AFF9-0D84AD9C3954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551-2A35-42C1-8B42-FBEDB414EA58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br>
              <a:rPr sz="3800"/>
            </a:b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serão dimensionados em função do tamanho (e limites de tamanho) dos maiores componentes de mesm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inhamento dos componentes no ‘box’ será função do alinhamento horizontal ou vertical dos compon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linhamento centralizado: default para a maio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linhamento à esquerda: buttons, combo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boxes, labels e menu itens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5A-18DA-44FB-8CA0-74C39922A4B8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46D-1C87-4AF8-AAD8-92F383157372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avax.swing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TestaBoxLayoutAlin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xLayoutAlin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String titul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per(tit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JLabels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JTextFields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Principal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Url  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URL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Login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Login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Senha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Senha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Url  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15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Login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Senha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41D-B3DB-4C43-8C01-C410660BE41A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Url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Login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Senha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setLayout 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(pnlJLabels, BoxLayout.Y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setLayout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 B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oxLayout(pnlJTextFields,BoxLayout.Y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setLayout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(pnlPrincipal, BoxLayout.X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Url);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Login);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Senh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Log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Senh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8F5-FE4D-4326-9C25-8DAE2BBFF3CB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4343400"/>
            <a:ext cx="82296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add(pnlJLabe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add(pnlJTextField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tContentPane(pnlPrincip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tVisible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TestaBoxLayoutAli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c00000"/>
                </a:solidFill>
                <a:latin typeface="Courier New"/>
              </a:rPr>
              <a:t>voi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main(String args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xLayoutAlin frame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Alin 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Testa Box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1CC-A013-451E-B821-813B5D6ABB52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ffer buf = new StringBuffer(“Exemplo 2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 = buf.charAt(1);     // c==‘x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capacity();             // =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append(01).append(‘0’); // buf==“Exemplo 21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setCharAt(0,‘e’);       // buf==“exemplo 21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reverse();              // buf==“012 olpm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FF0-8D79-437A-B3F1-B99CE596F1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ys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pode ser insta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ê acesso ao sistema ope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entrada, saída e saída de 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sso a propriedades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9BD-DD5C-418E-8C2D-957DBAEA76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ys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“olá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user.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java.class.path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os.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runFinalizersOnExit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in.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25B-9854-4A88-B764-3C9A82A446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pode ser insta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ê funções matemáticas bá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057-BB4B-4939-BE52-BF32D5234F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Modularidade em Java:</a:t>
            </a:r>
            <a:br>
              <a:rPr sz="3800"/>
            </a:b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pacote é um conjunto de classes e outros pac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s permitem a criação de espaços de nomes, além de mecanismo de controle de a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E2D-B986-4C29-AE81-9123719777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in(3*Math.PI/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sin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exp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Math.E,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ax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F65-D1C1-4DF3-A689-FF30A99D00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z parte da biblioteca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Funções Matemá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trigonométri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logarítmicas / exponencia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raizes / potênc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onstante PI e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D77-E00A-4215-A644-0CE2F4613B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lass valorP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ublic static void main( String p[]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ystem.out.println("Valor de PI "+Math.PI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D2A-1615-4C59-9D91-4EB1F9E17C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Interface Gráfica em Jav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possui um pacote de classes para criação e manipulação de interfaces gráficas chamado de AWT (Abstract Window Toolk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WT é composto de classes que definem diversos componentes necessários na construção de uma interface 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50B-6394-417A-99E1-D114DECBA5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85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lementos de uma interface gráfic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janela, paine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ocal onde são adicionados os componentes ou outros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contai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otões, labels, listbox, menu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dor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bjeto responsável pelo posicionamento dos componentes inseridos num determinado contain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A52-BEED-433E-8FDC-55535A7D4A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45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09680" y="1828800"/>
          <a:ext cx="477216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477216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6640" y="2676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10640" y="2666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6920" y="4614840"/>
            <a:ext cx="2286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38720" y="3319560"/>
            <a:ext cx="2209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/>
          <p:nvPr/>
        </p:nvCxnSpPr>
        <p:spPr>
          <a:xfrm flipV="1">
            <a:off x="4038120" y="2971440"/>
            <a:ext cx="3745800" cy="2448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endCxn id="153" idx="3"/>
          </p:cNvCxnSpPr>
          <p:nvPr/>
        </p:nvCxnSpPr>
        <p:spPr>
          <a:xfrm flipH="1" flipV="1">
            <a:off x="1523160" y="3885840"/>
            <a:ext cx="686520" cy="32904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endCxn id="154" idx="3"/>
          </p:cNvCxnSpPr>
          <p:nvPr/>
        </p:nvCxnSpPr>
        <p:spPr>
          <a:xfrm flipH="1">
            <a:off x="1933200" y="2895120"/>
            <a:ext cx="1504080" cy="1044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82E-514B-4BA2-B7A3-186CDAB0A6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Hierarquia de classes AW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06520" y="1828800"/>
            <a:ext cx="6870240" cy="3170160"/>
            <a:chOff x="1406520" y="1828800"/>
            <a:chExt cx="6870240" cy="3170160"/>
          </a:xfrm>
        </p:grpSpPr>
        <p:sp>
          <p:nvSpPr>
            <p:cNvPr id="163" name=""/>
            <p:cNvSpPr/>
            <p:nvPr/>
          </p:nvSpPr>
          <p:spPr>
            <a:xfrm>
              <a:off x="3966480" y="1828800"/>
              <a:ext cx="140184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042800" y="2743200"/>
              <a:ext cx="1203840" cy="507960"/>
              <a:chOff x="4042800" y="2743200"/>
              <a:chExt cx="1203840" cy="507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088520" y="274320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042800" y="285228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Contai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112920" y="3596760"/>
              <a:ext cx="1096920" cy="504720"/>
              <a:chOff x="3112920" y="3596760"/>
              <a:chExt cx="1096920" cy="50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12920" y="3596760"/>
                <a:ext cx="1096920" cy="48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15880" y="3702600"/>
                <a:ext cx="74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a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287680" y="3596760"/>
              <a:ext cx="1158120" cy="510480"/>
              <a:chOff x="5287680" y="3596760"/>
              <a:chExt cx="1158120" cy="510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287680" y="359676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6640" y="3708360"/>
                <a:ext cx="106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Windo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234960" y="4449960"/>
              <a:ext cx="914040" cy="469800"/>
              <a:chOff x="3234960" y="4449960"/>
              <a:chExt cx="914040" cy="469800"/>
            </a:xfrm>
          </p:grpSpPr>
          <p:sp>
            <p:nvSpPr>
              <p:cNvPr id="174" name=""/>
              <p:cNvSpPr/>
              <p:nvPr/>
            </p:nvSpPr>
            <p:spPr>
              <a:xfrm>
                <a:off x="3234960" y="4449960"/>
                <a:ext cx="914040" cy="42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70240" y="452088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33400" y="4449960"/>
              <a:ext cx="1010160" cy="445680"/>
              <a:chOff x="5333400" y="4449960"/>
              <a:chExt cx="1010160" cy="4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5368320" y="4449960"/>
                <a:ext cx="975240" cy="42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3400" y="4496760"/>
                <a:ext cx="95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Fr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98000" y="3231000"/>
              <a:ext cx="0" cy="24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61920" y="34747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1920" y="3474720"/>
              <a:ext cx="219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56120" y="34747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61920" y="4084200"/>
              <a:ext cx="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56120" y="4084200"/>
              <a:ext cx="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8000" y="2316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54800" y="4389480"/>
              <a:ext cx="1218960" cy="6094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405120" y="4389480"/>
              <a:ext cx="1706400" cy="609480"/>
            </a:xfrm>
            <a:custGeom>
              <a:avLst/>
              <a:gdLst>
                <a:gd name="textAreaLeft" fmla="*/ 360 w 1706400"/>
                <a:gd name="textAreaRight" fmla="*/ 1707120 w 1706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PLIC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6520" y="2743200"/>
              <a:ext cx="1157760" cy="507960"/>
              <a:chOff x="1406520" y="2743200"/>
              <a:chExt cx="1157760" cy="507960"/>
            </a:xfrm>
          </p:grpSpPr>
          <p:sp>
            <p:nvSpPr>
              <p:cNvPr id="189" name=""/>
              <p:cNvSpPr/>
              <p:nvPr/>
            </p:nvSpPr>
            <p:spPr>
              <a:xfrm>
                <a:off x="1406520" y="2743200"/>
                <a:ext cx="115776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63760" y="285228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75960" y="32310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5960" y="231624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0160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16000" y="2560320"/>
              <a:ext cx="26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686320" y="2743200"/>
              <a:ext cx="1158120" cy="507960"/>
              <a:chOff x="2686320" y="2743200"/>
              <a:chExt cx="1158120" cy="507960"/>
            </a:xfrm>
          </p:grpSpPr>
          <p:sp>
            <p:nvSpPr>
              <p:cNvPr id="196" name=""/>
              <p:cNvSpPr/>
              <p:nvPr/>
            </p:nvSpPr>
            <p:spPr>
              <a:xfrm>
                <a:off x="2686320" y="274320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76320" y="2852280"/>
                <a:ext cx="83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Li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32958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9480" y="29350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98000" y="2560320"/>
              <a:ext cx="26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283080" y="2743200"/>
              <a:ext cx="1993680" cy="507960"/>
              <a:chOff x="6283080" y="2743200"/>
              <a:chExt cx="1993680" cy="507960"/>
            </a:xfrm>
          </p:grpSpPr>
          <p:sp>
            <p:nvSpPr>
              <p:cNvPr id="202" name=""/>
              <p:cNvSpPr/>
              <p:nvPr/>
            </p:nvSpPr>
            <p:spPr>
              <a:xfrm>
                <a:off x="6283080" y="2743200"/>
                <a:ext cx="199368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365880" y="2852280"/>
                <a:ext cx="183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Text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73800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34080" y="41454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9880" y="41454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FDF-A531-4871-8B33-D9826FAC64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Container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D34-E5A2-408A-B016-E7AF1F02EA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2136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ntainer getPare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Visible(boolean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Foreground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Background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Font(Font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Location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Size(Dimension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repai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paint(Graphics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DA3-4705-41A7-8707-60FFC332AC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25360" y="1981080"/>
            <a:ext cx="780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(PopupMenu pop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remove(MenuComponent pop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FocusListener( Focus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KeyListener(  Key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MouseListener( Mouse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MouseMotionListener( MouseMotion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C69-CDCF-4C3B-AA9F-5F31C41276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lementação de 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s são implementados como dire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rquivos das classes pertencentes ao pacote devem ficar em seu dire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quias de pacotes são construídas através de hierarquias de dire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908-4913-4D61-8331-79B0F1C8B2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ntain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06160" y="1600200"/>
            <a:ext cx="6289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Component add(Component co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 add(Component comp, int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int getComponentCou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[] getComponent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 getComponentAt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boolean isAncestorOf(Component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setLayout(LayoutManager mg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DDB-623D-4FA8-B970-0A4F12EC36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Window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a janela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WindowListener(Window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pa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toFro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toBa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29B-BC44-4CE1-A3CB-51D965A40B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ram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n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ava.awt.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a j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sui título e bo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possui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A2B-9FE5-4BB9-B3CC-D5F23A1B4A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ram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388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Title(String ti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IconImage(Image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MenuBar(MenuBar 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remove(MenuComponent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Resizable(boolean 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disp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80C-433A-44E8-B864-2F4D32652E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376440" y="2438280"/>
            <a:ext cx="2883240" cy="257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418-36C7-4F23-B874-2CBB17C97DB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25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ExemploJan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static void main (String p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 janelaPrincipal = new Janela("Oi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Principal.mostr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497-D669-4168-A1E0-B1AC41241B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25360" y="1676520"/>
            <a:ext cx="763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Janela extends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Construtor d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Janela (String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hamando o construtor da super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uper (str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Size(500,50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Background(Color.b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05B-74F8-4DF4-9012-996618DA03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11200" y="1829880"/>
            <a:ext cx="712800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Método mostrar de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mostrar(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pa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Visible(tr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AD5-D5DF-4605-8499-5E6E13E174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8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Pan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ve ser incluído em outr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mesma forma que um frame, 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ermite a inserção de elementos 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incluir outr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juda na organização da j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onté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 grupo de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015-6729-442B-816B-8D9C281100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Pan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ublic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ublic Panel(LayoutManager l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 = new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 f = new Fram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.add(p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127-135F-4642-873F-7AE17B2FAB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mpacotamento de Class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mos uma classe como pertencente a um pacote, dev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á-la em um arquivo dentro do diretório que representa o pac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ar, na primeira linha, que a classe pertence ao pac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3D7-DC83-4942-821A-ACDF82EA08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mentos gráficos da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botões, texto, rótulos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ixas de checagem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listas, listas 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dropdown, Canvas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etc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 componente tem que ser adicionado a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ravés do seu métod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CDB-AECB-4427-A850-00828BB6F1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étodos de 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a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Foreground(Col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Background(Col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Font (Font 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Cursor(Curs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F80-CDC8-4125-933B-A2328CB54C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étodos de 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7840" y="1600200"/>
            <a:ext cx="792504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i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Location(int x, int 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Size(int width, int heigh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Bounds(int x, int y, int width, int heigh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repaint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Visible(Boolean 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524-D2E7-41ED-A964-619FFBA051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St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String label, int alignme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LE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14E-4E1F-4E71-9C54-3069E99A84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s para manipular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Text(String labe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s para alinh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Alignment(int alignme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358-96D1-4A93-B7E6-49DECD5932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Label lb = new Label (“Rótulo”);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rame.add(b);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DE9-BF8A-42FD-AFAC-EF0EDDE8B67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Curso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25360" y="12949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Cursor(int ty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DEFAUL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CROSSHAIR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TEX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WAI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HAND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MOVE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N_RESIZE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A18-15ED-4288-BFB3-474E9B32E2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utton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utton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utton(String no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e dos Bot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Label (String no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1C2-0257-40D8-BB96-B88261F506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utton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537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ExGUI extends Applet {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utton b1 = new Button(“Ok”)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utton b2 = new Button(“Fim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b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b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28472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9E2-52E9-4F2D-8B30-220BA4BA8C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busca do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Text(String tex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texto read-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Editable(boolean estad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oolean isEditable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F1F-AC7F-4E89-A0BC-1CF2AC8478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mpacotamento de Class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classe Ponto pertence ao pacote MeuPac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O arquivo Ponto.java deve estar dentro do diretório MeuPac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ackage MeuPaco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lass Ponto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223-B78A-43FD-A9D0-598AF34022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Field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String tex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String texto, 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olumns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 de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EchoChar(char 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4B7-7913-4A80-9E49-61B0CD6E01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Field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extField t1,t2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1 = new TextField(40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2 = new TextField(“tel.”,9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.add(t1);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.add(t2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10D-2224-4127-A047-CCCD1B59F3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ixa de texto de múltiplas lin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BO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HORIZONTAL_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N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VERTICAL_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CAB-06B4-483E-BB57-D0DB1F1272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08000" y="15238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int linhas, 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, int linha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, int linha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colunas, int barraDeScrol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1DF-5383-493D-AD09-4C03D92CFC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ind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texto, int posiçã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ppend(String tex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placeRange(String texto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posicaoInicio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posicaoFi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Rows(int linh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olumns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13D-3C3E-410C-9D4D-C217E19440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66840" y="1676520"/>
            <a:ext cx="70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rollb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de ser utilizada isoladamente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gradu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30360" y="3124080"/>
            <a:ext cx="6629400" cy="2811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765-E226-4BC8-A3FB-701E9CEA95D6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008000" y="1981080"/>
            <a:ext cx="7854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Texto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extArea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rollbar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 = new TextArea("Digite aqui",5,4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 = new Scrollbar(Scrollbar.VERTICAL,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,0,25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FED-488B-4D4F-8F67-83CE5689016A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te seleção de elementos de uma list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int linha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int linhas, boolean multiplaSeleca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35E-8BE8-473F-BB8F-4CF0A6BDCF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Al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Item(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[] getItem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placeItem(String novo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B9D-D094-4F4D-B463-E6EA970DE4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25360" y="1371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ion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SelectedItem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[] getSelectedItem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getSelectedIndex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[] getSelectedIndexe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lect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deselect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AD9-5B39-43B3-AAEB-4A67B976D3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s: Controle de Acess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ter membros package, além de públicos e p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embro package só pode ser acessado por classes declaradas no mesmo pacote da classe que declara esse mem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mitimos o modificador de controle de acesso, estamos dizendo que o membro é do tipo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C16-C36C-4545-9D96-52DC35375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5552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seleção de elementos de uma list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oice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Al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Item(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ADC-B0E1-4BA1-A538-E1C638F65E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nt getItemCoun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SelectedItem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nt getSelectedIndex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lect(int posica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lect(String it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848-5D8D-417D-B57E-9CDB770253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928880" y="2590920"/>
            <a:ext cx="601956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B8E-5DA8-4154-9567-254B1FD03A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266840" y="1905120"/>
            <a:ext cx="6189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Lista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oice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 = new List(3,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 = new Choi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um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doi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tre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um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doi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tre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c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5D3-22EF-4B1E-8182-41823BDFA4DD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usado como um botão liga/desliga (“toggle”) ou agrupado na forma “radio”, sob 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eckboxGroup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Labe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Label, boolean est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nome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estado,CheckboxGroup grup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7C6-505A-40FA-974F-4BF14327C4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r 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Label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r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getState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State(boolean est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heckboxGroup(CheckboxGroup grup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C98-F1F9-4CA5-8207-D482E02D7F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 função é agrupar check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heckboxGroup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r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SelectedCheckbox(Checkbox checkbox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6F1-AA56-4BC0-BDE1-000B504E72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8960" y="2819520"/>
            <a:ext cx="5943600" cy="1558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1F0-7129-475F-ABBB-B2433B93BE18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36680" y="1905120"/>
            <a:ext cx="738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toes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Group cb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 = new Checkbox("Lig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bg = new CheckboxGrou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1 = new Checkbox("um",cbg,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2 = new Checkbox("dois",cbg,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336-3494-4D79-AE46-D8713DA04668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Usando Menu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s de um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63B-0C9B-4493-AFEA-44AF5D4FBE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ortação de 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usarmos uma classe que está dentro de um pacote precisamos referenciar o nome desse pac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java.awt.buttom a = new java.awt.button(“Al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usar o comand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que permite usarmos somente o nome da clas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uttom a = new button(“Alo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FBD-68F7-491C-B081-DD6AE516F5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267080" cy="4252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EB7-57BA-42C7-B638-9117E6BE5339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I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ndo nome dos itens do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Label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t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setEnabled(boolean cond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0DF-C2EA-46C8-96EB-F497864A2AA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 add(MenuItem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nome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 (MenuItem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 (String nome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Separator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Separator(int index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46F-5D60-4D74-938B-60C7B79A61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 ser adicionado a 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ravés do métod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MenuB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ó pode ter 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ndo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 add (Menu 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9EE-52FD-4AB8-9F30-5EA781209A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267080" cy="4252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4F8-BF90-49AD-9BD8-060C6C019E99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1752480"/>
            <a:ext cx="9132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Cardapio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 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Bar barraDeMen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 menu1, menu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 = new Frame("Exemplo de Menu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etSize(300,3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 = new Menu("Arquiv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.add(new MenuItem("Abri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.add(new MenuItem("Salv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1F6-B7F4-4EB1-BE0B-A2B33F8C5ECF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55520" y="1371600"/>
            <a:ext cx="8610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 = new Menu("Edit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.add(new MenuItem("Copi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.add(new MenuItem("Col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 = new MenuB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.add(menu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.add(menu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etMenuBar(barraDeMenu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C1D-4AF7-451B-85A6-916897A3AB94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ser adicionada uma linha separadora com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addSeparato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iferenciar o menu de Ajuda (à direita), usa-s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setHelpMenu(Menu)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3B3-C457-435D-839F-956F29DDD6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Fon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public Font(String nome, int estil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int taman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nome: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erif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ansSerif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Dialog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stilo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BOLD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PLANE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ou combinação dest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or ex.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BOLD | Font.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tamanho: tamanho da fo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21B-FBCA-4546-8B95-2B22F7F010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Fon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ntes podem ser associadas a quaisquer componentes.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 f = new Font (“SansSerif”, Font.ITALI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abel lb = new Label (“Teste de Fonte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lb.setFont (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60A-A869-4EF9-8379-6178CA5518A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 Padrão </a:t>
            </a: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la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entrais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sses para tipos básic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5A4-5813-4F4A-B612-D70B0E4F24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10080" cy="3780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725840" y="1599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ea para des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606-836C-4313-A6AC-41747898FAD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14400" y="1828800"/>
            <a:ext cx="7238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lass Tela extends Canva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setImage(Image image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imagem =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drawImage(imagem,10,10,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4FB-C9D8-48F7-A796-8D0DE7381307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55520" y="1752480"/>
            <a:ext cx="7596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Desenho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 t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m = getImage(getDocumentBase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"duke.gi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 = new Tel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Image(image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Background(Color.lightGr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Size(2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tel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50A-7E53-4156-9B69-1B07CE63C51F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Bibliografi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50400" y="1829880"/>
            <a:ext cx="708372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a em 21 dias JAVA 1.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ura Lem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gers Caden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A39-23D2-415A-8607-06BDABA9E8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Gerentes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de </a:t>
            </a: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m a forma de posicionamento dos elementos 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estar associado a um gerente de layout (interface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ayoutManag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1BC-6CDC-49D7-A3AF-BBA94D9B49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Gerentes de </a:t>
            </a: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983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sociar um gerent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 frame = new Frame(“Janela Aplicaca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ainel1 = new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inel1.setLayout(null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ainel2 = new Panel(new GridLayout(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2B4-156F-4C43-8F59-E4510946E7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73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71C-9EA7-44E9-B1C6-9D02A3D047E8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rder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rderLayout(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128-DCE6-41BE-826A-AB05B47BCE5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Instancia um novo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orderLayout é o "defaul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utt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Instancia um novo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Nor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a fonte do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PLAIN, 6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o botão ao "fram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frame.add("North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61C-B667-4F6E-B40E-900C28A86D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675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Su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BOLD, 18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South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Les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ITALIC, 2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East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Oes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PLAIN, 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West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D19-A344-44E4-8D69-B0B89360BF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Objec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tima superclasse de todas a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mportament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b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ative int hash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void finalize() throws Throw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native Object clone() th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47A-B605-4515-B865-22A8226442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Centr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ITALIC |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Font.BOLD, 24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Center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957-4E3B-48DD-BEC7-E00A2C31BD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79680" y="1762200"/>
            <a:ext cx="490536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914-304F-4105-88AF-B9DF83A2F133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orderLayout é o "defaul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 frame = new Fram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frame.setLayout(new BorderLayout(10,10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esmos comandos do exemplo anterio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106-78B1-471C-9647-465F0EA2F025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09960" y="2133720"/>
            <a:ext cx="5635440" cy="26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912-8609-4ABB-851A-7C2B472A5B1A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int alinh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int alinhamento, 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Alignment(int alinh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610-BE82-4756-B6E1-D1D933939916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Flow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ró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2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42F-6157-4AB5-B46B-5DF16E6A5799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390760" y="1676520"/>
            <a:ext cx="5162400" cy="41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F87-A96E-43DB-A7F3-D1F1932F2656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4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Flow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setLayout(new FlowLayout(FlowLayout.LEFT, 10, 10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1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3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2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2!!"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480-DF72-459B-8DD2-0AA6B169F937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Grid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562752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F2F-2BBF-40BD-BE06-4FFC89F33BBF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Grid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int colunas, int linh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int colunas, int linhas, 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Rows(int r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Columns(int c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F55-4EB4-4BDC-83B7-375CF8220943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é Antonio Fernandes de Macêdo</cp:lastModifiedBy>
  <dcterms:modified xsi:type="dcterms:W3CDTF">2002-02-23T15:09:26Z</dcterms:modified>
  <cp:revision>114</cp:revision>
  <dc:subject/>
  <dc:title>PowerPoint Presentation</dc:title>
</cp:coreProperties>
</file>