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54.jpeg" ContentType="image/jpeg"/>
  <Override PartName="/ppt/media/image33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19.jpeg" ContentType="image/jpeg"/>
  <Override PartName="/ppt/media/image25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7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7.png" ContentType="image/png"/>
  <Override PartName="/ppt/media/image60.jpeg" ContentType="image/jpeg"/>
  <Override PartName="/ppt/media/image64.png" ContentType="image/png"/>
  <Override PartName="/ppt/media/image24.png" ContentType="image/png"/>
  <Override PartName="/ppt/media/image61.png" ContentType="image/png"/>
  <Override PartName="/ppt/media/image20.jpeg" ContentType="image/jpeg"/>
  <Override PartName="/ppt/media/image62.png" ContentType="image/png"/>
  <Override PartName="/ppt/media/image63.png" ContentType="image/png"/>
  <Override PartName="/ppt/media/image79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8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0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8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66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6172200"/>
          </a:xfrm>
          <a:prstGeom prst="horizontalScroll">
            <a:avLst>
              <a:gd name="adj" fmla="val 4861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UNICAMP" descr=""/>
          <p:cNvPicPr/>
          <p:nvPr/>
        </p:nvPicPr>
        <p:blipFill>
          <a:blip r:embed="rId2"/>
          <a:stretch/>
        </p:blipFill>
        <p:spPr>
          <a:xfrm>
            <a:off x="685800" y="6324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90560" y="6276960"/>
            <a:ext cx="573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teração na Web - A. B. Raposo, L. P. Magalhães e I. L. M. Rica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XVIII JAI’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3840" y="6324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303-8204-4E3C-BEC8-8CFA43278B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Interação na Web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berto Barbosa Rapos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alberto@dca.fee.unicamp.b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éo Pini Magalhãe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leopini@dca.fee.unicamp.b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van Luiz Marques Ricart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ricarte@dca.fee.unicamp.b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UNICAMP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524240" cy="1185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78800" y="3124080"/>
            <a:ext cx="64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Depto. de Eng. de Computação e Automaçã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Faculdade de Eng. Elétrica e de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Universidade Estadual de Camp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4876920"/>
            <a:ext cx="72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I Jornada de Atualização em Informátic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-Rio - Julho /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3244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xemplo (falta de controle sobre aparência)</a:t>
            </a:r>
            <a:endParaRPr b="0" lang="en-US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65" name="Explorer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291200" cy="4419360"/>
          </a:xfrm>
          <a:prstGeom prst="rect">
            <a:avLst/>
          </a:prstGeom>
          <a:ln w="0">
            <a:noFill/>
          </a:ln>
        </p:spPr>
      </p:pic>
      <p:pic>
        <p:nvPicPr>
          <p:cNvPr id="66" name="Netscape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299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GroupWeb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a telepointers e barras de rolagem multiusuário, indicando a posição do texto onde se encontram os demai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ção WYSIWIS relaxado: a informação é a mesma, mas cada usuário pode ter sua janela de tamanho diferente e estar em posição diferente do texto (é possível navegação individual ou em conju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tetura replicada: cada usuário tem sua própria cópia do GroupWeb, que se comunica diretamente com as ou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GroupWeb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510" name="groupweb_UI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316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4400" y="5470560"/>
            <a:ext cx="865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A) Página compartilhada (B) Telepointer (C) Barra de rolagem multiusuário (D) Controle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seguir outro usuário (E) Janela de anotação (F) Janela de gerenciamento de sess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GroupWeb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roupweb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43606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BSCW (</a:t>
            </a:r>
            <a:r>
              <a:rPr b="0" i="1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Basic Support for Cooperative Work</a:t>
            </a:r>
            <a:r>
              <a:rPr b="0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essível a partir dos Web browsers convencionais, sem necessidade de nenhuma ferramenta adicional n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a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scrip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GI no servidor (implementação centralizada, consciente de colaboraçã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bscw_schema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91520" cy="3174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ende capacidade da Web com recur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rmazenagem de docu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renciamento de vers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ministração de membros e de gru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ção colabor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ferências textuais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ch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seado na noção de espaço de trabalho compartilhado, que contém objetos de vários tipos, organizados em hierarquias de pa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á espaço de trabalho individual (privac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ação assíncr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paços de trabalho compartilh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mbros do grupo podem armazenar, gerenciar e editar conjuntamente obje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discussã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(newsgro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 “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meeting”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suporte a reuniõ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paração e documentação de reuni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he informações necessárias ao estabelecimento de reuniões, que será realizada por ferramentas externas ao BSCW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524" name="bscw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526" name="bscw1" descr=""/>
          <p:cNvPicPr/>
          <p:nvPr/>
        </p:nvPicPr>
        <p:blipFill>
          <a:blip r:embed="rId1"/>
          <a:stretch/>
        </p:blipFill>
        <p:spPr>
          <a:xfrm>
            <a:off x="3451320" y="228600"/>
            <a:ext cx="4448160" cy="6019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200400" y="2133720"/>
            <a:ext cx="76320" cy="2819160"/>
          </a:xfrm>
          <a:custGeom>
            <a:avLst/>
            <a:gdLst>
              <a:gd name="textAreaLeft" fmla="*/ 48960 w 76320"/>
              <a:gd name="textAreaRight" fmla="*/ 76320 w 763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1000" y="3200400"/>
            <a:ext cx="26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údo do espaç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77320" y="220968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02440" y="251460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327672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232120" y="32004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77320" y="36576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5800" y="3505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77320" y="396252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895160" y="39625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77320" y="43434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73360" y="4267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2209680"/>
            <a:ext cx="381240" cy="228600"/>
          </a:xfrm>
          <a:prstGeom prst="ellipse">
            <a:avLst/>
          </a:prstGeom>
          <a:noFill/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2362320"/>
            <a:ext cx="609480" cy="7596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88800" y="22860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Dono do ob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90920"/>
            <a:ext cx="457200" cy="152280"/>
          </a:xfrm>
          <a:prstGeom prst="ellipse">
            <a:avLst/>
          </a:prstGeom>
          <a:noFill/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2743200"/>
            <a:ext cx="457200" cy="7632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7960" y="2590920"/>
            <a:ext cx="113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Últ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modif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00400" y="56386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3880" y="55627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2895480"/>
            <a:ext cx="533520" cy="228600"/>
          </a:xfrm>
          <a:prstGeom prst="ellipse">
            <a:avLst/>
          </a:prstGeom>
          <a:noFill/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77120" y="3124080"/>
            <a:ext cx="228600" cy="7632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6880" y="312408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Ev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signific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4114800"/>
            <a:ext cx="1218960" cy="152280"/>
          </a:xfrm>
          <a:prstGeom prst="ellipse">
            <a:avLst/>
          </a:prstGeom>
          <a:noFill/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86400" y="4191120"/>
            <a:ext cx="380880" cy="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38560" y="4038480"/>
            <a:ext cx="17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Ações possíveis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ob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51814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3960" y="4800600"/>
            <a:ext cx="271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genda, endereç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aço privado,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514600" y="1980720"/>
            <a:ext cx="914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160" y="2133720"/>
            <a:ext cx="19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çã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15238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aç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11430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9600" y="83808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çã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aço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para a percepção dos usuários presentes n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e acesso aos grupos, autenticação e direito de acesso aos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canism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oft-lock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acesso concor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onimato (objetos “público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ção não é WYSIW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face é configurada localmente, a critério do usuário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BSCW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bscw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24280" cy="59626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766080" y="114300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que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figuraçã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00040" y="91404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99"/>
                </a:solidFill>
                <a:latin typeface="Arial"/>
              </a:rPr>
              <a:t>Apesar das limitações do HTTP e do HTML, tecnologias têm surgido para permitir o desenvolvimento de aplicações sofisticadas na Web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A Web como meio de interaç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69" name="cara_feliz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224316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838080"/>
            <a:ext cx="5410080" cy="4114800"/>
          </a:xfrm>
          <a:prstGeom prst="wedgeRoundRectCallout">
            <a:avLst>
              <a:gd name="adj1" fmla="val -56925"/>
              <a:gd name="adj2" fmla="val 60453"/>
              <a:gd name="adj3" fmla="val 16667"/>
            </a:avLst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JETS (</a:t>
            </a:r>
            <a:r>
              <a:rPr b="0" i="1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Java Enabled Telecollaboration System</a:t>
            </a:r>
            <a:r>
              <a:rPr b="0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I para o desenvolvimento de applets multimídia compartilh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vê mecanismos para garantir consistência, controlar acesso e passagem de d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talmente desenvolvido em Java e acessível através de browser Web convenciona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o protótipo do sistema foram desenvolvidos applets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hiteboar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ultimídia (visualiza HTML, imagens, vídeo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dor VR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gerenciamento de ses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vo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ts_user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153640" cy="21398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88320" y="16002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7960" y="9144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jets_gerente" descr=""/>
          <p:cNvPicPr/>
          <p:nvPr/>
        </p:nvPicPr>
        <p:blipFill>
          <a:blip r:embed="rId1"/>
          <a:stretch/>
        </p:blipFill>
        <p:spPr>
          <a:xfrm>
            <a:off x="533520" y="1711440"/>
            <a:ext cx="83818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5680" y="1219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jets_chat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7600" y="114300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jets_voto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3080" y="83808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sualizador de VR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jets_vrml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0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9360" y="83808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White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jets_whiteb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680" y="9907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ídeo demonst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jet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3244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Ferramenta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4382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stát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295280"/>
            <a:ext cx="24382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rvidor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áginas dinamicamen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3276720"/>
            <a:ext cx="243828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M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process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cliente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2514600"/>
            <a:ext cx="10670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37800">
            <a:off x="2342880" y="2123640"/>
            <a:ext cx="1547640" cy="457200"/>
          </a:xfrm>
          <a:prstGeom prst="rightArrow">
            <a:avLst>
              <a:gd name="adj1" fmla="val 50000"/>
              <a:gd name="adj2" fmla="val 84626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2262200">
            <a:off x="2342880" y="3206880"/>
            <a:ext cx="1547640" cy="457200"/>
          </a:xfrm>
          <a:prstGeom prst="rightArrow">
            <a:avLst>
              <a:gd name="adj1" fmla="val 50000"/>
              <a:gd name="adj2" fmla="val 84626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12262200">
            <a:off x="6554880" y="227016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137800">
            <a:off x="6556320" y="321480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13716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495680"/>
            <a:ext cx="1066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5053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993800">
            <a:off x="1868040" y="3432240"/>
            <a:ext cx="457200" cy="917640"/>
          </a:xfrm>
          <a:prstGeom prst="downArrow">
            <a:avLst>
              <a:gd name="adj1" fmla="val 50000"/>
              <a:gd name="adj2" fmla="val 5017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ção: WYSIWIS relax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da applet é visto igualmente por todos os participantes, mas a localização das janelas fica a critério do 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ão há suporte para o trabalho priv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erramenta de votação permite o anonim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ementação centralizada (clientes devem se conectar ao servidor JET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CBE (Collaboratory Builder’s Environment)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erramenta para o desenvolvimento de “colaboratóri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aboratórios virtuais, onde pesquisadores geograficamente dispersos podem interagir com os colegas, compartilhar dados, ter acesso a instrumental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envolvido em Java e acessível através dos browsers convencionais (que suportem Ja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s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l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elhante ao conceito de espaço de trabalho do BSC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siste de múltiplos applets e d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gramas executados em uma s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da usuário que entra na sala recebe cópia dos seus applet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upos de app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junto de applets do mesmo tipo (um para cada usuár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da grupo de applet pertence a um mesmo grupo de comunicação mutic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ap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602" name="cbe_whiteb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4616280" cy="52866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832040" y="32767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White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57200" y="1066680"/>
            <a:ext cx="327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applets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9560" y="32767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 s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cbe_session" descr=""/>
          <p:cNvPicPr/>
          <p:nvPr/>
        </p:nvPicPr>
        <p:blipFill>
          <a:blip r:embed="rId1"/>
          <a:stretch/>
        </p:blipFill>
        <p:spPr>
          <a:xfrm>
            <a:off x="3906720" y="762120"/>
            <a:ext cx="5037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85800" y="10666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de colabora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cbe_mural" descr=""/>
          <p:cNvPicPr/>
          <p:nvPr/>
        </p:nvPicPr>
        <p:blipFill>
          <a:blip r:embed="rId1"/>
          <a:stretch/>
        </p:blipFill>
        <p:spPr>
          <a:xfrm>
            <a:off x="55440" y="42840"/>
            <a:ext cx="903132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80880" y="1066680"/>
            <a:ext cx="3276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u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o 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xem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cbe_geral" descr=""/>
          <p:cNvPicPr/>
          <p:nvPr/>
        </p:nvPicPr>
        <p:blipFill>
          <a:blip r:embed="rId1"/>
          <a:stretch/>
        </p:blipFill>
        <p:spPr>
          <a:xfrm>
            <a:off x="1600200" y="128520"/>
            <a:ext cx="7543800" cy="67294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33520" y="2971800"/>
            <a:ext cx="3276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106668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o 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cbe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vacidade: pode haver salas parti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ferenciação de papéis entre os usuá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Administrado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controla o acesso a cada sala, cria ou retira grupos de applets da sala e interage com os ap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Usuário membr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cria ou retira grupos de applets da sala e interage com os ap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Observado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não pode interagir com os applets, apenas observá-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ementação centr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B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stema para trabalho colaborativo baseado na metáfora de “locais virtuais compartilhad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m ser criados quantos locais forem necessários, para servir de espaços para reuniões, armazenamento de documentos, trabalho em conjunto e interação entre os participant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HTML (</a:t>
            </a:r>
            <a:r>
              <a:rPr b="0" i="1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HypertText Markup Language</a:t>
            </a: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drão para apresentação de hipertext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ursos de estruturação de tex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são de imagens e multimí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link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ntre docu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junto limitad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i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otões, checkboxes, listas de seleção, caixas para entrada de texto, imagens mape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ceitualmente, é similar ao C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cara_feliz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1257480" cy="14097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09680" y="2057400"/>
            <a:ext cx="6019920" cy="1219320"/>
          </a:xfrm>
          <a:prstGeom prst="wedgeRoundRectCallout">
            <a:avLst>
              <a:gd name="adj1" fmla="val -54587"/>
              <a:gd name="adj2" fmla="val 72398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54400" y="2286000"/>
            <a:ext cx="55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em a vantagem de ter muito mais ferram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isponíveis para serem usadas nas “sala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cara_triste" descr=""/>
          <p:cNvPicPr/>
          <p:nvPr/>
        </p:nvPicPr>
        <p:blipFill>
          <a:blip r:embed="rId2"/>
          <a:stretch/>
        </p:blipFill>
        <p:spPr>
          <a:xfrm>
            <a:off x="7620120" y="5029200"/>
            <a:ext cx="1257120" cy="14097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 flipH="1">
            <a:off x="608760" y="4038480"/>
            <a:ext cx="6705720" cy="1524240"/>
          </a:xfrm>
          <a:prstGeom prst="wedgeRoundRectCallout">
            <a:avLst>
              <a:gd name="adj1" fmla="val -56939"/>
              <a:gd name="adj2" fmla="val 74060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0240" y="4267080"/>
            <a:ext cx="641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em a desvantagem de ser solução proprietária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igir instalação de software no cliente e no servi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ão é acessível através de um browser convencion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mas ferramentas disponív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dro de mensa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hite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mazenamento de arqu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genda eletrô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vo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estado das salas é persistente (interação assíncro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teamwave1" descr=""/>
          <p:cNvPicPr/>
          <p:nvPr/>
        </p:nvPicPr>
        <p:blipFill>
          <a:blip r:embed="rId1"/>
          <a:stretch/>
        </p:blipFill>
        <p:spPr>
          <a:xfrm>
            <a:off x="3875040" y="838080"/>
            <a:ext cx="4764240" cy="5334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657600" y="12952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2666880"/>
            <a:ext cx="76320" cy="2667240"/>
          </a:xfrm>
          <a:custGeom>
            <a:avLst/>
            <a:gdLst>
              <a:gd name="textAreaLeft" fmla="*/ 48960 w 76320"/>
              <a:gd name="textAreaRight" fmla="*/ 76320 w 763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57600" y="54864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9400" y="5562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1523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e da s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28195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la”, em for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whiteboa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icam as mensage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documentos 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5680" y="9907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ídeo demonst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90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teamwave" descr=""/>
          <p:cNvPicPr/>
          <p:nvPr/>
        </p:nvPicPr>
        <p:blipFill>
          <a:blip r:embed="rId1"/>
          <a:stretch/>
        </p:blipFill>
        <p:spPr>
          <a:xfrm>
            <a:off x="1523880" y="1414440"/>
            <a:ext cx="65534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ser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rtão de visitas (identificaç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lepo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rras de rolagem multi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ção não é WYSI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uários podem ter visões diferentes de cada ferrame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á possibilidade de criação de salas priv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de votação permite anonim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ciamento através do controle de uma série de 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em pode entrar na s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em pode criar app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ementação centralizada: clientes devem se conectar a servidor TeamWave, localizado em máquina conectada à Intern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amWa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Análise Comparativa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acterísticas comuns a todos os sistemas apresen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ão não-presenci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am algum tipo de comunicação (geralmente tex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êm informações e espaço de trabalho compartilh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ocupação com percepção dos demais usuário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(user aware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acidade de gerenciamento presente nas ferramentas síncrona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s voltadas para o trabalho síncrono tendem a garantir persistência de estado entre as sessões, permitindo o trabalho assíncrono (CBE e TeamWave, por exempl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s direcionados ao trabalho assíncrono tendem a prover suporte síncrono (BSCW, por exemp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Análise Comparativ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400000">
            <a:off x="799920" y="4533840"/>
            <a:ext cx="1143000" cy="76176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40680" y="4648320"/>
            <a:ext cx="697032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ndência dos sistemas se tornarem cada 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is flexíveis no que diz respeito à funcion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 ao campo de 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Análise Comparativ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cara_triste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52560" cy="20764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590920" y="1447920"/>
            <a:ext cx="5943600" cy="3047760"/>
          </a:xfrm>
          <a:prstGeom prst="wedgeRoundRectCallout">
            <a:avLst>
              <a:gd name="adj1" fmla="val -52111"/>
              <a:gd name="adj2" fmla="val 61300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24560" y="1600200"/>
            <a:ext cx="541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spectos relacionados à flexibilid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ocial, apesar de sua reconhec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mportância, ainda não 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atisfatoriamente tratados 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istemas existentes. Talvez por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da dificuldade em se mapear quest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ociais em soluções tecn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HT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mitaçõ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lta de controle sobre aparência da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rvidor não recebe informações sobre atividades intermediárias de interação (ex., digitação de tex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há atualização incremental das pág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rmazenamento de páginas anteriores em cache pode gerar inconsistência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0880" y="4648320"/>
            <a:ext cx="8382240" cy="1752480"/>
            <a:chOff x="380880" y="4648320"/>
            <a:chExt cx="8382240" cy="1752480"/>
          </a:xfrm>
        </p:grpSpPr>
        <p:pic>
          <p:nvPicPr>
            <p:cNvPr id="89" name="cara_feliz" descr=""/>
            <p:cNvPicPr/>
            <p:nvPr/>
          </p:nvPicPr>
          <p:blipFill>
            <a:blip r:embed="rId1"/>
            <a:stretch/>
          </p:blipFill>
          <p:spPr>
            <a:xfrm>
              <a:off x="380880" y="4876920"/>
              <a:ext cx="135900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2057400" y="4648320"/>
              <a:ext cx="6705720" cy="1218960"/>
              <a:chOff x="2057400" y="4648320"/>
              <a:chExt cx="6705720" cy="1218960"/>
            </a:xfrm>
          </p:grpSpPr>
          <p:sp>
            <p:nvSpPr>
              <p:cNvPr id="91" name=""/>
              <p:cNvSpPr/>
              <p:nvPr/>
            </p:nvSpPr>
            <p:spPr>
              <a:xfrm>
                <a:off x="2057400" y="4648320"/>
                <a:ext cx="6705720" cy="1218960"/>
              </a:xfrm>
              <a:prstGeom prst="wedgeRoundRectCallout">
                <a:avLst>
                  <a:gd name="adj1" fmla="val -54902"/>
                  <a:gd name="adj2" fmla="val 39842"/>
                  <a:gd name="adj3" fmla="val 16667"/>
                </a:avLst>
              </a:pr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73760" y="4840200"/>
                <a:ext cx="6415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99"/>
                    </a:solidFill>
                    <a:latin typeface="Arial"/>
                  </a:rPr>
                  <a:t>Tecnologias tais como CGI, ECMAScript 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99"/>
                    </a:solidFill>
                    <a:latin typeface="Arial"/>
                  </a:rPr>
                  <a:t>Java superam grande parte destas limitaçõe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Novos Paradigma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das as aplicações vistas até aqui seguem o paradigma tradicional de interação homem-máquina, baseado na metáfora de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esktop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vanços recentes permitiram o surgimento de novos tipos de UIs que propõem novas formas de apoio à inte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pt-BR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 geraç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anos 50 e 6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sência praticamente total de interação com o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trada por cartões perfurados e saída impre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ves e luzes indicavam estado da máqu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pt-BR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 geraç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a partir da década de 6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nitores alfa-nu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ação por meio de coman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sistemas DOS e Uni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pt-BR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 geraç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a partir da década de 7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faces gráficas WIMP (Windows, Icons, Menus and Pointing dev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m metáfora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cionam por meio de mecanismos de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point and cl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minuíram a distância cognitiva entre a intenção e a execução desta intenção (usuário deve focalizar a tarefa, e não a tecnologia para realizá-la)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roblemas das interfaces WI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muito complexas são difíceis de utilizar (agregado de recursos cria alto grau de complex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uários ainda gastam muito tempo manipulando a interface, e não a aplicação (muito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point and click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idget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2D são inapropriados para aplicações 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o mouse e teclado não é apropriado para usuários com certas deficiê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pt-BR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 geraç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interfaces pós-WI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nhecimento de g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nhecimento de v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widget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limentação táctil, auditiva e até olf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a realidade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: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wearabl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673" name="Wearable_computer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86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 realidade aument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Pós-WIMP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676" name="AR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5627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Realidade Virtual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junto de técnicas para simular um mundo real ou imaginário e dar ao usuário a sensação de estar “presente” neste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bientes não-imer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uário interage com o mundo através da tela do compu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bientes imer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ntimento de presença é mais f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a equipamentos sofisticados (capacetes, “cavernas”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uário fica “isolado” do mundo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Realidade Virtua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alidade virtual imersiva. Ex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HMD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305160" cy="33051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059920" y="1905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cave_fig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581280" cy="32529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5946480" y="19051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Realidade Virtua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alidade virtual imersiva. 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C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8862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etalinguagem para criação de novas linguagens de marcação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(mark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é versão estendida da HTML, mas uma versão simplificada da SGML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(Standard Generalized Markup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ó atua na estruturação, e não na apresentação dos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blema de falta de controle na aparência continu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XML (</a:t>
            </a:r>
            <a:r>
              <a:rPr b="0" i="1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Extensible Markup Language</a:t>
            </a: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p:transition>
    <p:cover dir="l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Realidade Virtua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ídeos demonstra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75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886200" cy="29750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611720" y="5486400"/>
            <a:ext cx="6520680" cy="642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Vídeos desenvolvidos pelo GMD - German National Resea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Centre for Computer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rão abordadas 3 formas de interação através da realidade 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RML: realidade virtual na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VEs: realidade virtual colabor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le-imer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Realidade Virtua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VRML (</a:t>
            </a:r>
            <a:r>
              <a:rPr b="0" i="1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Virtual Reality Modeling Language</a:t>
            </a: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guagem independente de plataforma para a publicação de “páginas” Web tridimension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ivo: prover ricos ambientes tridimensionais interativos, permitindo ao usuário definir mundos estáticos e animados, e interagir com e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ção: através de browser VRML, normalmente um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lugi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de um browser Web convencio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de criação de mundos VRML: hierarquia de nós definindo o grafo hierárquico da c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vrml2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6479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pos de nó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ométricos: forma dos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 ilumin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 agrupamento: agrupam os nós, criando a hierarquia do gra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âncoras: ligam a cena a ou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po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cript: liga a cena a um programa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VRML: EXEMPL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808200"/>
            <a:ext cx="350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iewpoi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sition    0 1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rientation 1 0 0 -0.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eldOfView 0.785398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intLigh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ocation 0 10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#Caixa vermel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lation 2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geometry Box { size .5 1 1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iffuseColor 1 0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]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762120"/>
            <a:ext cx="4724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#Esfera am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lation -2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geometry Sphere { radius 0.7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iffuseColor 1 1 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]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# Te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lation 0 -4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geometry Tex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tring [" teste 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ontStyle FontSty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tyle "ITALI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justify "MIDDLE" }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ength [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xExtent 10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         ]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91440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: EXEMPL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fig_vrml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400800" cy="45579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2816280" y="9144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isualização do exempl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2133720"/>
            <a:ext cx="121896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133720"/>
            <a:ext cx="121932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int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3920" y="2133720"/>
            <a:ext cx="121896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543800" y="2133720"/>
            <a:ext cx="121932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562720" y="2133720"/>
            <a:ext cx="121896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33920" y="3124080"/>
            <a:ext cx="121896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2720" y="3124080"/>
            <a:ext cx="121896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543800" y="3124080"/>
            <a:ext cx="121932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7220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5328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543800" y="4267080"/>
            <a:ext cx="121932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43800" y="5410080"/>
            <a:ext cx="121932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53280" y="4800600"/>
            <a:ext cx="0" cy="533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1320" y="4267080"/>
            <a:ext cx="144756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4267080"/>
            <a:ext cx="121932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3657600"/>
            <a:ext cx="228600" cy="533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876920" y="3657600"/>
            <a:ext cx="1295280" cy="533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67280" y="5334120"/>
            <a:ext cx="121932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477120" y="4800600"/>
            <a:ext cx="0" cy="4572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4267080"/>
            <a:ext cx="1447920" cy="533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0920" y="5334120"/>
            <a:ext cx="121896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4800600"/>
            <a:ext cx="0" cy="4572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200040" y="3657600"/>
            <a:ext cx="1219320" cy="533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14400" y="4191120"/>
            <a:ext cx="1219320" cy="5331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447560" y="3657600"/>
            <a:ext cx="2895480" cy="4572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fo da cena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utra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uso de nós previamente cri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totipação: criação de novos tipos de nós a partir de nós existe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as distribuídas: protótipo pode ser definido como arquivo remoto, cujo URL é d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740" name="fig_vrml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295640" cy="9223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5106960" y="57913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bola_vrml" descr=""/>
          <p:cNvPicPr/>
          <p:nvPr/>
        </p:nvPicPr>
        <p:blipFill>
          <a:blip r:embed="rId2"/>
          <a:stretch/>
        </p:blipFill>
        <p:spPr>
          <a:xfrm>
            <a:off x="4267080" y="4343400"/>
            <a:ext cx="368280" cy="3808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4572000" y="46483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99680" y="4343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texto_vrml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781200" cy="1983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441972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3880" y="51814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cubo_vrml" descr=""/>
          <p:cNvPicPr/>
          <p:nvPr/>
        </p:nvPicPr>
        <p:blipFill>
          <a:blip r:embed="rId4"/>
          <a:stretch/>
        </p:blipFill>
        <p:spPr>
          <a:xfrm>
            <a:off x="6705720" y="4572000"/>
            <a:ext cx="323640" cy="4572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 flipH="1">
            <a:off x="5791320" y="4800600"/>
            <a:ext cx="914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009920" y="46483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do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38280" y="4191120"/>
            <a:ext cx="57150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am eventos baseados nas ações de usu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uchSensor, Collision, ProximitySensor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meSensor (“relógio” da ce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pol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valores-chave que são interpolados de acordo com uma função lin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tionInterpolator, ColorInterpo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DHTML (</a:t>
            </a:r>
            <a:r>
              <a:rPr b="0" i="1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Dynamic HTML</a:t>
            </a: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 páginas muito mais interativas que as atuais, com recursos que até então só eram possíveis através de applets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S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(Cascading Style She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ementos cuja posição, estilo e aparência podem ser alterados depois que a página é carregada no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paração entre conteúdo/estrutura e apresentação de páginas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ML também propõe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style sheet (XSL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ventos sinalizam mudanças causadas por “estímulos externos” e podem ser propagados entre os nós do ambiente através de roteamentos que conectam um EventOut a um EventIn do mesmo tip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4038480"/>
            <a:ext cx="144792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07640" y="4724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07640" y="4191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78680" y="358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35053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2895480" y="3962520"/>
            <a:ext cx="1219320" cy="38088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22240" y="4267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40280" y="3733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510552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4320" y="52578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876920"/>
            <a:ext cx="1067040" cy="53316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12240" y="3352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6280" y="5486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7120" y="4038480"/>
            <a:ext cx="144756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54880" y="41911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419720"/>
            <a:ext cx="121932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17360" y="358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ventos gerados por sensores e interpoladores, roteados para nós geométricos, de iluminação ou de agrupamento, podem definir comportamentos dinâmicos para os elementos d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9480" y="403848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4640" y="419112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ário c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bre um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5000" y="3581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Touch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71800" y="41148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26960" y="3581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Time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74680" y="4419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10960" y="41911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ó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09120" y="35053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PositionInterpo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4120" y="4038480"/>
            <a:ext cx="182880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248880" y="434340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4840" y="4191120"/>
            <a:ext cx="128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46680" y="33526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72400" y="4191120"/>
            <a:ext cx="11430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850160" y="44956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38280" y="45720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00600" y="45720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4648320"/>
            <a:ext cx="60948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86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9907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057400" y="130320"/>
            <a:ext cx="670572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796" name="cara_feliz" descr=""/>
          <p:cNvPicPr/>
          <p:nvPr/>
        </p:nvPicPr>
        <p:blipFill>
          <a:blip r:embed="rId1"/>
          <a:stretch/>
        </p:blipFill>
        <p:spPr>
          <a:xfrm>
            <a:off x="7886880" y="4724280"/>
            <a:ext cx="1257120" cy="140976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2133720" y="1295280"/>
            <a:ext cx="6019560" cy="1524240"/>
          </a:xfrm>
          <a:prstGeom prst="wedgeRoundRectCallout">
            <a:avLst>
              <a:gd name="adj1" fmla="val -56643"/>
              <a:gd name="adj2" fmla="val 74583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62320" y="1400040"/>
            <a:ext cx="58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oteamento de eventos entre os nós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é suficiente para o tratamento de vá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asses de compo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cara_triste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1257480" cy="14097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 flipH="1">
            <a:off x="608760" y="3809880"/>
            <a:ext cx="6705720" cy="1752840"/>
          </a:xfrm>
          <a:prstGeom prst="wedgeRoundRectCallout">
            <a:avLst>
              <a:gd name="adj1" fmla="val -59564"/>
              <a:gd name="adj2" fmla="val 45560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93240" y="4038480"/>
            <a:ext cx="59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VRML define o nó Script, que permite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usuário conectar o mundo a um p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ex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803" name="fig_vrml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 flipV="1">
            <a:off x="4343400" y="3200400"/>
            <a:ext cx="14479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4160" y="28954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1752480"/>
            <a:ext cx="3276360" cy="3276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v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419720" y="4038480"/>
            <a:ext cx="137160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5600" y="449568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lter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o mundo VR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" y="1447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ó 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ós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zem lógica de decisão e gerenciamento de estados para mundos VR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azes de receber, processar e gerar eventos que controlam o comportamento dos objetos do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 associado ao nó pode controlar toda a interação e o comportamento dos elementos do mundo 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ravés do nó Script é possível usar técnicas mais sofisticadas que a interpolação linear para a geração de animaçõ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358128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4640" y="373392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ário c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bre um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5000" y="31240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Touch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6576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6960" y="312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Time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7468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10960" y="37339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ó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93120" y="30481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35812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48880" y="365760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12240" y="3809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6680" y="28954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772400" y="36576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850160" y="3809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38280" y="41148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62920" y="4038480"/>
            <a:ext cx="609480" cy="0"/>
          </a:xfrm>
          <a:prstGeom prst="line">
            <a:avLst/>
          </a:prstGeom>
          <a:ln w="572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2720" y="50292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717520" y="50292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lqu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181480" y="5334120"/>
            <a:ext cx="304920" cy="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181120" y="4495680"/>
            <a:ext cx="304920" cy="838440"/>
          </a:xfrm>
          <a:prstGeom prst="line">
            <a:avLst/>
          </a:prstGeom>
          <a:ln w="381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84720" y="57913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rograma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34320" y="5334120"/>
            <a:ext cx="228600" cy="0"/>
          </a:xfrm>
          <a:prstGeom prst="line">
            <a:avLst/>
          </a:prstGeom>
          <a:ln w="381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6933960" y="4571640"/>
            <a:ext cx="228600" cy="762120"/>
          </a:xfrm>
          <a:prstGeom prst="line">
            <a:avLst/>
          </a:prstGeom>
          <a:ln w="381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de VRML usando Script para a lógica de decis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0" y="1866960"/>
            <a:ext cx="9144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Exemplo: XML e CS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98" name="xml_css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152880" cy="510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69240" y="838080"/>
            <a:ext cx="3975480" cy="520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?xml version='1.0'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?xml-stylesheet type="text/css" href="teste_xml.css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client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nome&gt;Jose da Silva&lt;/n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telefone&gt;(021) 345-0079&lt;/telef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endereco&gt;Av. das Flores, 123&lt;/endereco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email&gt;jsilva@provedor.com.br&lt;/emai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&lt;/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nome&gt;Alberto B. Raposo&lt;/n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telefone&gt;(019) 233-8731&lt;/telef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ndereco&gt;Av. Anchieta, 822&lt;/endereco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mail&gt;alberto@dca.fee.unicamp.br&lt;/emai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/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nome&gt;Joao de Deus&lt;/n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telefone&gt;(011) 999-0493&lt;/telef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ndereco&gt;Rua Z, 102/301&lt;/endereco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mail&gt;joaodedeus@ceu.net&lt;/emai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/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clien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nome&gt;Antonio dos Santos&lt;/n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telefone&gt;(021) 340-0987&lt;/telef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ndereco&gt;Rua Tal, 1345 Sala 210&lt;/endereco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email&gt;antonio@provedor.com.br&lt;/emai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/cliente&gt; &lt;/client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320040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7720" y="914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8088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391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685800" y="2057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rograma associado ao nó Script também pode se comunicar com outros programas externos, o que abre inúmeras possibilidades para novas aplicações, inclusive os C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VRML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CVE (Collaborative Virtual Environment)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ção em tempo real de um mundo real ou imaginário, onde usuários estão simultaneamente presentes e podem navegar e interagir com objetos e outros usuári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1104480" y="3771720"/>
            <a:ext cx="1295280" cy="1219320"/>
          </a:xfrm>
          <a:custGeom>
            <a:avLst/>
            <a:gdLst>
              <a:gd name="textAreaLeft" fmla="*/ 431640 w 1295280"/>
              <a:gd name="textAreaRight" fmla="*/ 1109520 w 1295280"/>
              <a:gd name="textAreaTop" fmla="*/ 82944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7794"/>
                </a:moveTo>
                <a:lnTo>
                  <a:pt x="14694" y="17794"/>
                </a:lnTo>
                <a:lnTo>
                  <a:pt x="14694" y="7200"/>
                </a:lnTo>
                <a:lnTo>
                  <a:pt x="11594" y="7200"/>
                </a:lnTo>
                <a:lnTo>
                  <a:pt x="1659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48360" y="4495680"/>
            <a:ext cx="6450480" cy="52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VE = Realidade Virtual + Colab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863" name="cve2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6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ísticas de um C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e que grupo de usuários separados geograficamente interaja em tempo real (ferramenta síncrona, não-presencial, embora a persistência de estado permita também o trabalho assíncro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e número elevado de usu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dimensional para os olhos e ouvidos.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imentos no ambiente mudam a perspectiva visual e audi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457200" y="76212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acterísticas de um CVE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uários são representados como objetos do ambiente (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vatar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da continuamente em todos os aspectos (usuários entrando e saindo, movendo-se, mudando estado dos objetos, etc).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Não é suficiente uma representação inicial do ambiente; é preciso passar aos usuários seu estado a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uários também podem interagir com simulações computacionais, podendo ir além, da re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ários de apl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quitetos podem “visitar” prédio que estão  projet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tas podem “visitar” local de destino antes de comprar as passa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ções militares para situações de com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jas virtuais simulando compras no mundo real (carrinho de compras, produtos nas prateleiras, e possível interação com outros clientes da loj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457200" y="1219320"/>
            <a:ext cx="838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enários de aplicaçã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du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ação com eco-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rendizado de língua estrangeira em um país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vegação 3D na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ibilidade de se trabalhar “dentro” dos dados, ao invés de trabalhar “com” os dados (PITS -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Populated Information Terrain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Exemplo: XML e CS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103" name="xml_css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152880" cy="510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77440" y="2286000"/>
            <a:ext cx="477864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nome{font-family:arial; font-weight:bol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lor:darkblue; text-transform:upperc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background-color:yellow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elefone{font-family:arial; color:r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isplay:block; margin-left:10pt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ndereco{font-family:arial; font-style:itali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argin-left:10pt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mail{font-family:monospace; display:bloc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lor:blue; margin-bottom:18pt; text-decoration:underline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200400"/>
            <a:ext cx="45720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1828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3DWeb_brower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44348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egação 3D na Web: 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3DWeb_browser1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629400" cy="478800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380880" y="685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vegação 3D na Web: exempl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TS: ex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TS_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86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ITS: exempl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TS_1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squisas milit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ivo de treinamento para situações de comb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ulações realistas, imersivas e com milhares de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ge hardware próprio e de elevado custo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viável para o “usuário comu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squisas da comunidade da Internet (empresas comerciais e univers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ponibilidade para a grande massa de usuários da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cutados nos equipamentos da maioria dos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crifício do realismo, imersão e comunicação por vo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mbiente homogêneo repl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cada participante é iniciado a partir de base de dados homogênea contendo as informações do mundo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e recebe cópia do estado inicial e só precisa ser comunicado das mudanças de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de quantidade de mensagens transmit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ência a inconsistências devido à perda de mensa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homogêneo replicado 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9880" y="2209680"/>
            <a:ext cx="685800" cy="9144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51560" y="2286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447920" y="4191120"/>
            <a:ext cx="53316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4960" y="43434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86200" y="419112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03600" y="43434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24480" y="419112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941880" y="43434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828800" y="3124080"/>
            <a:ext cx="2286000" cy="99072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91120" y="3124080"/>
            <a:ext cx="0" cy="106704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267080" y="3124080"/>
            <a:ext cx="2210040" cy="99072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43360" y="3352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ópias do mund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676520" y="4952880"/>
            <a:ext cx="2514600" cy="533520"/>
          </a:xfrm>
          <a:custGeom>
            <a:avLst/>
            <a:gdLst/>
            <a:ahLst/>
            <a:rect l="l" t="t" r="r" b="b"/>
            <a:pathLst>
              <a:path w="1584" h="336">
                <a:moveTo>
                  <a:pt x="0" y="0"/>
                </a:moveTo>
                <a:cubicBezTo>
                  <a:pt x="396" y="168"/>
                  <a:pt x="792" y="336"/>
                  <a:pt x="1056" y="336"/>
                </a:cubicBezTo>
                <a:cubicBezTo>
                  <a:pt x="1320" y="336"/>
                  <a:pt x="1496" y="56"/>
                  <a:pt x="1584" y="0"/>
                </a:cubicBezTo>
              </a:path>
            </a:pathLst>
          </a:custGeom>
          <a:noFill/>
          <a:ln w="9360">
            <a:solidFill>
              <a:srgbClr val="fe243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76520" y="4952880"/>
            <a:ext cx="4876560" cy="838440"/>
          </a:xfrm>
          <a:custGeom>
            <a:avLst/>
            <a:gdLst/>
            <a:ahLst/>
            <a:rect l="l" t="t" r="r" b="b"/>
            <a:pathLst>
              <a:path w="3072" h="720">
                <a:moveTo>
                  <a:pt x="0" y="0"/>
                </a:moveTo>
                <a:cubicBezTo>
                  <a:pt x="488" y="360"/>
                  <a:pt x="976" y="720"/>
                  <a:pt x="1488" y="720"/>
                </a:cubicBezTo>
                <a:cubicBezTo>
                  <a:pt x="2000" y="720"/>
                  <a:pt x="2808" y="120"/>
                  <a:pt x="3072" y="0"/>
                </a:cubicBezTo>
              </a:path>
            </a:pathLst>
          </a:custGeom>
          <a:noFill/>
          <a:ln w="9360">
            <a:solidFill>
              <a:srgbClr val="fe243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27720" y="502920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439"/>
                </a:solidFill>
                <a:latin typeface="Arial"/>
              </a:rPr>
              <a:t>Alterações precisam 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439"/>
                </a:solidFill>
                <a:latin typeface="Arial"/>
              </a:rPr>
              <a:t>comunicadas a todos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439"/>
                </a:solidFill>
                <a:latin typeface="Arial"/>
              </a:rPr>
              <a:t>demais particip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76212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centr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se de dados compartilhada em servidor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erações são comunicadas ao servidor, que  redistribui a mensagem aos particip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os sujeito a inconsistências (base centraliz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rvidor é sobrecarregado e tende a se tornar fator limitante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nde número de mensag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7200" y="7621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centralizados 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3920" y="3200400"/>
            <a:ext cx="685800" cy="9144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6960" y="32767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79560" y="3505320"/>
            <a:ext cx="1029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352680" y="2971800"/>
            <a:ext cx="2514600" cy="14479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13280" y="46483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2360" y="518148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55480" y="495288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03200" y="34290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646600" y="20574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50760" y="20574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43200" y="35812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1280" y="2438280"/>
            <a:ext cx="228600" cy="4572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895480" y="4419720"/>
            <a:ext cx="457200" cy="4572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800600" y="4495680"/>
            <a:ext cx="0" cy="60984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638320" y="2514600"/>
            <a:ext cx="381240" cy="38088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342900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67280" y="4419720"/>
            <a:ext cx="838440" cy="4572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76212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distribuídos, atualização ponto a p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 replicados parcial ou totalmente em cada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há servidor; atualizações são comunicadas vi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multicas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ntagem: não há servidor como fator limi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vant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blemas de escal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s frágil no aspecto d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nde a sobrecarregar usuários com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CGI (</a:t>
            </a:r>
            <a:r>
              <a:rPr b="0" i="1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Common Gateway Interface</a:t>
            </a: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drão que permite que programas externos se comuniquem com servidores de informação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elece as regras para a troca de dados entre servidor e programa (escrito em qualquer linguag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e aciona programa no servidor, que realiza algum processamento e retorna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TML criado dinamic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762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distribuídos, atualização ponto a ponto 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00200" y="358128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17600" y="37339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3920" y="2438280"/>
            <a:ext cx="53316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350960" y="25909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19920" y="3581280"/>
            <a:ext cx="53316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636960" y="37339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57600" y="495288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75000" y="51055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438280" y="5257800"/>
            <a:ext cx="1067040" cy="76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676160" y="4343400"/>
            <a:ext cx="228600" cy="30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5360" y="48006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ópias totais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ciais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657600" y="3962520"/>
            <a:ext cx="2286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657600" y="3962520"/>
            <a:ext cx="228600" cy="9144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657600" y="3200040"/>
            <a:ext cx="304920" cy="7621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2971800"/>
            <a:ext cx="2133720" cy="68580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2971800"/>
            <a:ext cx="0" cy="205740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047760" y="2971800"/>
            <a:ext cx="1904760" cy="762120"/>
          </a:xfrm>
          <a:prstGeom prst="line">
            <a:avLst/>
          </a:prstGeom>
          <a:ln w="936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75440" y="289548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e2439"/>
                </a:solidFill>
                <a:latin typeface="Arial"/>
              </a:rPr>
              <a:t>Alterações por </a:t>
            </a:r>
            <a:r>
              <a:rPr b="0" i="1" lang="pt-BR" sz="1800" spc="-1" strike="noStrike">
                <a:solidFill>
                  <a:srgbClr val="fe2439"/>
                </a:solidFill>
                <a:latin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88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distribuídos, cliente-serv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 estão divididos entre os particip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unicação mediada por servidor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era problemas característicos da comunicação ponto a ponto (dificuldade de consistência, por exemp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sença de servidor pode ser fator limitante do desempenho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s: Taxonomi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880" y="11430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mbiente com dados compartilhados distribuídos, cliente-servidor 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05120" y="4495680"/>
            <a:ext cx="53316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22160" y="464832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60440" y="358128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81080" y="281952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98480" y="297180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218960" y="3200400"/>
            <a:ext cx="685800" cy="30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1295280" y="4267080"/>
            <a:ext cx="533520" cy="6098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26920" y="3733920"/>
            <a:ext cx="1029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315200" y="2743200"/>
            <a:ext cx="533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798880" y="289548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391520" y="4495680"/>
            <a:ext cx="53316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98880" y="4724280"/>
            <a:ext cx="138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657600" y="3505320"/>
            <a:ext cx="685800" cy="38088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038480" y="4191120"/>
            <a:ext cx="457200" cy="53316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410080" y="4191120"/>
            <a:ext cx="533520" cy="38088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562360" y="3352680"/>
            <a:ext cx="609480" cy="4572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CVE: Exempl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VE (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istributed Interactive Virtual Environmen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 compartilhados distribuídos, atualização ponto a ponto, cada participante com réplica parcial do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danças propagadas aos participantes por meio de protocol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multicas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confiá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 de passagem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toke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controle de modificações concorrentes de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064520" y="5562720"/>
            <a:ext cx="7523280" cy="398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Desenvolvido pelo SICS - Swedish Institute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: Exempl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cve3" descr=""/>
          <p:cNvPicPr/>
          <p:nvPr/>
        </p:nvPicPr>
        <p:blipFill>
          <a:blip r:embed="rId1"/>
          <a:stretch/>
        </p:blipFill>
        <p:spPr>
          <a:xfrm>
            <a:off x="609480" y="647640"/>
            <a:ext cx="807732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: Exempl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11430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 (vídeo demonstra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: Exempl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7200" y="11430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 (vídeo demonstra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265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VE: Exempl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114300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be vir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3818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zer com que o usuário se sinta fisicamente presente em um ambiente remoto (virtual ou n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sença é “simulada” ao usuário através de um complexo sistema de transmissão de imagens, som e sensação táct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binação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s imersivas de realidade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s avançados de comunicação de alta veloc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nstrução de imagens em tempo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tensões das tecnologias de imersão para reconhecer presença e movimentos, “trilhar” esses movimentos, e projetá-los em ambientes virtuais realist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Sumári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7920" y="7621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1. Introdu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I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A Web como meio de inter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2. Ferram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C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ECMAScri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Plataforma J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App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Java B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Java 2D e Java 3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JS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GI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600200"/>
            <a:ext cx="1295280" cy="1523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4280" y="1827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438280"/>
            <a:ext cx="9907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43828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1337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Usu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600" y="35053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Re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419720"/>
            <a:ext cx="99072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19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Servi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160" y="48769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124080"/>
            <a:ext cx="0" cy="1067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14600" y="3124080"/>
            <a:ext cx="0" cy="1067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0600" y="342900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572000"/>
            <a:ext cx="761760" cy="0"/>
          </a:xfrm>
          <a:prstGeom prst="line">
            <a:avLst/>
          </a:prstGeom>
          <a:ln w="284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4800600"/>
            <a:ext cx="761760" cy="0"/>
          </a:xfrm>
          <a:prstGeom prst="line">
            <a:avLst/>
          </a:prstGeom>
          <a:ln w="284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4419720"/>
            <a:ext cx="380880" cy="5331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05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2439"/>
                </a:solidFill>
                <a:latin typeface="Arial"/>
              </a:rPr>
              <a:t>Arquivo 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160" y="4876920"/>
            <a:ext cx="152280" cy="228600"/>
          </a:xfrm>
          <a:prstGeom prst="line">
            <a:avLst/>
          </a:prstGeom>
          <a:ln cap="rnd" w="9360">
            <a:solidFill>
              <a:srgbClr val="fe24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267080"/>
            <a:ext cx="2514600" cy="14479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800" y="914400"/>
            <a:ext cx="29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ação “convencion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066680"/>
            <a:ext cx="0" cy="4648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1920" y="914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ação usando 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1600200"/>
            <a:ext cx="1295280" cy="1523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1720" y="1827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438280"/>
            <a:ext cx="9907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438280"/>
            <a:ext cx="83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1337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Usu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1680" y="35053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Re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419720"/>
            <a:ext cx="99072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419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Servi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240" y="48769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124080"/>
            <a:ext cx="0" cy="1067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81680" y="3124080"/>
            <a:ext cx="0" cy="1067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7680" y="342900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495680"/>
            <a:ext cx="762120" cy="0"/>
          </a:xfrm>
          <a:prstGeom prst="line">
            <a:avLst/>
          </a:prstGeom>
          <a:ln w="284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857640" y="4876920"/>
            <a:ext cx="762120" cy="0"/>
          </a:xfrm>
          <a:prstGeom prst="line">
            <a:avLst/>
          </a:prstGeom>
          <a:ln w="28440">
            <a:solidFill>
              <a:srgbClr val="fe24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2439"/>
                </a:solidFill>
                <a:latin typeface="Arial"/>
              </a:rPr>
              <a:t>HTML gerado dinamic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86240" y="4952880"/>
            <a:ext cx="152280" cy="228600"/>
          </a:xfrm>
          <a:prstGeom prst="line">
            <a:avLst/>
          </a:prstGeom>
          <a:ln cap="rnd" w="9360">
            <a:solidFill>
              <a:srgbClr val="fe24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267080"/>
            <a:ext cx="3048120" cy="1524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5400" y="45720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C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4419720"/>
            <a:ext cx="990360" cy="533160"/>
          </a:xfrm>
          <a:prstGeom prst="rect">
            <a:avLst/>
          </a:prstGeom>
          <a:noFill/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9760" y="4572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2439"/>
                </a:solidFill>
                <a:latin typeface="Arial"/>
              </a:rPr>
              <a:t>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tele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88" name="tele3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89" name="tele4" descr=""/>
          <p:cNvPicPr/>
          <p:nvPr/>
        </p:nvPicPr>
        <p:blipFill>
          <a:blip r:embed="rId3"/>
          <a:stretch/>
        </p:blipFill>
        <p:spPr>
          <a:xfrm>
            <a:off x="3048120" y="3429000"/>
            <a:ext cx="2809800" cy="27147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168600" y="4419720"/>
            <a:ext cx="258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m reconstr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artir dos d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ários remo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43600" y="4952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licaçõ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e robôs em ambientes hostis ou de difícil aceso (outros planetas, fundo do mar, interior de vulcões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lização de cirurgias à distâ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ceito mais “avançado” que C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ige imer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ocupação maior com realismo, sensações sonoras e tácte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ada em situações onde ambiente não é virtual, mas composto de imagens rea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28840" y="5638680"/>
            <a:ext cx="8136000" cy="398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Vídeos desenvolvidos pelo GRASP Laboratory - Univ. of Pennsyl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4419720" y="126036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licações de tele-imersão exigem avanç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infra-estrutura da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a banda de pass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ixa lat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unicação síncr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processamento e construção de ima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simulação sens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sincronização de eventos entre participantes distribuído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Tele-imers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09760" y="1371600"/>
            <a:ext cx="6324480" cy="2666880"/>
          </a:xfrm>
          <a:prstGeom prst="wedgeRoundRectCallout">
            <a:avLst>
              <a:gd name="adj1" fmla="val -51930"/>
              <a:gd name="adj2" fmla="val 84046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95960" y="1600200"/>
            <a:ext cx="59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 tele-imersão é uma das aplicações al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da Internet2, um projeto envolv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várias universidades americana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etende aprimorar a infra-estrutura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nternet para atender as necessida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uma série de aplic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cara_feliz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17334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Conclusõe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Web tem continuamente englobado importantes recursos que tornam a interação com os usuários mais e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GI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CMAScript </a:t>
            </a:r>
            <a:r>
              <a:rPr b="0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819520" y="3352680"/>
            <a:ext cx="5715000" cy="2057400"/>
          </a:xfrm>
          <a:prstGeom prst="wedgeRoundRectCallout">
            <a:avLst>
              <a:gd name="adj1" fmla="val -53444"/>
              <a:gd name="adj2" fmla="val 61574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053880" y="3505320"/>
            <a:ext cx="522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Ainda existe um longo caminho para que a 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possa ser usada efetivamente como mei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interação entre seus usuários, principalmente 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aplicações que exigem transmissão rápida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confiável de uma quantidade elevad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mensagens ou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cara_triste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1257120" cy="140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aspectos de interação na Web que não foram tratados (interação com a informaçã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esentação da informação (mídias apropri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vegação na informação (“perdidos no hiper-espaç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squisas (como tornar o resultado de pesquisas na Web mais úteis para o usuário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onclusõe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5400000">
            <a:off x="1409760" y="5448240"/>
            <a:ext cx="838080" cy="457200"/>
          </a:xfrm>
          <a:custGeom>
            <a:avLst/>
            <a:gdLst>
              <a:gd name="textAreaLeft" fmla="*/ 279360 w 838080"/>
              <a:gd name="textAreaRight" fmla="*/ 717840 w 83808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187000" y="5345280"/>
            <a:ext cx="6737040" cy="7038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feriu-se dar prioridade aos aspectos de interação 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esentar uma visão crítica com relação à Web, mostrando que ainda é necessário um grande esforço de pesquisa e desenvolvimento para se criar uma infra-estrutura global de informação (GII -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Global Information Infrastructur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onclusõe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1486080" y="4381560"/>
            <a:ext cx="838080" cy="457200"/>
          </a:xfrm>
          <a:custGeom>
            <a:avLst/>
            <a:gdLst>
              <a:gd name="textAreaLeft" fmla="*/ 279360 w 838080"/>
              <a:gd name="textAreaRight" fmla="*/ 717840 w 83808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358720" y="4343400"/>
            <a:ext cx="5865120" cy="1618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II é o próximo passo além da Web, permiti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ão só acesso mais amplo à informação, sem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mitações da Web e Internet, mas também f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 interação mais elaboradas, que perm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ectar diversos usuários simulta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124080" y="2438280"/>
            <a:ext cx="2819520" cy="213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757546"/>
                    </a:gs>
                    <a:gs pos="5000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FIM</a:t>
            </a:r>
            <a:endParaRPr b="1" i="1" lang="en-US" sz="9600" spc="1" strike="noStrike">
              <a:ln w="0">
                <a:noFill/>
              </a:ln>
              <a:gradFill rotWithShape="0">
                <a:gsLst>
                  <a:gs pos="0">
                    <a:srgbClr val="757546"/>
                  </a:gs>
                  <a:gs pos="5000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gramas CGI são muito usados em associação com formulários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 do formulário são passados como parâmetros de entrada do programa, que retorna uma página criada dinamicamente em função dos dados do 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., pesquisas a bases de dados na Web, inscrição eletrônica em eventos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GI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GI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990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800600" cy="2870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53480" y="1295280"/>
            <a:ext cx="3655440" cy="435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TITLE&gt; Exemplo CGI 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2&gt; Quem &amp;eacute; voc&amp;ecirc;? &lt;/H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&lt;FORM METHOD=P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ACTION="../cgi-bin/uncgi/form-nom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P&gt;Escreva seu nom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INPUT TYPE="TEXT" NAME="Nom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P&gt;&lt;INPUT TYPE="Submit" VALUE="Ok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114800" y="4495320"/>
            <a:ext cx="609480" cy="1371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GI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990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962520" cy="2557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6200000">
            <a:off x="3657600" y="4114800"/>
            <a:ext cx="609840" cy="137160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0880" y="1828800"/>
            <a:ext cx="3750120" cy="350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#! /bin/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Content-type: text/htm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&lt;HTML&gt;&lt;HEAD&gt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&lt;TITLE&gt;Ol&amp;aacute;&lt;/TITLE&gt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&lt;/HEAD&gt;&lt;BODY&gt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&lt;P&gt;&lt;H3&gt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if [ ! -z "$WWW_Nome" ];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cho "Ol&amp;aacute;,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cho $WWW_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"Voc&amp;ecirc; n&amp;atide;o tem nome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cho “&lt;/H3&gt;&lt;/BODY&gt;&lt;/HTM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ação: incapacidade de processamento no lado do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ntidão de realimentação: UI só é alterada após contato com servidor e obtenção do processament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há como fazer verificação no cliente para garantir que formulário esteja preenchido corret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GI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4267080"/>
            <a:ext cx="8153280" cy="1752840"/>
            <a:chOff x="457200" y="4267080"/>
            <a:chExt cx="8153280" cy="1752840"/>
          </a:xfrm>
        </p:grpSpPr>
        <p:pic>
          <p:nvPicPr>
            <p:cNvPr id="166" name="cara_feliz" descr=""/>
            <p:cNvPicPr/>
            <p:nvPr/>
          </p:nvPicPr>
          <p:blipFill>
            <a:blip r:embed="rId1"/>
            <a:stretch/>
          </p:blipFill>
          <p:spPr>
            <a:xfrm>
              <a:off x="457200" y="4495680"/>
              <a:ext cx="13590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33720" y="4267080"/>
              <a:ext cx="6476760" cy="1371600"/>
            </a:xfrm>
            <a:prstGeom prst="wedgeRoundRectCallout">
              <a:avLst>
                <a:gd name="adj1" fmla="val -55074"/>
                <a:gd name="adj2" fmla="val 29861"/>
                <a:gd name="adj3" fmla="val 16667"/>
              </a:avLst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4840" y="4495680"/>
              <a:ext cx="610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ECMAScript supera estas limitações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permitindo processamento no clien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ECMAScript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lemento/alternativa ao CGI que permite realizar algum processamento do lado do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ntativa de padronização de um conjunto de tecnologias semelhantes de diferentes fabricantes: JavaScript (Netscape) e JScript (Microsoft), princip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ECMAScript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guagem de programação orientada a objetos para realizar processamentos e manipular objetos computacionais dentro de um ambiente hospedeir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caso da Web, este ambiente hospedeiro é o browser, que deve ser capaz de reconhecer o script embutido na página HTML e realizar o processamento por ele determinado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Exemplo: escrevendo a data atual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357360" cy="3165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16200000">
            <a:off x="3352680" y="4343400"/>
            <a:ext cx="609840" cy="137160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1480" y="1295280"/>
            <a:ext cx="3690360" cy="435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TITLE&gt; Exemplo ECMAScript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3&gt; A data de hoje &amp;eacute;&lt;/H3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&lt;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now=new Dat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day=now.getDat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month=now.getMonth()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year=now.getYea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document.write("&lt;H3&gt;"+ day + "/"+ month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                 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"/"+ year + "&lt;/H3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xemplo: verificando se dados estão cor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762120"/>
            <a:ext cx="4234680" cy="545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TML&gt; 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TITLE&gt;Exemplo ECMAScript: verificando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TITLE&gt; 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&lt;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function verificaDados ()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if (document.form1.tresCaract.value.length==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document.form1.submit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document.write("&lt;H3&gt;Submetido c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                                     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sucesso!&lt;/H3&gt;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alert("Entre com três caracteres. "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document.form1.tresCaract.value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" não é válido")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H3&gt; Exemplo de formul&amp;aacute;rio&lt;/H3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RM NAME="form1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P&gt; Entre com tr&amp;ecirc;s caracte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INPUT TYPE="text" NAME="tresCaract" SIZE=3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INPUT TYPE="button" VALUE="Ok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NAME="button1" 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OnCLick="verificaDados()"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/FORM&gt; &lt;/BODY&gt; 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rot="5400000">
            <a:off x="5181480" y="4952520"/>
            <a:ext cx="609480" cy="137160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114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binação ECMAScript/CGI ainda não resolve todos os problemas da interação na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CMAScript é linguagem com funcionalidade limitada; seu objetivo não é ser linguagem auto-suficiente. Não possui recursos para leitura de dados externos, criação de UIs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ECMAScript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4114800"/>
            <a:ext cx="8153280" cy="1828800"/>
            <a:chOff x="457200" y="4114800"/>
            <a:chExt cx="8153280" cy="1828800"/>
          </a:xfrm>
        </p:grpSpPr>
        <p:pic>
          <p:nvPicPr>
            <p:cNvPr id="184" name="cara_feliz" descr=""/>
            <p:cNvPicPr/>
            <p:nvPr/>
          </p:nvPicPr>
          <p:blipFill>
            <a:blip r:embed="rId1"/>
            <a:stretch/>
          </p:blipFill>
          <p:spPr>
            <a:xfrm>
              <a:off x="457200" y="4343400"/>
              <a:ext cx="13590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133720" y="4114800"/>
              <a:ext cx="6476760" cy="1828800"/>
            </a:xfrm>
            <a:prstGeom prst="wedgeRoundRectCallout">
              <a:avLst>
                <a:gd name="adj1" fmla="val -55074"/>
                <a:gd name="adj2" fmla="val 9898"/>
                <a:gd name="adj3" fmla="val 16667"/>
              </a:avLst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7000" y="4343400"/>
              <a:ext cx="6002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Java trouxe para a Web toda 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funcionalidade de uma linguagem 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programação abrangen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um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3. Aplicações Colabor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Dificuldades de interfaces multiusu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CSC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Taxonom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s de aplicações colaborativas na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4. Novos Paradig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erfaces pós-WI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alidade Vir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R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mbientes Virtuais Colabor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le-imer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5. Conclus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nguagem de programação orientada a objetos de propósit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tátil e independente de arquite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eal para ambientes heterogê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há aspectos “dependentes de implementaçã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bu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g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Multithrea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ficiente para aplicações concorrentes e distribuíd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jetada para ser si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ntaxe familiar para programadores C ou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limina construções complexas e pouco us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on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rquivos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tores multidimension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renciamento dinâmico de 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erança múltip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interpretada: código é pré-compilado em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bytecode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que são interpretados por uma máquina virtual (JVM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193" name="user1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2286000" y="3047400"/>
            <a:ext cx="76212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70520" y="32115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34290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3048120"/>
            <a:ext cx="9144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53040" y="2895480"/>
            <a:ext cx="1600200" cy="1067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3048120"/>
            <a:ext cx="1427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2895480"/>
            <a:ext cx="13716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4290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4290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34290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876920"/>
            <a:ext cx="16002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608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440" y="53341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16002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716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9600" y="53341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x/Sol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53280" y="3886200"/>
            <a:ext cx="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153280" y="4114440"/>
            <a:ext cx="15264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4114800"/>
            <a:ext cx="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81320" y="3886200"/>
            <a:ext cx="121932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343400"/>
            <a:ext cx="38124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95880" y="4419720"/>
            <a:ext cx="1067040" cy="3808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 autôn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a programas desenvolvidos em linguagens “convencionai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er JVM para exec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Java: Aplicações versus Applets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220" name="JV_APLIC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239240" cy="2622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3657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p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 embutido em página 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utomaticamente carregado e executado quando o browser acessa página com referência ao appl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VM fornecida pelo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Java: Aplicações versus App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3657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jv_applet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7238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Applet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3000" y="1676520"/>
            <a:ext cx="474048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TITLE&gt;Exemplo 1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APPLET code=”UmBotao.class" width=100 height=100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10800000">
            <a:off x="3733920" y="426708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ex_applet1" descr=""/>
          <p:cNvPicPr/>
          <p:nvPr/>
        </p:nvPicPr>
        <p:blipFill>
          <a:blip r:embed="rId1"/>
          <a:stretch/>
        </p:blipFill>
        <p:spPr>
          <a:xfrm>
            <a:off x="4724280" y="4267080"/>
            <a:ext cx="3981600" cy="1771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App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 1: código fonte em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9360" y="1828800"/>
            <a:ext cx="4489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UmBotao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 java.awt.even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 java.appl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class UmBotao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* Cria a UI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void ini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fine dimens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Size(100,1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loca o bot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BotaoHandler boh = new UmBotaoHandler(thi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tton bPush = new Button("Ente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(bPus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ush.addActionListener(bo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97080" y="1828800"/>
            <a:ext cx="4258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* Classe "hanlder", para lidar com botões.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UmBotaoHandler implements ActionListen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t ap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UmBotaoHandler(Applet 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 =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* Realiza a operação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void actionPerformed(ActionEvent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(number%2 =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.showStatus("Botao foi pressionado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.showStatus(e.getActionComman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+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18288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App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1200" y="1523880"/>
            <a:ext cx="65404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applet codebase="classes" code="JavaClock.class" width="150" height="15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delay"   value="1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link"    value="http://java.sun.com/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border"  value="5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nradius" value="8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cfont"   value="TimesRoman|BOLD|18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bgcolor" value="ffffff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shcolor" value="ff00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mhcolor" value="00ff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hhcolor" value="0000ff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ccolor"  value="ddddd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param  name="ncolor"  value="0000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ex_applet2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025800" cy="3857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V="1">
            <a:off x="5715000" y="21337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15000" y="2133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1523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160" y="441972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3520" y="15238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523880"/>
            <a:ext cx="6476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10800000">
            <a:off x="4800600" y="457200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App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ções de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m ser extensos e de lenta trans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 versões iniciais da linguagem, recursos para ciriação de UIs eram limi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ções d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podem ler nem escrever arquivos n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podem iniciar programa n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podem ler certas propriedades 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podem se conectar com outra máquina que não sua própria servi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quer janela aberta por um applet é diferente das janelas abertas por outras aplica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ervlet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esar dos applets, o processamento de programas no servidor (CGI) continuou muito popular, p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totalmente independente do browser, uma vez que todo o processamento é realizado no servi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s complexas são executadas de maneira mais eficiente no servidor (geralmente mais potente que o clie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mais seguro (programas executados sob controle direto do administrador do servi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Introduçã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to o número de usuários da Web como a quantidade de informações que ela integra tendem a continuar aumentando “assustadoramente” nos próximos 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ocupação com qualidade da interação usuário/Web e usuário/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não houver significativos avanços neste sentido, a Web poderá se tornar um “gigantesco cemitério de informaçõ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cara_triste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563840" cy="1752480"/>
          </a:xfrm>
          <a:prstGeom prst="rect">
            <a:avLst/>
          </a:prstGeom>
          <a:ln w="0">
            <a:noFill/>
          </a:ln>
        </p:spPr>
      </p:pic>
      <p:pic>
        <p:nvPicPr>
          <p:cNvPr id="252" name="cara_feliz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79680" cy="1771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erv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914400"/>
            <a:ext cx="7086600" cy="1447920"/>
          </a:xfrm>
          <a:prstGeom prst="wedgeRoundRectCallout">
            <a:avLst>
              <a:gd name="adj1" fmla="val -47601"/>
              <a:gd name="adj2" fmla="val 89694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1080" y="1030320"/>
            <a:ext cx="66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Java não pode ser usada para desen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ogramas CGI pois, por motivos de seguranç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pplets Java não lêem variáveis de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3581280"/>
            <a:ext cx="8259840" cy="2438640"/>
            <a:chOff x="609480" y="3581280"/>
            <a:chExt cx="8259840" cy="2438640"/>
          </a:xfrm>
        </p:grpSpPr>
        <p:pic>
          <p:nvPicPr>
            <p:cNvPr id="257" name="cara_feliz" descr=""/>
            <p:cNvPicPr/>
            <p:nvPr/>
          </p:nvPicPr>
          <p:blipFill>
            <a:blip r:embed="rId3"/>
            <a:stretch/>
          </p:blipFill>
          <p:spPr>
            <a:xfrm>
              <a:off x="7238880" y="4191120"/>
              <a:ext cx="1630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flipH="1">
              <a:off x="609480" y="3581280"/>
              <a:ext cx="5943600" cy="2362320"/>
            </a:xfrm>
            <a:prstGeom prst="wedgeRoundRectCallout">
              <a:avLst>
                <a:gd name="adj1" fmla="val -63865"/>
                <a:gd name="adj2" fmla="val 20828"/>
                <a:gd name="adj3" fmla="val 16667"/>
              </a:avLst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3809880"/>
              <a:ext cx="5727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Arial"/>
                </a:rPr>
                <a:t>Servlets representam a alterna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Arial"/>
                </a:rPr>
                <a:t>da plataforma Java ao CGI, com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Arial"/>
                </a:rPr>
                <a:t>vantagens da familiaridade, portabilidade e segurança da linguagem 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I para programação de aplicações Java no lado do servi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zem o mesmo que os programas CGI: recebem dados do cliente, realizam processamento e retornam HTML criado dinamicament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erv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servlet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858000" cy="2401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201840" y="3581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46483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486040" y="52578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3640" y="51055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526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3467160" y="3847680"/>
            <a:ext cx="152280" cy="38124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6320" y="495288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g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namic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Exemplo de Servlet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10320" y="914400"/>
            <a:ext cx="51156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ublic class SimpleServlet extends Http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ublic void doGet (HttpServletRequest reque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HttpServletResponse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hrows ServletException, IO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rintWriter         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tring              title = "Simple Servlet Output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 Cria header do 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response.setContentType("text/html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 Escreve o HTML como respo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 = response.getWrit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"&lt;HTML&gt;&lt;HEAD&gt;&lt;TITLE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tit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"&lt;/TITLE&gt;&lt;/HEAD&gt;&lt;BODY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"&lt;H1&gt;" + title + "&lt;/H1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"&lt;P&gt;This is output from SimpleServlet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println("&lt;/BODY&gt;&lt;/HTML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out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utras funcion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rvlet pode tratar múltiplas requisições concorrentemente e sincronizar estas requisi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ções colaborativas (ex., conferênc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rvlets se comunicam com outros serv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lanceamento de carga entre serv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binação applets/serv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lanceamento de carga entre cliente e servi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ervlet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Bean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ementação Java do conceito de 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componentes d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ixas pretas” que encapsulam a funcionalidade e oferecem serviços de acordo com uma espec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rta capacidade de customização sem necessidade de alterar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jetados para serem reutilizados, permitindo a “montagem” de aplicações a partir da “junção” de compone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componentes de software, assim como as classes de objetos encapsulam dados, escondem a implementação e são modulares </a:t>
            </a:r>
            <a:r>
              <a:rPr b="0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 o que os tornam componentes é o fato de seguirem uma espec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caso da linguagem Java, a especificação de Java Beans descreve o que uma classe deve fazer para se tornar um componente (bean)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Bean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relação à inte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ior dinamismo e flexibil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onentes independentes podem utilizados e reutilizados em uma variedade de combin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ans podem ser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widget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gráficos, funções não visuais, applets, e até mesmo aplicações complet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Bean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ação entre os beans se dá através de ev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event listener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ntram como intermediários entre os geradores e os receptores dos eventos monitorando a ocorrência de determinado evento e controlando troca de mensagens entre os beans interessados no evento </a:t>
            </a:r>
            <a:r>
              <a:rPr b="0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garantem a capacidade de </a:t>
            </a: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plug and play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dos compone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Bean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Bean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8360" y="1295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Modelo sem event liste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640" y="2097000"/>
            <a:ext cx="1143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54120" y="2325600"/>
            <a:ext cx="143208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92360" y="2438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1640" y="3468600"/>
            <a:ext cx="1143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0240" y="3581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N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038480"/>
            <a:ext cx="1143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7440" y="41148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26668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819520" y="2895480"/>
            <a:ext cx="3808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7080" y="2819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r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4840" y="32004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1371600"/>
            <a:ext cx="0" cy="40384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61760" y="1295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Modelo com event liste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64160" y="2097000"/>
            <a:ext cx="1143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168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02440" y="2097000"/>
            <a:ext cx="143208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40320" y="22096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16440" y="407844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5040" y="4191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N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4495680"/>
            <a:ext cx="11430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5240" y="4572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15200" y="3352680"/>
            <a:ext cx="11430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988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3048120"/>
            <a:ext cx="11430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25909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409720" y="35053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3120" y="2514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r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7200" y="28195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3120" y="4687920"/>
            <a:ext cx="1279800" cy="533520"/>
          </a:xfrm>
          <a:prstGeom prst="ellipse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21360" y="4800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AIR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3505320"/>
            <a:ext cx="457200" cy="114300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Swing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iblioteca de componentes gráficos para a criação de 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s Swing são beans, permitindo toda a flexibilidade e capacidade de reutilização desta tecn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s totalmente desenvolvidos em J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s com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luggable look &amp; fee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parência e comportamento desejados (Windows, Motif, Macintosh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atibilidade com hardware e software projetados para usuários com necessidades especiais (ex., interfaces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touch-scre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nteração Homem-Computador (IHC)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alidade” da interface com o usuário (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usabilidad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cilidade de aprend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a velocidade para execução de tare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ixa taxa de erro no u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atisfação subjetiva do 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tenção da forma de uso com o t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ende os mecanismos da java.awt e do Swing para a manipulação e visualização de primitivas bidimensionais, textos, fontes, imagens 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enho de formas padrões e arbitrá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formações espaci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transparê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texturas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2D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2D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os ex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2D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 de utilização em P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ex_java2d_1a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746080" cy="3505320"/>
          </a:xfrm>
          <a:prstGeom prst="rect">
            <a:avLst/>
          </a:prstGeom>
          <a:ln w="0">
            <a:noFill/>
          </a:ln>
        </p:spPr>
      </p:pic>
      <p:pic>
        <p:nvPicPr>
          <p:cNvPr id="328" name="ex_java2d_1d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2745000" cy="3505320"/>
          </a:xfrm>
          <a:prstGeom prst="rect">
            <a:avLst/>
          </a:prstGeom>
          <a:ln w="0">
            <a:noFill/>
          </a:ln>
        </p:spPr>
      </p:pic>
      <p:pic>
        <p:nvPicPr>
          <p:cNvPr id="329" name="ex_java2d_1c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746440" cy="3505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rot="16200000">
            <a:off x="1790640" y="40762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7429320" y="40762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609800" y="40762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4320" y="563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magem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41720" y="5638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Sharpe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3160" y="56386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3D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a correspondente 3D à Java 2D, com recursos para criação e manipulação de geometrias tridimens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ambém lida com som espa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85800" y="3581280"/>
            <a:ext cx="7848720" cy="2438640"/>
            <a:chOff x="685800" y="3581280"/>
            <a:chExt cx="7848720" cy="2438640"/>
          </a:xfrm>
        </p:grpSpPr>
        <p:pic>
          <p:nvPicPr>
            <p:cNvPr id="339" name="cara_triste" descr=""/>
            <p:cNvPicPr/>
            <p:nvPr/>
          </p:nvPicPr>
          <p:blipFill>
            <a:blip r:embed="rId1"/>
            <a:stretch/>
          </p:blipFill>
          <p:spPr>
            <a:xfrm>
              <a:off x="685800" y="4038480"/>
              <a:ext cx="17668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438280" y="3581280"/>
              <a:ext cx="6096240" cy="1600200"/>
            </a:xfrm>
            <a:prstGeom prst="wedgeRoundRectCallout">
              <a:avLst>
                <a:gd name="adj1" fmla="val -51300"/>
                <a:gd name="adj2" fmla="val 61902"/>
                <a:gd name="adj3" fmla="val 16667"/>
              </a:avLst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27360" y="3722760"/>
              <a:ext cx="5627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A implementação de Java 3D te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código nativo (dependente 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99"/>
                  </a:solidFill>
                  <a:latin typeface="Arial"/>
                </a:rPr>
                <a:t>plataform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Java 3D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ex_java3d_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345" name="ex_java3d_1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886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JSDT (</a:t>
            </a:r>
            <a:r>
              <a:rPr b="0" i="1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Java Shared Data Toolkit</a:t>
            </a: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lementa serviço de envio de dados para vários receptores, para uso no suporte à criação de aplicações multimídia altamente int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vê conceito de s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comunicação multiponto bidirecional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full-duplex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entre número arbitrário de entidades conectadas através de diferentes tipos de re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porte para comunicação de mensagens multi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abilidade de garantir recebimento seqüencial de mensa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mecanismo de sincronização baseado na passagem de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JSDT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cara_feliz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124000" cy="23814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819520" y="1371600"/>
            <a:ext cx="5029200" cy="2971800"/>
          </a:xfrm>
          <a:prstGeom prst="wedgeRoundRectCallout">
            <a:avLst>
              <a:gd name="adj1" fmla="val -54606"/>
              <a:gd name="adj2" fmla="val 65490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3000" y="1752480"/>
            <a:ext cx="460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s recursos do JSD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ão importantes para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senvolviment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plicações colabo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Recapitulando...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438280"/>
            <a:ext cx="1371600" cy="914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2286000"/>
            <a:ext cx="228600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3429000"/>
            <a:ext cx="2438280" cy="762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ECMA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2362320"/>
            <a:ext cx="1067040" cy="914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1390600">
            <a:off x="2362320" y="2362320"/>
            <a:ext cx="1676160" cy="4572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rot="12262200">
            <a:off x="2337840" y="3233880"/>
            <a:ext cx="1676160" cy="4572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rot="10845600">
            <a:off x="6552000" y="228600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0137800">
            <a:off x="6552720" y="320004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4419720"/>
            <a:ext cx="137160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419720"/>
            <a:ext cx="106668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5053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9993800">
            <a:off x="1887480" y="3508200"/>
            <a:ext cx="457200" cy="838440"/>
          </a:xfrm>
          <a:prstGeom prst="downArrow">
            <a:avLst>
              <a:gd name="adj1" fmla="val 50000"/>
              <a:gd name="adj2" fmla="val 45846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1219320"/>
            <a:ext cx="1143000" cy="990360"/>
          </a:xfrm>
          <a:prstGeom prst="downArrowCallout">
            <a:avLst>
              <a:gd name="adj1" fmla="val 28856"/>
              <a:gd name="adj2" fmla="val 28853"/>
              <a:gd name="adj3" fmla="val 16667"/>
              <a:gd name="adj4" fmla="val 66667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5181480"/>
            <a:ext cx="1600200" cy="762120"/>
          </a:xfrm>
          <a:prstGeom prst="upArrowCallout">
            <a:avLst>
              <a:gd name="adj1" fmla="val 52496"/>
              <a:gd name="adj2" fmla="val 52492"/>
              <a:gd name="adj3" fmla="val 16667"/>
              <a:gd name="adj4" fmla="val 66660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as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5105520"/>
            <a:ext cx="1523880" cy="990360"/>
          </a:xfrm>
          <a:prstGeom prst="upArrowCallout">
            <a:avLst>
              <a:gd name="adj1" fmla="val 38471"/>
              <a:gd name="adj2" fmla="val 38468"/>
              <a:gd name="adj3" fmla="val 16667"/>
              <a:gd name="adj4" fmla="val 66660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â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914400"/>
            <a:ext cx="3505320" cy="1219320"/>
          </a:xfrm>
          <a:prstGeom prst="downArrowCallout">
            <a:avLst>
              <a:gd name="adj1" fmla="val 71877"/>
              <a:gd name="adj2" fmla="val 71870"/>
              <a:gd name="adj3" fmla="val 16667"/>
              <a:gd name="adj4" fmla="val 66667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dor g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dinami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4419720"/>
            <a:ext cx="2209680" cy="1218960"/>
          </a:xfrm>
          <a:prstGeom prst="upArrowCallout">
            <a:avLst>
              <a:gd name="adj1" fmla="val 45323"/>
              <a:gd name="adj2" fmla="val 45319"/>
              <a:gd name="adj3" fmla="val 16667"/>
              <a:gd name="adj4" fmla="val 66660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3429000"/>
            <a:ext cx="1295280" cy="762120"/>
          </a:xfrm>
          <a:prstGeom prst="upArrowCallout">
            <a:avLst>
              <a:gd name="adj1" fmla="val 42493"/>
              <a:gd name="adj2" fmla="val 42489"/>
              <a:gd name="adj3" fmla="val 16667"/>
              <a:gd name="adj4" fmla="val 66660"/>
            </a:avLst>
          </a:prstGeom>
          <a:solidFill>
            <a:srgbClr val="fe2439"/>
          </a:solidFill>
          <a:ln w="9360">
            <a:solidFill>
              <a:srgbClr val="fe2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d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486400" y="1447920"/>
            <a:ext cx="2819520" cy="144756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361800 h 1447560"/>
              <a:gd name="textAreaBottom" fmla="*/ 1085760 h 1447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09480" y="1523880"/>
            <a:ext cx="2895840" cy="1447920"/>
          </a:xfrm>
          <a:custGeom>
            <a:avLst/>
            <a:gdLst>
              <a:gd name="textAreaLeft" fmla="*/ 452520 w 2895840"/>
              <a:gd name="textAreaRight" fmla="*/ 2534040 w 2895840"/>
              <a:gd name="textAreaTop" fmla="*/ 361800 h 1447920"/>
              <a:gd name="textAreaBottom" fmla="*/ 1086120 h 1447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1066680"/>
            <a:ext cx="0" cy="4648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97080" y="19051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 que foi v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té aq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5400" y="182880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 que será  v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aqui em 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6520" y="3228840"/>
            <a:ext cx="3443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Tecnolog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madurecida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bastante uti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O estado atual d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6360" y="3276720"/>
            <a:ext cx="417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ndências import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a interação com 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plicações colabo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rfaces pós-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Aplicações Colaborativas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sar da ilusão de ser uma grande base de informações, ainda existem barreiras significativas à colaboração efetiva entre os usuários da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browsers são ferramentas para um único usuário, mantendo-os separados uns dos outro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á pouco suporte para que eles trabalhem de maneira colaborat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iciência da interação requer conhec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 tecnologia apropri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fatore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ário e seu compo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efas que o usuário executar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efas que a máquina execut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to centrado no usu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nterface deve se adaptar ao usuário, e não o usuário à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HC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Aplicações Colaborativa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381" name="int_web1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114800" cy="2960640"/>
          </a:xfrm>
          <a:prstGeom prst="rect">
            <a:avLst/>
          </a:prstGeom>
          <a:ln w="0">
            <a:noFill/>
          </a:ln>
        </p:spPr>
      </p:pic>
      <p:pic>
        <p:nvPicPr>
          <p:cNvPr id="382" name="int_web2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4086360" cy="2934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90720" y="3962520"/>
            <a:ext cx="3047760" cy="2133360"/>
          </a:xfrm>
          <a:prstGeom prst="upArrowCallout">
            <a:avLst>
              <a:gd name="adj1" fmla="val 32438"/>
              <a:gd name="adj2" fmla="val 26634"/>
              <a:gd name="adj3" fmla="val 16667"/>
              <a:gd name="adj4" fmla="val 5239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b hoje em dia: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ção é compartilha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 existem barreira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fetiva colaboração 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95280"/>
            <a:ext cx="3657600" cy="1752840"/>
          </a:xfrm>
          <a:prstGeom prst="downArrowCallout">
            <a:avLst>
              <a:gd name="adj1" fmla="val 44017"/>
              <a:gd name="adj2" fmla="val 52167"/>
              <a:gd name="adj3" fmla="val 17546"/>
              <a:gd name="adj4" fmla="val 6570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b colaborativa: usu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gem entre si e com o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rabalho em tempo-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s aplicações colaborativas visam remover estas “barreiras” entre os usuários, permitindo que eles se contactem, discutam os documentos e interajam em tempo-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idéia de aplicações colaborativas altera radicalmente os paradigmas tradicionais para a construção de UIs e para o compartilhamento de informaçõ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Aplicações Colaborativa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nterfaces Multiusuário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Is utilizadas ao mesmo tempo por mais de um usuário em máquinas disti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é sinônimo de “aplicações colaborativ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rescenta dificuldades adicionais no projeto de interfa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ser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m está usando o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que eles estão fazendo (alterações no objeto de trabal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o estas alterações acontece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elas acontece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4343400"/>
            <a:ext cx="7942320" cy="1922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lteração nos paradigmas tradicionais para a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de UIs, pois elas sempre foram projetadas para qu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usuários não tomem conhecimento dos demais, me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quando compartilham uma mesma base de informações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9907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ser awareness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dicadora de atividade social (massa crítica de usuár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ns aspectos a serem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s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e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ível de 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o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8280" y="2895480"/>
            <a:ext cx="331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ória de a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ção da v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ção da aplicação compartilh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WYSIWI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(What You See Is What I Se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odos os usuários têm a mesma visão da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lementação mais si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te senso de contexto compartilh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lexí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uários não têm espaço priv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ursores dos outros usuários atrapal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a pode ficar tumultuada com janelas que só são usadas por outros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397" name="cara_feliz" descr=""/>
          <p:cNvPicPr/>
          <p:nvPr/>
        </p:nvPicPr>
        <p:blipFill>
          <a:blip r:embed="rId1"/>
          <a:stretch/>
        </p:blipFill>
        <p:spPr>
          <a:xfrm>
            <a:off x="7315200" y="251460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398" name="cara_triste" descr=""/>
          <p:cNvPicPr/>
          <p:nvPr/>
        </p:nvPicPr>
        <p:blipFill>
          <a:blip r:embed="rId2"/>
          <a:stretch/>
        </p:blipFill>
        <p:spPr>
          <a:xfrm>
            <a:off x="7391520" y="3962520"/>
            <a:ext cx="1257120" cy="1409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705720" y="3886200"/>
            <a:ext cx="19810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ção da aplicação compartilhada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YSIWIS relaxado no esp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 WYSIWIS em apenas algumas janelas e 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YSIWIS relaxado no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atrasos na sincronização entre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YSIWIS relaxado na pop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enas subgrupo de usuários compartilha a mesma v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YSIWIS relaxado na congru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eração da visão local sem afetar os ou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faces WYSIWIS mostraram que representação dos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telepointers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strai os usuários, atrapalhando o trabalho. Alternativas para indicar outros usu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rras de rolagem multi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ad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inia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Exemplo: Barra de Rolagem Multiusuário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066680" y="914400"/>
          <a:ext cx="716292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16292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Exemplo: Radar 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408" name="mu_radar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HC envolve profissionais de várias á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genharia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ência comporta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ngüí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rgon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sicologia cognitiva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us resultados serão de grande importância para a “sobrevivência” da We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IHC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eedthrough: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lteração da interface em resposta à interação dos outros usuá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orna um problema crítico na Web porque exige canal de comunicação entre os vários usuários (clien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lução: trabalhar com a granularidade d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eedthrough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 nem todas as ações dos usuários precisam ser passadas aos demai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vac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ortante para escrever rascunhos e anotações antes de mostrar algo para os outros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lta de espaço privativo inibe participação em trabalhos colabor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onim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ário em situações de tomada de decisões, especialmente quando há conflitos de inte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 certa forma conflitante com o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user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3160" y="5029200"/>
            <a:ext cx="807048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sibilidade” dos usuários deve ser limitada, de mod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s atividades individuais não sejam super-expo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trole de aces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 não fazer sentido permitir que mais de um usuário tenha acesso ao mesmo recurso simultaneamente (barra de rolagem, por exempl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erenciamento de sess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importante a figura do gerente, para criar nova sessão de trabalho e controlar direitos de acesso dos participantes (evita usuários não cooperativ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nais de comunicação efi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idade colaborativa está intimamente relacionada à comun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strução por recursos de colabo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jetistas de aplicações colaborativas tendem a superestimar a importância e freqüência de uso dos recursos de colaboração, que acabam obstruindo os recursos de trabalho individual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ficuldade de avali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tar em laboratório a dinâmica social, econômica, motivacional e política dos grupos é praticamente impossí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valiação de ferramentas colaborativas requer metodologias da psicologia social e antropologia, já que usuários são afetados pela experiência e personalidade dos outros membros do grupo de trabalh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Dificuldades de UI Multiusuári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3200" spc="-1" strike="noStrike" u="sng">
                <a:solidFill>
                  <a:srgbClr val="cc0000"/>
                </a:solidFill>
                <a:uFillTx/>
                <a:latin typeface="Arial"/>
              </a:rPr>
              <a:t>(Computer Supported Cooperative Work)</a:t>
            </a:r>
            <a:endParaRPr b="0" lang="en-US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Área de estudo interessada no trabalho em conjunto de grupos de pessoas com a ajuda de comput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a multidisciplinar: envolve computação, automação, antropologia, sociologia, psicologia social, teoria organizacional, educação, e outras áreas interessadas no estudo do trabalho colabora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Groupware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área mais técnica, voltada para o desenvolvimento de software que auxilie no trabalho em gru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istemas computacionais que auxiliam grupos de pessoas engajadas em uma tarefa (ou objetivo ) comum e que provêm uma interface para um ambiente compartilh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CSCW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eva em consideração fatores humanos do trabalho em grupo para auxiliar o projeto e especificação do suporte computacional a este proce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Esforço no sentido de entender a natureza e as características do trabalho cooperativo com o objetivo de projetar tecnologias computacionais adequadas”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ção d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terdependê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tre as taref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ça entre dirigir em um comboio e dirigir no trânsito de uma c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2666880"/>
            <a:ext cx="2590560" cy="2438640"/>
          </a:xfrm>
          <a:prstGeom prst="upArrowCallout">
            <a:avLst>
              <a:gd name="adj1" fmla="val 25124"/>
              <a:gd name="adj2" fmla="val 16923"/>
              <a:gd name="adj3" fmla="val 16667"/>
              <a:gd name="adj4" fmla="val 108715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B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33720" y="3048120"/>
            <a:ext cx="2590560" cy="2438280"/>
          </a:xfrm>
          <a:prstGeom prst="upArrowCallout">
            <a:avLst>
              <a:gd name="adj1" fmla="val 25127"/>
              <a:gd name="adj2" fmla="val 16925"/>
              <a:gd name="adj3" fmla="val 16667"/>
              <a:gd name="adj4" fmla="val 88544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ção d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pendência positiv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 um participante tem do ou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participante precisa que o trabalho do outro seja bem suced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so oposto é quando várias pessoas simplesmente compartilham um recurs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esse caso, o trabalho de um apenas atrapalha o do out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Grosz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78360" cy="518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422440" y="1027080"/>
            <a:ext cx="4283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aboração não é apenas a soma de tarefas individ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A Web como meio de interação</a:t>
            </a:r>
            <a:endParaRPr b="0" lang="en-US" sz="4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tage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ssibil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icações disponíveis a ampla gama de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sso de praticamente qualquer lugar e a qualquer 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ência de plata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lho de articulação: trabalho extra, necessário para que o trabalho conjunto seja obtido a partir da soma dos trabalhos individu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ção dos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eamento dos objetivos em tare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ção dos particip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enação das a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articulation_work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05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ção: “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to de gerenciar interdependências entre as atividades realizadas para se atingir um objetiv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z parte do trabalho de artic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arante eficiência da colabo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m coordenação, há o risco dos participantes se envolverem em tarefas conflitantes e/ou repetitiv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CSCW </a:t>
            </a:r>
            <a:r>
              <a:rPr b="0" i="1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paç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do de interaçã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emp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íncrono: interações em tempo-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íncrono: interações em momentos dife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ocalização geográfica dos usuári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spaç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ial: usuários presentes fisicamente no mes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-presencial: usuários em locais dife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paç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1828800"/>
            <a:ext cx="685800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095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8800" y="5675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7200" y="480024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360" y="4952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3581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19880" y="53341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440" y="533412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ão-pr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5909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2440" y="41148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s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2057400"/>
            <a:ext cx="31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ientes de suporte a reuni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21337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ídeo-confe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9680" y="2438280"/>
            <a:ext cx="31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erramentas d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3048120"/>
            <a:ext cx="331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aço de trabalho compartil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3733920"/>
            <a:ext cx="331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ores multiusu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45720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9680" y="441972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ramentas de argumen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m uma sala de reuniõ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ão no espaç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274320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1240" y="2286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2880" y="228600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ão-pr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1040" y="228600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rtualmente pr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69840" y="22860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ocalmente rem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3432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4480" y="19810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7360" y="175248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ento de presença decresc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819520"/>
            <a:ext cx="3276360" cy="3200400"/>
          </a:xfrm>
          <a:prstGeom prst="upArrowCallout">
            <a:avLst>
              <a:gd name="adj1" fmla="val 25596"/>
              <a:gd name="adj2" fmla="val 25593"/>
              <a:gd name="adj3" fmla="val 16667"/>
              <a:gd name="adj4" fmla="val 5538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elhante à presenci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enas não exigindo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ários estejam fisic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óximos. Necess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ção de áud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deo em tempo real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r a presenç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es externo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2819520"/>
            <a:ext cx="2666880" cy="3200400"/>
          </a:xfrm>
          <a:prstGeom prst="upArrowCallout">
            <a:avLst>
              <a:gd name="adj1" fmla="val 25002"/>
              <a:gd name="adj2" fmla="val 25000"/>
              <a:gd name="adj3" fmla="val 20001"/>
              <a:gd name="adj4" fmla="val 5538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simula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ença de usu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ternos, mas perm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om nível de inter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 eles, atravé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partilham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paços de  trabalh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exemp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2819520"/>
            <a:ext cx="1371600" cy="3200400"/>
          </a:xfrm>
          <a:prstGeom prst="upArrowCallout">
            <a:avLst>
              <a:gd name="adj1" fmla="val 25002"/>
              <a:gd name="adj2" fmla="val 25000"/>
              <a:gd name="adj3" fmla="val 38889"/>
              <a:gd name="adj4" fmla="val 5538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nh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n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e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-mai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tensão: previsível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imprevisí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-presencia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visíveis: noção de onde se encontram outros participantes (e-mail e ferramentas de co-auto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revisíveis: usuários em locais desconhecidos (mensagens enviadas para grupos de discuss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síncro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visíveis: oferecem noção do tempo em que ocorrerá a interação (e-mail para coleg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revisíveis: momento em que ocorrerá a interação não pode ser previsto (co-autoria em ambientes aberto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assificação de acordo com o tipo de apl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para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comunicaçã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não provêem nenhum tipo de suporte especial para o trabalho em gru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-mail,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ha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vídeo-confer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de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espaço de trabalho compartilhad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provêem área de trabalho comum, onde participantes podem trabalhar conjunt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whiteboard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editores multiusuá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assificação de acordo com o tipo de aplicaçã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para o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compartilhamento de informaçã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permitem que usuários armazenem, acessem e manipulem informação compartilh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D compartilhados,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752480" y="4647960"/>
            <a:ext cx="6248520" cy="1371600"/>
          </a:xfrm>
          <a:prstGeom prst="wedgeRoundRectCallout">
            <a:avLst>
              <a:gd name="adj1" fmla="val 606"/>
              <a:gd name="adj2" fmla="val 85300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Sob esta óptica, a Web pode ser vista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ferramenta colaborativa, embora não suporte f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mais colaborativas de lidar com esta informaçã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tais como co-autoria e anot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assificação de acordo com o tipo de aplicaçã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para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suporte à atividade em grup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provêem facilidades para atividades específicas do trabalho em grupo, tais como agendamento de reuniões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rainstorming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 argumentação e vo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SS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Group Support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143000" y="5028120"/>
            <a:ext cx="7391520" cy="1066680"/>
          </a:xfrm>
          <a:prstGeom prst="wedgeRoundRectCallout">
            <a:avLst>
              <a:gd name="adj1" fmla="val -87"/>
              <a:gd name="adj2" fmla="val 88092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stemas que têm como objetivo aumentar a produtividad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uniões, seja acelerando o processo de tomada de deci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u melhorando a qualidade das decisões resul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mitações impostas pelo HTTP e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lta de controle sobre aparência da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ficuldade na construção de UIs independentes de platafo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TTP não suporta conceito de s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ntidão de realimen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ção não tem como interromper atividade do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há suporte direto para replicação da inform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TTP não garante taxa de transmissão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cc0000"/>
                </a:solidFill>
                <a:uFillTx/>
                <a:latin typeface="Arial"/>
              </a:rPr>
              <a:t>A Web como meio de interação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assificação de acordo com o tipo de aplicação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as 4 categorias (comunicação, espaço de trabalho compartilhado, compartilhamento de informação e suporte à atividade em grupo) não são mutuamente exclusiv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Taxonomias de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spectos de comun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fio: tornar a comunicação entre usuários remotos tão eficiente quanto a interação face a face, aplicando as combinações tecnológicas mais apropriadas para cada tipo de int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</a:t>
            </a:r>
            <a:endParaRPr b="0" lang="en-US" sz="36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p:transition>
    <p:cover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22860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unicação formal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n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mal: segue modelo pré-estabelecido, que pode ser modelado por ferramenta 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delos limitados e de pouco “realismo social”, já que nem os padrões de comunicação nem os grupos são estáveis no decorrer de um trabalho colaborativ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ormal: comunicação “acidental”, que ocorre, por exemplo, quando dois colegas se encontram no corr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unicação diret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ndi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: através da transmissão de textos, áudio, vídeo e/ou gestos entre os particip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direta: através do objeto de trabalho (texto ou imagem compartilhada, por exemp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Flexibili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ponto de vista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tabilidade e capacidade de adaptação do sistema nos diversos ambientes computacion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ponto de vista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lacionado à taxonomia tempo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spaço. Um sistema é mais flexível se se enquadrar em mais categorias daquela taxono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ponto de vista do campo de apl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sistema que suporte mais tipos de aplicações (de comunicação, de espaço de trabalho compartilhado, etc) é mais flexível sob este aspec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pic>
        <p:nvPicPr>
          <p:cNvPr id="495" name="cara_feliz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2073240" cy="23241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362320" y="1143000"/>
            <a:ext cx="6400800" cy="3276720"/>
          </a:xfrm>
          <a:prstGeom prst="wedgeRoundRectCallout">
            <a:avLst>
              <a:gd name="adj1" fmla="val -43425"/>
              <a:gd name="adj2" fmla="val 70495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72280" y="1295280"/>
            <a:ext cx="610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ara serem flexíveis, aplica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colaborativas não devem impor padrõ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trabalho pré-estabelecidos. Elas dev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rover facilidades que permitam a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usuários interpretar e explorar e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modelos, mas deverá sempre caber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usuário a decisão de usá-los, modificá-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ou rejeitá-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spectos de implemen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cientes da colaboraçã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colaboração transpa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cientes da colaboração: desenvolvidas especialmente para o trabalho colaborativo. Têm conhecimento do número de usuários e seus papéis individuais na colabo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 colaboração transparente: originalmente desenvolvidas para um único usuário, usadas de maneira colaborativa através de um sistema de compartilhamento de aplicaçõe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ementaçã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hard-w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s da rede são construídos com o propósito de realizar funções específicas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ementação centrali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elo cliente-servidor. Todos os participantes se conectam ao servidor, que realiza o processamento necessário e retransmite as mensa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ementação repl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da máquina executa uma cópia 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ementação híb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da cliente executa cópia (completa ou parcial) da aplicação e servidor cuida de tarefas especí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spectos soci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ções localiz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ferenças de interesse, poder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m um grupo (“realismo social”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“utopia tecnológic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ssa crítica de usu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idade de benefícios entre usu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uição errônea de projeti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rodução cuidadosa no ambiente de trabal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0000"/>
                </a:solidFill>
                <a:uFillTx/>
                <a:latin typeface="Arial"/>
              </a:rPr>
              <a:t>Requisitos para Sistemas Colaborativos </a:t>
            </a:r>
            <a:r>
              <a:rPr b="0" lang="pt-BR" sz="1200" spc="-1" strike="noStrike" u="sng">
                <a:solidFill>
                  <a:srgbClr val="cc0000"/>
                </a:solidFill>
                <a:uFillTx/>
                <a:latin typeface="Arial"/>
              </a:rPr>
              <a:t>(cont.)</a:t>
            </a:r>
            <a:endParaRPr b="0" lang="en-US" sz="1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Exemplos de Aplicações Colaborativas para a Web</a:t>
            </a:r>
            <a:endParaRPr b="0" lang="en-US" sz="60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p:transition>
    <p:cover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cc0000"/>
                </a:solidFill>
                <a:uFillTx/>
                <a:latin typeface="Arial"/>
              </a:rPr>
              <a:t>GroupWeb</a:t>
            </a:r>
            <a:endParaRPr b="0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rowser Web colaborativo: grupo de usuários pode compartilhar visualmente e navegar conjuntamente por páginas HTML em t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uários geograficamente dispersos podem realizar sessões de trabalho onde suas janelas principais se tornam espaço de trabalho compartilh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ferece janela de gerenciamento e janela de anotações (serve como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cha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03:54:29Z</dcterms:created>
  <dc:creator>Office Professional 97</dc:creator>
  <dc:description/>
  <dc:language>en-US</dc:language>
  <cp:lastModifiedBy>alberto</cp:lastModifiedBy>
  <cp:lastPrinted>1999-06-16T23:20:20Z</cp:lastPrinted>
  <dcterms:modified xsi:type="dcterms:W3CDTF">1999-07-26T18:28:09Z</dcterms:modified>
  <cp:revision>179</cp:revision>
  <dc:subject/>
  <dc:title>Interação na Web</dc:title>
</cp:coreProperties>
</file>