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082-C887-43D0-A5DA-2703A72F91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da vértice pode ser especificado com duas, três ou quatro coordenadas (a quarta coordenada indica uma coordenada homogênea). Pode-se associar um vetor normal, uma coordenada de textura ou uma cor a um vér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14400"/>
            <a:ext cx="9144000" cy="5943600"/>
          </a:xfrm>
          <a:prstGeom prst="horizontalScroll">
            <a:avLst>
              <a:gd name="adj" fmla="val 4861"/>
            </a:avLst>
          </a:prstGeom>
          <a:gradFill rotWithShape="0">
            <a:gsLst>
              <a:gs pos="0">
                <a:srgbClr val="321900"/>
              </a:gs>
              <a:gs pos="50000">
                <a:srgbClr val="582c00"/>
              </a:gs>
              <a:gs pos="100000">
                <a:srgbClr val="321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6398-C5F1-4B2A-B3E7-16F8E9AAE0CD}" type="slidenum">
              <a:rPr b="0" lang="en-US" sz="18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46800" y="6521400"/>
            <a:ext cx="37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2800"/>
                </a:solidFill>
                <a:latin typeface="Times New Roman"/>
              </a:rPr>
              <a:t>SIBGRAPI’2000 - Gramado, Outubro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19520" y="32004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Times New Roman"/>
              </a:rPr>
              <a:t>OpenG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743200"/>
            <a:ext cx="4191120" cy="2057400"/>
          </a:xfrm>
          <a:prstGeom prst="octagon">
            <a:avLst>
              <a:gd name="adj" fmla="val 29287"/>
            </a:avLst>
          </a:prstGeom>
          <a:noFill/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GLUT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is  rotinas para gerenciamento de janelas (continu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e funções a serem executadas quando a janela é alte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ReshapeFun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DisplayFun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amento de eventos (loop infin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</a:t>
            </a: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bjetos geométricos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OpenGL não possui rotinas de alto nível de abstra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primitivas geométricas são definidas a partir de seus vértices, através d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Vertex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vértices são agrupados entre 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Begin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End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O argumento da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Begin()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dica a ordem como os vértices são assoc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716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rimitivas geométricas da 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rimitivasnew" descr=""/>
          <p:cNvPicPr/>
          <p:nvPr/>
        </p:nvPicPr>
        <p:blipFill>
          <a:blip r:embed="rId2"/>
          <a:stretch/>
        </p:blipFill>
        <p:spPr>
          <a:xfrm>
            <a:off x="2435400" y="1905120"/>
            <a:ext cx="4270320" cy="45306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94" name="ogl_preto" descr=""/>
          <p:cNvPicPr/>
          <p:nvPr/>
        </p:nvPicPr>
        <p:blipFill>
          <a:blip r:embed="rId3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</a:t>
            </a: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bjetos geométricos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37160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 para traçar uma circunf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#define PI 3.1415926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int circle_points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Begin(GL_LINE_LOO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for (i = 0;i &lt; circle_points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angle = 2*PI*i/circle_poi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Vertex2f(cos(angle),sin(angl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</a:t>
            </a: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bjetos geométricos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Display list</a:t>
            </a: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37160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capsula um conjunto de rotinas da OpenGL para serem executadas posteriorm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nt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ções e variáveis são avaliadas e substi-tuídas por seus respectivos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vant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é possível modificar um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displa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Display list</a:t>
            </a: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371600"/>
            <a:ext cx="8839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definida agrupando as instruções entre as funções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NewList(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EndList(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a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isplay lis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executa através da rotina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CallList(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 O parâmetro identifica a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isplay list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 ser execut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Display list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37160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#define PI 3.1415926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#define CIRC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int circle_points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NewList(CIRC, GL_COMP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Begin(GL_LINE_LOO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for (i = 0; i &lt; circle_points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angle = 2*PI*i/circle_poi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Vertex2f(cos(angle), sin(angl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End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ão operações necessárias para converter objetos definidos em um espaço 3D para um espaço 2D (tela do computad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spectos a serem consider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l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View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14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perações com as matrizes de transformação são realizadas através de duas pil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Modelview </a:t>
            </a:r>
            <a:r>
              <a:rPr b="0" lang="pt-BR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odelagem e visu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Projectio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roj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utilizar a metodologia de pil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rganizar a seqüência de operações sobre as matrizes de trans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cilitar a construção de modelos hierárqu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17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rotina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MatrixMode()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pecifica qual é a pilha a ser modificada, através dos argumentos </a:t>
            </a:r>
            <a:r>
              <a:rPr b="0" lang="pt-BR" sz="3000" spc="-1" strike="noStrike">
                <a:solidFill>
                  <a:srgbClr val="ffff99"/>
                </a:solidFill>
                <a:latin typeface="Courier New"/>
              </a:rPr>
              <a:t>GL_MODELVIEW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0" lang="pt-BR" sz="3000" spc="-1" strike="noStrike">
                <a:solidFill>
                  <a:srgbClr val="ffff99"/>
                </a:solidFill>
                <a:latin typeface="Courier New"/>
              </a:rPr>
              <a:t>GL_PROJ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controle sobre a pilha é realizado pelas rotinas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PushMatrix(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PopMatrix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20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O que será abord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s geomé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isu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rame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endParaRPr b="1" lang="en-US" sz="4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52" name="ogl_preto" descr=""/>
          <p:cNvPicPr/>
          <p:nvPr/>
        </p:nvPicPr>
        <p:blipFill>
          <a:blip r:embed="rId2"/>
          <a:stretch/>
        </p:blipFill>
        <p:spPr>
          <a:xfrm>
            <a:off x="792468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371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elagem e visu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4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133720"/>
            <a:ext cx="8839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âmera e objetos são originalmente posicionados na orig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422520"/>
            <a:ext cx="3657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Translate*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Rotate*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Scale*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1828440" y="36576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267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62720" y="2895480"/>
          <a:ext cx="3124080" cy="27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895480"/>
                    <a:ext cx="3124080" cy="2718000"/>
                  </a:xfrm>
                  <a:prstGeom prst="rect">
                    <a:avLst/>
                  </a:prstGeom>
                  <a:ln w="1260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9" name="ogl_preto" descr=""/>
          <p:cNvPicPr/>
          <p:nvPr/>
        </p:nvPicPr>
        <p:blipFill>
          <a:blip r:embed="rId4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37160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Proj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OpenGL provê dois tipos de projeção para definir o volume de visualiz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6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Persp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6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Orto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5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32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3716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rojeção perspectiv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através da rotina 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Frustum(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defi-ne um volume de visualização onde a projeção do objeto é reduzida a medida que ele é afastado da câ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6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35" name="perspectiva" descr=""/>
          <p:cNvPicPr/>
          <p:nvPr/>
        </p:nvPicPr>
        <p:blipFill>
          <a:blip r:embed="rId2"/>
          <a:stretch/>
        </p:blipFill>
        <p:spPr>
          <a:xfrm>
            <a:off x="1066680" y="2749680"/>
            <a:ext cx="6553440" cy="3727440"/>
          </a:xfrm>
          <a:prstGeom prst="rect">
            <a:avLst/>
          </a:prstGeom>
          <a:ln w="12600">
            <a:solidFill>
              <a:srgbClr val="ffff99"/>
            </a:solidFill>
            <a:miter/>
          </a:ln>
        </p:spPr>
      </p:pic>
      <p:pic>
        <p:nvPicPr>
          <p:cNvPr id="136" name="ogl_preto" descr=""/>
          <p:cNvPicPr/>
          <p:nvPr/>
        </p:nvPicPr>
        <p:blipFill>
          <a:blip r:embed="rId3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3716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rojeção ortogon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através da rotina 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Ortho(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define um volume de visualização onde a projeção do objeto não é afetada pela sua distância em relação à câ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7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39" name="ortogonal" descr=""/>
          <p:cNvPicPr/>
          <p:nvPr/>
        </p:nvPicPr>
        <p:blipFill>
          <a:blip r:embed="rId2"/>
          <a:stretch/>
        </p:blipFill>
        <p:spPr>
          <a:xfrm>
            <a:off x="1044720" y="2736720"/>
            <a:ext cx="6575400" cy="3740400"/>
          </a:xfrm>
          <a:prstGeom prst="rect">
            <a:avLst/>
          </a:prstGeom>
          <a:ln w="12600">
            <a:solidFill>
              <a:srgbClr val="ffff99"/>
            </a:solidFill>
            <a:miter/>
          </a:ln>
        </p:spPr>
      </p:pic>
      <p:pic>
        <p:nvPicPr>
          <p:cNvPr id="140" name="ogl_preto" descr=""/>
          <p:cNvPicPr/>
          <p:nvPr/>
        </p:nvPicPr>
        <p:blipFill>
          <a:blip r:embed="rId3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13716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Matriz de transformação atual (CTM - </a:t>
            </a: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Current Transformation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Visualiz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8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43400"/>
            <a:ext cx="8839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View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a rotina 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Viewport(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define uma correspon-dência entre as vértices transformados e os pixels da t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55600" y="2422440"/>
          <a:ext cx="6769080" cy="19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5600" y="2422440"/>
                    <a:ext cx="6769080" cy="1920960"/>
                  </a:xfrm>
                  <a:prstGeom prst="rect">
                    <a:avLst/>
                  </a:prstGeom>
                  <a:ln w="1260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6" name="ogl_preto" descr=""/>
          <p:cNvPicPr/>
          <p:nvPr/>
        </p:nvPicPr>
        <p:blipFill>
          <a:blip r:embed="rId4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Visualização - Exemplo 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9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4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1219320"/>
            <a:ext cx="4267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#include &lt;GL/glut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oid display(void)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ClearColor (1.0, 1.0, 1.0, 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Clear (GL_COLOR_BUFFER_BI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Color3f (0.0, 0.0, 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LoadIdentity ()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Translatef(0.0,0.0,-3.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WireCube (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PushMatrix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Translatef(2.0,0.0,-3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WireCube (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1219320"/>
            <a:ext cx="44956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PushMatrix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Translatef(-2.0,0.0,-3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WireCube (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Flush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oid reshape (int w, int h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Viewport (0, 0, (GLsizei) w, (GLsizei) 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MatrixMode (GL_PROJEC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LoadIdentit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 glFrustum (-1.0, 1.0, -1.0, 1.0, 1.5, 2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Ortho (-3.0, 3.0, -3.0, 3.0, 1.5, 2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MatrixMode (GL_MODELVIE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219320"/>
            <a:ext cx="0" cy="5333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Visualização - Exemplo 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0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53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0880" y="1338120"/>
            <a:ext cx="510552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t main(int argc, char** 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Init(&amp;argc, arg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InitDisplayMode (GLUT_SINGLE | GLUT_RG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InitWindowSize (400, 40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InitWindowPosition (10, 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CreateWindow (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DisplayFunc(display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ReshapeFunc(reshap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utMainLo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Visualização - Exemplo 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1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56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pic>
        <p:nvPicPr>
          <p:cNvPr id="157" name="cubos_orto" descr=""/>
          <p:cNvPicPr/>
          <p:nvPr/>
        </p:nvPicPr>
        <p:blipFill>
          <a:blip r:embed="rId3"/>
          <a:stretch/>
        </p:blipFill>
        <p:spPr>
          <a:xfrm>
            <a:off x="534960" y="1905120"/>
            <a:ext cx="3656160" cy="365580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158" name="cubos_pers" descr=""/>
          <p:cNvPicPr/>
          <p:nvPr/>
        </p:nvPicPr>
        <p:blipFill>
          <a:blip r:embed="rId4"/>
          <a:stretch/>
        </p:blipFill>
        <p:spPr>
          <a:xfrm>
            <a:off x="4878360" y="1906560"/>
            <a:ext cx="3656160" cy="365616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609480" y="56386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rojeção orto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56386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rojeção persp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sui dois modos de c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RGBA</a:t>
            </a: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Red, Green, Blue, Alpha</a:t>
            </a: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Index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 seleção do modo de cor é feita pela interface responsável pelo gerenciamento das janelas. Na GLUT, a seleção do modo de cor é feita pela rotina </a:t>
            </a:r>
            <a:r>
              <a:rPr b="0" lang="pt-BR" sz="3000" spc="-1" strike="noStrike">
                <a:solidFill>
                  <a:srgbClr val="ffff99"/>
                </a:solidFill>
                <a:latin typeface="Courier New"/>
              </a:rPr>
              <a:t>glutInitDisplayMode()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Co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63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G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componentes variam de 0 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component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lpha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utilizada, e. g.,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operações de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pa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glColor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utilizadas para definir cada compo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Co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66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Hist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meiros padrões gráfic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Script page descrip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o e gráficos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Windo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HIG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mer’s Hierarchical Interactive Graphics Syste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a no GK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phics Kernel Syste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scrições de objetos 3D em uma 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ispla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ris 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face gráfica independente de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Introdução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55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ex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 um mapa de 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GLUT provê a rotina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utSetColor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Esta rotina define as componentes primárias para um determinado índice no mapa de 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Index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elecionam um determinado índice no mapa de 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Co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69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do modo RG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200" spc="-1" strike="noStrike">
                <a:solidFill>
                  <a:srgbClr val="ffff99"/>
                </a:solidFill>
                <a:latin typeface="Courier New"/>
              </a:rPr>
              <a:t>glShadeModel(GL_SMOOTH);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Begin(GL_TRIANGL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Color3f(1.0,0.0,0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Vertex2f(5.0,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Color3f(0.0,1.0,0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Vertex2f(25.0,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Color3f(0.0,0.0,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Vertex2f(5.0,25.0);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l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- Cor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– </a:t>
            </a: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Exemplo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4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72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50840" y="4648320"/>
            <a:ext cx="914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O modo de preenchimento é definido pela rotina </a:t>
            </a:r>
            <a:r>
              <a:rPr b="0" lang="pt-BR" sz="2200" spc="-1" strike="noStrike">
                <a:solidFill>
                  <a:srgbClr val="ffff99"/>
                </a:solidFill>
                <a:latin typeface="Courier New"/>
              </a:rPr>
              <a:t>glShadeModel()</a:t>
            </a:r>
            <a:r>
              <a:rPr b="0" lang="pt-BR" sz="22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 através do argumento </a:t>
            </a:r>
            <a:r>
              <a:rPr b="0" lang="pt-BR" sz="2200" spc="-1" strike="noStrike">
                <a:solidFill>
                  <a:srgbClr val="ffff99"/>
                </a:solidFill>
                <a:latin typeface="Courier New"/>
              </a:rPr>
              <a:t>GL_SMOOTH</a:t>
            </a:r>
            <a:r>
              <a:rPr b="0" lang="pt-BR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(método </a:t>
            </a:r>
            <a:r>
              <a:rPr b="0" i="1" lang="pt-BR" sz="2200" spc="-1" strike="noStrike">
                <a:solidFill>
                  <a:srgbClr val="ffffff"/>
                </a:solidFill>
                <a:latin typeface="Arial"/>
              </a:rPr>
              <a:t>Gouraud Shading)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 ou  </a:t>
            </a:r>
            <a:r>
              <a:rPr b="0" lang="pt-BR" sz="2200" spc="-1" strike="noStrike">
                <a:solidFill>
                  <a:srgbClr val="ffff99"/>
                </a:solidFill>
                <a:latin typeface="Courier New"/>
              </a:rPr>
              <a:t>GL_FLAT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 (a cor de um vértice é utilizado para o preenchimen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mooth" descr=""/>
          <p:cNvPicPr/>
          <p:nvPr/>
        </p:nvPicPr>
        <p:blipFill>
          <a:blip r:embed="rId3"/>
          <a:stretch/>
        </p:blipFill>
        <p:spPr>
          <a:xfrm>
            <a:off x="1066680" y="1371600"/>
            <a:ext cx="2860920" cy="286056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176" name="smooth2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2860560" cy="286056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066680" y="4267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GL_SM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267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GL_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- Cor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– </a:t>
            </a: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Exemplo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5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8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137160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OpenGL utiliza o modelo de iluminação de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h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8862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ecessário especifi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496960"/>
            <a:ext cx="601992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riedades dos mater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ores nor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es (emitida,  ambiente,    difusa, espe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ntes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po (pontual, direcional ou amb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2590920" y="2666880"/>
            <a:ext cx="457200" cy="3657600"/>
          </a:xfrm>
          <a:custGeom>
            <a:avLst/>
            <a:gdLst>
              <a:gd name="textAreaLeft" fmla="*/ 0 w 457200"/>
              <a:gd name="textAreaRight" fmla="*/ 164880 w 4572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87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es de ilumin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mitida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eniente de um obje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Ambien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m fonte de luz específica, proveniente das várias reflexões nas superfícies da cen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Difusa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eniente de uma direção específica, reflete em todas as direçõ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90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es de iluminação (continua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specul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eniente de uma direção específica, reflete em uma direção específ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ponentes ambiente e difusa definem a cor do objeto e a componente especular define o bri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4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93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04920" y="13716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o a OpenGL aproxima uma iluminação artificial da iluminação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compondo cada componente de iluminação em componentes primárias R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5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96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1371600"/>
            <a:ext cx="8839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al o significado dos valores das compo-nentes RGB para a fonte de luz e para o materia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a fonte de luz correspondem à porcentagem emitida de cada compo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o material correspondem à porcentagem refletida de cada compo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6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199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pic>
        <p:nvPicPr>
          <p:cNvPr id="200" name="material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3792600" cy="284292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graphicFrame>
        <p:nvGraphicFramePr>
          <p:cNvPr id="201" name=""/>
          <p:cNvGraphicFramePr/>
          <p:nvPr/>
        </p:nvGraphicFramePr>
        <p:xfrm>
          <a:off x="811080" y="1219320"/>
          <a:ext cx="3684600" cy="162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1080" y="1219320"/>
                    <a:ext cx="3684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76320" y="2857680"/>
          <a:ext cx="3343320" cy="163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857680"/>
                    <a:ext cx="334332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320" y="4516560"/>
          <a:ext cx="5052960" cy="203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4516560"/>
                    <a:ext cx="50529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429000" y="2854440"/>
          <a:ext cx="1698480" cy="16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2854440"/>
                    <a:ext cx="169848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7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10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Fontes de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Fonte pontu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é uma fonte que irradia energia luminosa em todas dire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Fonte direcional (</a:t>
            </a: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spot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)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tem uma direção principal na qual ocorre a máxima concentração de 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Light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utilizadas para especi-ficar o tipo, a posição e as componentes da fonte de lu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OpenG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cessora da biblioteca gráfica IRIS GL, ambas desenvolvidas pela Silicon Graphics, Inc. (SG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Órgão manten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B (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penGL Architecture Review Boar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dependente que administra o uso da OpenGL, formada por diversas empresas 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Introdução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5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5867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ntes dire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8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15" name="spots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572000" cy="457200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9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17" name="ogl_preto" descr=""/>
          <p:cNvPicPr/>
          <p:nvPr/>
        </p:nvPicPr>
        <p:blipFill>
          <a:blip r:embed="rId2"/>
          <a:stretch/>
        </p:blipFill>
        <p:spPr>
          <a:xfrm>
            <a:off x="7770960" y="5943600"/>
            <a:ext cx="1218960" cy="538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Mater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Material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utilizadas para definir as propriedades dos materiais especificando os valores RGB para cada componente de ilumin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Normal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terminam a orientação relativa do objeto em relação às fontes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0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21" name="lightlab0" descr=""/>
          <p:cNvPicPr/>
          <p:nvPr/>
        </p:nvPicPr>
        <p:blipFill>
          <a:blip r:embed="rId3"/>
          <a:stretch/>
        </p:blipFill>
        <p:spPr>
          <a:xfrm>
            <a:off x="2287440" y="1449360"/>
            <a:ext cx="4570560" cy="457056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1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24" name="lightlab5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570560" cy="457020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2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27" name="lightlab3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570560" cy="457020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3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30" name="lightlab2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570560" cy="457020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Iluminação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4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33" name="lightlab1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564080" cy="456408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Iluminação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5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35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lgumas consider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LightModel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screvem os parâmetros de um modelo de iluminação como, e.g., intensidade da luz ambiente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otinas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Enable(GL_LIGHTING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Enable(GL_LIGHT</a:t>
            </a:r>
            <a:r>
              <a:rPr b="0" i="1" lang="pt-BR" sz="28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respectivamente habilitam o modelo de iluminação e uma          determinada fonte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3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5228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OpenGL utiliza o conceito de coordenadas de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ão associadas aos vé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 área onde não há vértices definidos as coordenadas de textura são interpol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da pixel do fragmento referencia um te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4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5228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ais aspectos para mapear uma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ficar a 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necer as coordenadas geométricas e as coordenadas de 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r como a textura será aplicada em cada pix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O que é a OpenG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L” signific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Graphics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face de programação para aplicações gráficas 2D ou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drão destinado somente à render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dependente do sistema de jan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LX (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OpenGL Extension for X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LUT (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OpenGL Utility Toolk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lavras reservadas começam com                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_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Introdução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6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44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5228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pecificar a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texel pode consistir de um a quatro compo-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de-se descrever uma mesma  textura em diferentes resoluções (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mipmap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mensões devem ser definidas em potência de 2  (e.g. 32x8, 16x4, 8x2, 4x1, 2x1 e 1x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rotina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TexImage*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fine uma 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Textura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4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48" name="mipmap" descr=""/>
          <p:cNvPicPr/>
          <p:nvPr/>
        </p:nvPicPr>
        <p:blipFill>
          <a:blip r:embed="rId3"/>
          <a:stretch/>
        </p:blipFill>
        <p:spPr>
          <a:xfrm>
            <a:off x="5597640" y="1828800"/>
            <a:ext cx="3394080" cy="365760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152280" y="1371600"/>
            <a:ext cx="5334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TexImage2D(GL_TEXTURE_2D, 0, 3, 32, 32, 0, GL_RGB, GL_UNSIGNED_BYTE, &amp;mipmapImage32[0][0][0]);    glTexImage2D(GL_TEXTURE_2D, 1, 3, 16, 16, 0, GL_RGB, GL_UNSIGNED_BYTE, &amp;mipmapImage16[0][0][0]);    glTexImage2D(GL_TEXTURE_2D, 2, 3, 8, 8, 0, GL_RGB, GL_UNSIGNED_BYTE, &amp;mipmapImage8[0][0][0]);    glTexImage2D(GL_TEXTURE_2D, 3, 3, 4, 4, 0, GL_RGB, GL_UNSIGNED_BYTE, &amp;mipmapImage4[0][0][0]);    glTexImage2D(GL_TEXTURE_2D, 4, 3, 2, 2, 0, GL_RGB, GL_UNSIGNED_BYTE, &amp;mipmapImage2[0][0][0]);    glTexImage2D(GL_TEXTURE_2D, 5, 3, 1, 1, 0,GL_RGB, GL_UNSIGNED_BYTE, &amp;mipmapImage1[0][0]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5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5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ficar as coordenadas de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r a proporção entre as dimensões da textura e do fragmento para evitar distorções. Geralmente as coordenadas variam de 0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09880"/>
            <a:ext cx="5943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TexCoord2f(0.0, 0.0)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lVertex3f(0.0, 0.0, 0.0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TexCoord2f(0.0, 1.0)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lVertex3f(0.0, 2.0, 0.0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TexCoord2f(1.0, 1.0)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lVertex3f(2.0, 2.0, 0.0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TexCoord2f(1.0, 0.0)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lVertex3f(2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6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55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icar como será aplicada o te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_DEC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troca a cor do fragmento pela cor da 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_MODULAT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escala a cor do fragmento pela cor da 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_BLEN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interpola entre a cor do fragmento e a cor da 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rotina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TexEnv*(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define esta função de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228600" y="2362320"/>
          <a:ext cx="8763120" cy="26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8763120" cy="263520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Textura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7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8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62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icar como será mapeada a textura em relação ao frag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icar como as cores serão filtradas se não houver uma associação entre os pixels na textura e os pixels na t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rotina </a:t>
            </a:r>
            <a:r>
              <a:rPr b="0" lang="pt-BR" sz="3200" spc="-1" strike="noStrike">
                <a:solidFill>
                  <a:srgbClr val="ffff99"/>
                </a:solidFill>
                <a:latin typeface="Courier New"/>
              </a:rPr>
              <a:t>glTexParameter*(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define estas funções de mapeamento de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304920" y="2133720"/>
          <a:ext cx="1973160" cy="20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133720"/>
                    <a:ext cx="1973160" cy="200340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6865920" y="2133720"/>
          <a:ext cx="1973160" cy="200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65920" y="2133720"/>
                    <a:ext cx="1973160" cy="200340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589200" y="2133720"/>
          <a:ext cx="1973520" cy="20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9200" y="2133720"/>
                    <a:ext cx="1973520" cy="200340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 flipH="1">
            <a:off x="5791320" y="3124080"/>
            <a:ext cx="838080" cy="0"/>
          </a:xfrm>
          <a:prstGeom prst="line">
            <a:avLst/>
          </a:prstGeom>
          <a:ln w="15840">
            <a:solidFill>
              <a:srgbClr val="ffff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514600" y="3124080"/>
            <a:ext cx="838080" cy="0"/>
          </a:xfrm>
          <a:prstGeom prst="line">
            <a:avLst/>
          </a:prstGeom>
          <a:ln w="15840">
            <a:solidFill>
              <a:srgbClr val="ffff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05720" y="4267080"/>
            <a:ext cx="2286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_REPE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TexCoord2f(0.0, 0.0); glTexCoord2f(0.0, 3.0); glTexCoord2f(3.0, 3.0); glTexCoord2f(3.0, 0.0)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4267080"/>
            <a:ext cx="2286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_CL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TexCoord2f(0.0, 0.0); glTexCoord2f(0.0, 1.0); glTexCoord2f(1.0, 1.0); glTexCoord2f(1.0, 0.0)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267080"/>
            <a:ext cx="2286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_CL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lTexCoord2f(0.0, 0.0); glTexCoord2f(0.0, 3.0); glTexCoord2f(3.0, 3.0); glTexCoord2f(3.0, 0.0)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Textura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9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Textura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0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0720" y="2514600"/>
          <a:ext cx="2717640" cy="28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14600"/>
                    <a:ext cx="2717640" cy="288612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516640" y="2514600"/>
          <a:ext cx="2712960" cy="28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6640" y="2514600"/>
                    <a:ext cx="2712960" cy="284940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2280" y="13716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ragem da 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02800"/>
                </a:solidFill>
                <a:latin typeface="Times New Roman"/>
              </a:rPr>
              <a:t>OpenGL – Textura - Exemplo</a:t>
            </a:r>
            <a:r>
              <a:rPr b="1" i="1" lang="pt-BR" sz="36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502800"/>
                </a:solidFill>
                <a:latin typeface="Times New Roman"/>
              </a:rPr>
              <a:t>(11)</a:t>
            </a:r>
            <a:endParaRPr b="1" lang="en-US" sz="1800" spc="-1" strike="noStrike">
              <a:solidFill>
                <a:srgbClr val="5028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03200" y="2362320"/>
          <a:ext cx="2644920" cy="26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00" y="2362320"/>
                    <a:ext cx="2644920" cy="2644560"/>
                  </a:xfrm>
                  <a:prstGeom prst="rect">
                    <a:avLst/>
                  </a:prstGeom>
                  <a:ln w="2556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172200" y="2362320"/>
          <a:ext cx="2641680" cy="26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2641680" cy="2641320"/>
                  </a:xfrm>
                  <a:prstGeom prst="rect">
                    <a:avLst/>
                  </a:prstGeom>
                  <a:ln w="2556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0" name="web" descr=""/>
          <p:cNvPicPr/>
          <p:nvPr/>
        </p:nvPicPr>
        <p:blipFill>
          <a:blip r:embed="rId7"/>
          <a:stretch/>
        </p:blipFill>
        <p:spPr>
          <a:xfrm>
            <a:off x="3851280" y="2914560"/>
            <a:ext cx="1406520" cy="1428840"/>
          </a:xfrm>
          <a:prstGeom prst="rect">
            <a:avLst/>
          </a:prstGeom>
          <a:ln w="6480">
            <a:solidFill>
              <a:srgbClr val="ffff99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388620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_NEA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_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95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1371600"/>
            <a:ext cx="8991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 conjunto de buffers que possui funções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de 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de profund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tenci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(sele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de acum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Introdução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4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Principais po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áquina de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értices são afetados pelo estado 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trizes de transformação, cor, iluminação, tex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encapsu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face 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dor especifica exatamente como a cena será renderi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da em várias linguagens (e.g. C, C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29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2280" y="13716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de 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o buffer utilizado para renderizar a imagem. Em alguns casos, como em animações, pode-se utilizar um buffer de cor auxiliar (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ouble buffe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741760" y="3429000"/>
          <a:ext cx="3963960" cy="30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429000"/>
                    <a:ext cx="3963960" cy="3017880"/>
                  </a:xfrm>
                  <a:prstGeom prst="rect">
                    <a:avLst/>
                  </a:prstGeom>
                  <a:ln w="158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3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303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280" y="137160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ffer de profund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o buffer utilizado para armazenar a coordenad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cada pixel (algoritm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 buff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triangles" descr=""/>
          <p:cNvPicPr/>
          <p:nvPr/>
        </p:nvPicPr>
        <p:blipFill>
          <a:blip r:embed="rId3"/>
          <a:stretch/>
        </p:blipFill>
        <p:spPr>
          <a:xfrm>
            <a:off x="2971800" y="3124080"/>
            <a:ext cx="3209760" cy="321012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4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307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52280" y="1371600"/>
            <a:ext cx="8991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stencil (sele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utilizado para selecionar determinadas áreas, conforme alguns tes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stenciltst" descr=""/>
          <p:cNvPicPr/>
          <p:nvPr/>
        </p:nvPicPr>
        <p:blipFill>
          <a:blip r:embed="rId3"/>
          <a:stretch/>
        </p:blipFill>
        <p:spPr>
          <a:xfrm>
            <a:off x="2960640" y="3048120"/>
            <a:ext cx="3211560" cy="321156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52280" y="1371600"/>
            <a:ext cx="8610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stencil (sele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hidline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760920" cy="376092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313" name="hidline2" descr=""/>
          <p:cNvPicPr/>
          <p:nvPr/>
        </p:nvPicPr>
        <p:blipFill>
          <a:blip r:embed="rId4"/>
          <a:stretch/>
        </p:blipFill>
        <p:spPr>
          <a:xfrm>
            <a:off x="5078520" y="2057400"/>
            <a:ext cx="3760560" cy="376092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5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6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316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52280" y="13716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ffer de acum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utilizado para trabalhar com diversas técnicas, como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antialiasing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ontion blu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campo de profund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blur" descr=""/>
          <p:cNvPicPr/>
          <p:nvPr/>
        </p:nvPicPr>
        <p:blipFill>
          <a:blip r:embed="rId3"/>
          <a:stretch/>
        </p:blipFill>
        <p:spPr>
          <a:xfrm>
            <a:off x="1009800" y="2895480"/>
            <a:ext cx="3181320" cy="318132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319" name="dof" descr=""/>
          <p:cNvPicPr/>
          <p:nvPr/>
        </p:nvPicPr>
        <p:blipFill>
          <a:blip r:embed="rId4"/>
          <a:stretch/>
        </p:blipFill>
        <p:spPr>
          <a:xfrm>
            <a:off x="4591080" y="2895480"/>
            <a:ext cx="3181320" cy="318132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 - Framebuffer</a:t>
            </a:r>
            <a:r>
              <a:rPr b="1" i="1" lang="pt-BR" sz="4400" spc="-1" strike="noStrike">
                <a:solidFill>
                  <a:srgbClr val="5028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502800"/>
                </a:solidFill>
                <a:latin typeface="Times New Roman"/>
              </a:rPr>
              <a:t>(7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pic>
        <p:nvPicPr>
          <p:cNvPr id="321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52280" y="13716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ffer de acum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accnot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3644640" cy="364464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324" name="accpersp" descr=""/>
          <p:cNvPicPr/>
          <p:nvPr/>
        </p:nvPicPr>
        <p:blipFill>
          <a:blip r:embed="rId4"/>
          <a:stretch/>
        </p:blipFill>
        <p:spPr>
          <a:xfrm>
            <a:off x="5011560" y="2133720"/>
            <a:ext cx="3675240" cy="367488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Introdução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5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Sintaxe das rot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glVertex</a:t>
            </a:r>
            <a:r>
              <a:rPr b="1" lang="en-US" sz="2600" spc="-1" strike="noStrike">
                <a:solidFill>
                  <a:srgbClr val="ffff99"/>
                </a:solidFill>
                <a:latin typeface="Courier New"/>
              </a:rPr>
              <a:t>3f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stiver presente, ind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o ve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po de d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uble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ed short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ed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componentes: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utros tipos de dados nas rotinas da 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igned short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u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igned by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igned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00040" y="2209680"/>
            <a:ext cx="68580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438280"/>
            <a:ext cx="0" cy="609840"/>
          </a:xfrm>
          <a:prstGeom prst="line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3048120"/>
            <a:ext cx="83808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438280"/>
            <a:ext cx="0" cy="2133720"/>
          </a:xfrm>
          <a:prstGeom prst="line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572000"/>
            <a:ext cx="53352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GLUT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1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99"/>
                </a:solidFill>
                <a:latin typeface="Arial"/>
              </a:rPr>
              <a:t>OpenGL Utility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m conjunto de rotinas que facilita a construção de aplicações que utilizam a Open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enciamento de jan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dução de objetos gráficos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de ev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lavras reservadas começam com </a:t>
            </a:r>
            <a:r>
              <a:rPr b="0" lang="pt-BR" sz="2800" spc="-1" strike="noStrike">
                <a:solidFill>
                  <a:srgbClr val="ffff99"/>
                </a:solidFill>
                <a:latin typeface="Courier New"/>
              </a:rPr>
              <a:t>gl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cutável em várias plata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502800"/>
                </a:solidFill>
                <a:latin typeface="Times New Roman"/>
              </a:rPr>
              <a:t>OpenGL</a:t>
            </a:r>
            <a:r>
              <a:rPr b="1" lang="en-US" sz="4400" spc="-1" strike="noStrike">
                <a:solidFill>
                  <a:srgbClr val="502800"/>
                </a:solidFill>
                <a:latin typeface="Times New Roman"/>
              </a:rPr>
              <a:t> - GLUT </a:t>
            </a:r>
            <a:r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(2)</a:t>
            </a:r>
            <a:endParaRPr b="1" lang="en-US" sz="2400" spc="-1" strike="noStrike">
              <a:solidFill>
                <a:srgbClr val="5028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is  rotinas para gerenciamento de jan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icializa e seleciona atributos da janela (e.g. dimensões, buffers, modo de c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In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InitDisplayMode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InitWindowSiz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InitWindowPosi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 a janela e o contexto de renderizaçã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urier New"/>
              </a:rPr>
              <a:t>glutCreateWind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ogl_preto" descr=""/>
          <p:cNvPicPr/>
          <p:nvPr/>
        </p:nvPicPr>
        <p:blipFill>
          <a:blip r:embed="rId2"/>
          <a:stretch/>
        </p:blipFill>
        <p:spPr>
          <a:xfrm>
            <a:off x="7923240" y="5943600"/>
            <a:ext cx="1219320" cy="53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03:54:29Z</dcterms:created>
  <dc:creator>Bicho</dc:creator>
  <dc:description/>
  <dc:language>en-US</dc:language>
  <cp:lastModifiedBy>bicho</cp:lastModifiedBy>
  <cp:lastPrinted>2000-06-06T20:15:16Z</cp:lastPrinted>
  <dcterms:modified xsi:type="dcterms:W3CDTF">2000-10-27T17:13:31Z</dcterms:modified>
  <cp:revision>404</cp:revision>
  <dc:subject/>
  <dc:title>OpenGL</dc:title>
</cp:coreProperties>
</file>