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5.jpeg" ContentType="image/jpeg"/>
  <Override PartName="/ppt/media/image4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25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271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0724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271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0724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0724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271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59984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59984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0724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0724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0724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271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5998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271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271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271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271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0724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271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0724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271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0724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914400"/>
            <a:ext cx="9144000" cy="5943600"/>
          </a:xfrm>
          <a:prstGeom prst="horizontalScroll">
            <a:avLst>
              <a:gd name="adj" fmla="val 486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5998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8229600" y="64911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39FBF-20E7-45B7-B54D-EE2098053F78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746800" y="6521400"/>
            <a:ext cx="374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IBGRAPI’2000 - Gramado, Outubro/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DIGITAR.WAV" TargetMode="External"/><Relationship Id="rId2" Type="http://schemas.microsoft.com/office/2007/relationships/media" Target="file:///tmp/home/.config/libreoffice/4/user/gallery/DIGITAR.WAV" TargetMode="External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4920" y="2971800"/>
            <a:ext cx="883908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VRML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Virtual Reality Modeling Languag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143000" y="2743200"/>
            <a:ext cx="7010280" cy="2209680"/>
          </a:xfrm>
          <a:prstGeom prst="octagon">
            <a:avLst>
              <a:gd name="adj" fmla="val 29287"/>
            </a:avLst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RML - Tipos de Nó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381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ométr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em forma e aparência dos obje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empl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ape: define objeto 3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hape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eometry &lt;nó geométrico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ppearance &lt;nó Appearance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...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200400" y="3581280"/>
            <a:ext cx="4038480" cy="2819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RML - Tipos de Nó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381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ométr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emplo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cont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x: define uma caixa centrada na orig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ox { size 2 2 2 }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box" descr=""/>
          <p:cNvPicPr/>
          <p:nvPr/>
        </p:nvPicPr>
        <p:blipFill>
          <a:blip r:embed="rId1"/>
          <a:stretch/>
        </p:blipFill>
        <p:spPr>
          <a:xfrm>
            <a:off x="3352680" y="3429000"/>
            <a:ext cx="3362400" cy="310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5410080" y="2438280"/>
            <a:ext cx="3581640" cy="3962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RML - Tipos de Nó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381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ométr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emplo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cont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e: define cone centrado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a orig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ne {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ottomRadius 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height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ide TR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ottom TR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cone" descr=""/>
          <p:cNvPicPr/>
          <p:nvPr/>
        </p:nvPicPr>
        <p:blipFill>
          <a:blip r:embed="rId1"/>
          <a:stretch/>
        </p:blipFill>
        <p:spPr>
          <a:xfrm>
            <a:off x="5486400" y="2590920"/>
            <a:ext cx="3390840" cy="3676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RML - Tipos de Nó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381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ométr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emplo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cont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ylin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xedLine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xedFace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RML - Tipos de Nó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381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arênc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e propriedades visuais das figuras geométric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emp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earanc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ppearance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aterial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U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xture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U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xtureTransform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UL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RML - Tipos de Nó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381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âme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e ponto de vista do usuário (posição e orientação da câmera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emp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ewpoint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Viewpoint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ieldOfView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0.78539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rientation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0 0 1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osition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0 0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...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RML - Tipos de Nó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381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uminaç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empl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intLight: define uma fonte de luz pontual, iluminando igualmente  todas as direções, localizada em um ponto fixo do espaç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rectionalLight: fonte direcional, com raios paralel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otLight: cone direcional de ilumin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RML - Tipos de Nó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1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381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uminaç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emplo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cont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otL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potLight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lor 1 1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cation 0 0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irection 0 0 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adius 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utOffAngle 0.78539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eamWidth 1.57079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n TRUE (...) 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spotlight" descr=""/>
          <p:cNvPicPr/>
          <p:nvPr/>
        </p:nvPicPr>
        <p:blipFill>
          <a:blip r:embed="rId1"/>
          <a:stretch/>
        </p:blipFill>
        <p:spPr>
          <a:xfrm>
            <a:off x="4952880" y="1981080"/>
            <a:ext cx="3772080" cy="2828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RML - Tipos de Nó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1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95280" y="2057040"/>
            <a:ext cx="69343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nso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polado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ri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RML - Exemplo 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(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33520" y="1219320"/>
            <a:ext cx="350496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#VRML V2.0 utf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Viewpoint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osition    0 1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orientation 1 0 0 -0.2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fieldOfView 0.785398 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ointLight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location 0 10 0 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#Caixa vermelh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Transform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translation 2 0 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children [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Shap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geometry Box { size .5 1 1 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appearance Appearanc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material Material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diffuseColor 1 0 0 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]  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419720" y="1173240"/>
            <a:ext cx="47242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#Esfera amarel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Transform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translation -2 0 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children [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Shap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geometry Sphere { radius 0.7 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appearance Appearanc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material Material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diffuseColor 1 1 0 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  ] 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# Tex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Transform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translation 0 -4 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children [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Shap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geometry Text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string [" teste "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fontStyle FontStyl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style "ITALIC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justify "MIDDLE" }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length [6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maxExtent 10 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}         ] 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191120" y="1325520"/>
            <a:ext cx="0" cy="5181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RML - Introdução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rgiu da necessidade de prover um formato gráfico 3D para a We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elo similar à 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guagem text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pendente de platafor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nguagem escolhida como referência: Open Inven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RML - Exemplo 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fig_vrml" descr=""/>
          <p:cNvPicPr/>
          <p:nvPr/>
        </p:nvPicPr>
        <p:blipFill>
          <a:blip r:embed="rId1"/>
          <a:stretch/>
        </p:blipFill>
        <p:spPr>
          <a:xfrm>
            <a:off x="1523880" y="1828800"/>
            <a:ext cx="6400800" cy="45576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2816280" y="1219320"/>
            <a:ext cx="393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Visualização do exemplo anteri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RML - Exemplo 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(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2362320"/>
            <a:ext cx="1218960" cy="5331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View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057400" y="2362320"/>
            <a:ext cx="1219320" cy="5331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ointLigh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733920" y="2362320"/>
            <a:ext cx="1218960" cy="5331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Transfor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543800" y="2362320"/>
            <a:ext cx="1219320" cy="5331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Transfor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562720" y="2362320"/>
            <a:ext cx="1218960" cy="5331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Transfor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733920" y="3352680"/>
            <a:ext cx="1218960" cy="5335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ha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562720" y="3352680"/>
            <a:ext cx="1218960" cy="5335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ha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543800" y="3352680"/>
            <a:ext cx="1219320" cy="5335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ha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343400" y="2895480"/>
            <a:ext cx="0" cy="381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172200" y="2895480"/>
            <a:ext cx="0" cy="381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53280" y="2895480"/>
            <a:ext cx="0" cy="381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543800" y="4495680"/>
            <a:ext cx="1219320" cy="5335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153280" y="388620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543800" y="5638680"/>
            <a:ext cx="1219320" cy="5335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FontSty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8153280" y="502920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791320" y="4495680"/>
            <a:ext cx="1447560" cy="5335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267080" y="4495680"/>
            <a:ext cx="1219320" cy="5335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phe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3886200"/>
            <a:ext cx="228600" cy="533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4876920" y="3886200"/>
            <a:ext cx="1295280" cy="533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867280" y="5562720"/>
            <a:ext cx="1219320" cy="5331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te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477120" y="50292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514600" y="4495680"/>
            <a:ext cx="1447920" cy="5335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5562720"/>
            <a:ext cx="1218960" cy="5331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te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00400" y="50292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3200040" y="3886200"/>
            <a:ext cx="1219320" cy="533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914400" y="4419720"/>
            <a:ext cx="1219320" cy="5331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1447560" y="3886200"/>
            <a:ext cx="289548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815560" y="1371600"/>
            <a:ext cx="313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Grafo do exemplo anteri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RML - Reuso de Nó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ribuindo-se um nome a um nó (DEF), pode-se futuramente referenciá-lo por este nome (US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emp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EF Cone_Verde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eometry Cone {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ppearance Appearance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aterial Material { diffuseColor 0 1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USE Cone_Ver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RML - Prototipação e Criação de Cenas Distribuíd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totipação: criação de novos tipos nós a partir dos nós existen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nas distribuídas: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protótipo pode ser definido como arquivo remoto, cujo URL é da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fig_vrml" descr=""/>
          <p:cNvPicPr/>
          <p:nvPr/>
        </p:nvPicPr>
        <p:blipFill>
          <a:blip r:embed="rId1"/>
          <a:stretch/>
        </p:blipFill>
        <p:spPr>
          <a:xfrm>
            <a:off x="4952880" y="4800600"/>
            <a:ext cx="1295640" cy="9223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5106960" y="5791320"/>
            <a:ext cx="93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LI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bola_vrml" descr=""/>
          <p:cNvPicPr/>
          <p:nvPr/>
        </p:nvPicPr>
        <p:blipFill>
          <a:blip r:embed="rId2"/>
          <a:stretch/>
        </p:blipFill>
        <p:spPr>
          <a:xfrm>
            <a:off x="4267080" y="4343400"/>
            <a:ext cx="368280" cy="38088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4572000" y="4648320"/>
            <a:ext cx="762120" cy="38088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199680" y="4343400"/>
            <a:ext cx="101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ervidor 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texto_vrml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781200" cy="19836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4419720" y="5334120"/>
            <a:ext cx="914400" cy="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513880" y="5181480"/>
            <a:ext cx="101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ervidor 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cubo_vrml" descr=""/>
          <p:cNvPicPr/>
          <p:nvPr/>
        </p:nvPicPr>
        <p:blipFill>
          <a:blip r:embed="rId4"/>
          <a:stretch/>
        </p:blipFill>
        <p:spPr>
          <a:xfrm>
            <a:off x="6705720" y="4572000"/>
            <a:ext cx="323640" cy="4572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 flipH="1">
            <a:off x="5791320" y="4800600"/>
            <a:ext cx="914400" cy="30492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009920" y="46483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ervidor 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38280" y="4191120"/>
            <a:ext cx="5715000" cy="19047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RML - Exemplo 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(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14400" y="1981080"/>
            <a:ext cx="2971800" cy="32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#VRML V2.0 utf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Viewpoint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osition    0 0 10 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ointLight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location 0  0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ambientIntensity 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attenuation 1 0 0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color 1 1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intensity 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on TR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radius 20 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724280" y="1828800"/>
            <a:ext cx="3733920" cy="41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#Cone ver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Transform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children [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DEF Cone_Verde Shap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geometry Cone { 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appearance Appearanc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material Material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diffuseColor 0 1 0 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#Reutilização do C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Transform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translation 2 0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children USE Cone_Ver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191120" y="1325520"/>
            <a:ext cx="0" cy="5181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RML - Exemplo 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16280" y="1219320"/>
            <a:ext cx="393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Visualização do exemplo anteri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vrml-ex02" descr=""/>
          <p:cNvPicPr/>
          <p:nvPr/>
        </p:nvPicPr>
        <p:blipFill>
          <a:blip r:embed="rId1"/>
          <a:stretch/>
        </p:blipFill>
        <p:spPr>
          <a:xfrm>
            <a:off x="1752480" y="1905120"/>
            <a:ext cx="6096240" cy="438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RML - Tipos de Parâmetros e Roteamento de Evento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Cada nó VRML define um nome, um tipo e um valor </a:t>
            </a:r>
            <a:r>
              <a:rPr b="0" i="1" lang="pt-BR" sz="3200" spc="-1" strike="noStrike">
                <a:solidFill>
                  <a:srgbClr val="000000"/>
                </a:solidFill>
                <a:latin typeface="Arial"/>
              </a:rPr>
              <a:t>default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para seus pa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â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metro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râmetro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ão os reponsáveis pela diferenciação de um nó de outro do mesmo tip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emp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eometry Sphere { radius 2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eometry Sphere { radius 3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RML - Tipos de Parâmetros e Roteamento de Evento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á dois tipos de parâmetros: campos (fields) e eventos (event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mpos podem ser modificávei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(exposedFields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u não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(field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xposedField = eventIn + field + event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RML - Tipos de Parâmetros e Roteamento de Evento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ventos sinalizam mudanças causadas por “estímulos externos” e podem ser propagados entre os nós do ambiente através de roteamentos que conectam um EventOut a um EventIn do mesmo tip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523880" y="4343400"/>
            <a:ext cx="144792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907640" y="5029200"/>
            <a:ext cx="102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Event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907640" y="4495680"/>
            <a:ext cx="102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Event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678680" y="3886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ó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038480" y="3809880"/>
            <a:ext cx="1447920" cy="1295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2895480" y="4266720"/>
            <a:ext cx="1219320" cy="381240"/>
          </a:xfrm>
          <a:prstGeom prst="line">
            <a:avLst/>
          </a:prstGeom>
          <a:ln w="57240">
            <a:solidFill>
              <a:srgbClr val="fe243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422240" y="4572000"/>
            <a:ext cx="102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Event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040280" y="4038480"/>
            <a:ext cx="86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Event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886200" y="5410080"/>
            <a:ext cx="1447920" cy="685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964320" y="5562720"/>
            <a:ext cx="86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Event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895480" y="5181480"/>
            <a:ext cx="1067040" cy="533520"/>
          </a:xfrm>
          <a:prstGeom prst="line">
            <a:avLst/>
          </a:prstGeom>
          <a:ln w="57240">
            <a:solidFill>
              <a:srgbClr val="fe243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412240" y="36576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ó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336280" y="579132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ó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477120" y="4343400"/>
            <a:ext cx="1447560" cy="685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554880" y="4495680"/>
            <a:ext cx="86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Event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410080" y="4724280"/>
            <a:ext cx="1219320" cy="0"/>
          </a:xfrm>
          <a:prstGeom prst="line">
            <a:avLst/>
          </a:prstGeom>
          <a:ln w="57240">
            <a:solidFill>
              <a:srgbClr val="fe243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317360" y="3886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ó 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RML - Tipos de Parâmetros e Roteamento de Evento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ventos gerados por sensores e interpoladores, roteados para nós geométricos, de iluminação ou de agrupamento, podem definir comportamentos dinâmicos para os elementos do ambi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533520" y="4038480"/>
            <a:ext cx="8305200" cy="2057400"/>
            <a:chOff x="533520" y="4038480"/>
            <a:chExt cx="8305200" cy="2057400"/>
          </a:xfrm>
        </p:grpSpPr>
        <p:sp>
          <p:nvSpPr>
            <p:cNvPr id="168" name=""/>
            <p:cNvSpPr/>
            <p:nvPr/>
          </p:nvSpPr>
          <p:spPr>
            <a:xfrm>
              <a:off x="533520" y="4724280"/>
              <a:ext cx="1828440" cy="99072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7960" y="4876920"/>
              <a:ext cx="16362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usuário clic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obre um objet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88320" y="4267080"/>
              <a:ext cx="153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TouchSens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895480" y="4800600"/>
              <a:ext cx="1828440" cy="99072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050280" y="4267080"/>
              <a:ext cx="1410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TimeSens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98000" y="5105520"/>
              <a:ext cx="57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star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734280" y="4876920"/>
              <a:ext cx="9489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 cad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ulso 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elógi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032440" y="4191120"/>
              <a:ext cx="21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PositionInterpolato</a:t>
              </a:r>
              <a:r>
                <a:rPr b="0" lang="pt-BR" sz="1800" spc="-1" strike="noStrike">
                  <a:solidFill>
                    <a:srgbClr val="ffff99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257800" y="4724280"/>
              <a:ext cx="1828440" cy="137160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172200" y="5029200"/>
              <a:ext cx="881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ov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osiçã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258520" y="4876920"/>
              <a:ext cx="128700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alcul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unçã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nterpolaçã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470000" y="4038480"/>
              <a:ext cx="1308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Nó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geométric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696080" y="4876920"/>
              <a:ext cx="1142640" cy="99036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7773840" y="518148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ov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61960" y="5257800"/>
              <a:ext cx="456840" cy="0"/>
            </a:xfrm>
            <a:prstGeom prst="line">
              <a:avLst/>
            </a:prstGeom>
            <a:ln w="57240">
              <a:solidFill>
                <a:srgbClr val="fe243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724280" y="5257800"/>
              <a:ext cx="456840" cy="0"/>
            </a:xfrm>
            <a:prstGeom prst="line">
              <a:avLst/>
            </a:prstGeom>
            <a:ln w="57240">
              <a:solidFill>
                <a:srgbClr val="fe243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086600" y="5334120"/>
              <a:ext cx="609120" cy="0"/>
            </a:xfrm>
            <a:prstGeom prst="line">
              <a:avLst/>
            </a:prstGeom>
            <a:ln w="57240">
              <a:solidFill>
                <a:srgbClr val="fe243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RML - Introdução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RML 1.0 (199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ção de cenas estát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RML 2.0 ou VRML97 (199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nas animad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ação com o usuá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ção com programas exter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RML - Sensore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Geram eventos baseados nas ações do usuá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empl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oximitySensor detecta quando o usuário está navegando em uma região próxima ao objeto de interes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VisibilitySensor detecta quando certa parte do mundo (área ou objeto específico) torna-se visível ao usuár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RML - Sensore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emplo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cont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imeSensor gera eventos como passos de tempo e em conjunto com interpoladores pode produzir animaçõ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imeSensor {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ycleinternal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nable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oo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A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artTi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opTi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RML - Sensore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emplo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cont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ouchSensor detecta quando um objeto do grupo do seu pai é ativado (clique do mouse, por exemplo).  Esse sensor gera um evento de saída chamado touchTime que pode disparar um timeSensor, iniciando uma animaçã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TouchSensor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{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enabled TR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RML - Interpoladore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Definem valores-chave que são interpolados de acordo com uma função lin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empl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itionInterpolator permite realizar uma animação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eyfra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m uma localização no espaço 3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ositionInterpolator {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key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[0, .5, 1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keyValu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[0 0 0, 0 10 0, 0 0 0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]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RML - Interpoladore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emplo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cont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rdinateInterpolator interpola uma lista de coordena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Interpolator interpola uma lista de valores de c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ientationInterpolator interpola uma lista de valores de rot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RML - Exemplo 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(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3810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#VRML V2.0 utf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 Quando a bola for tocada (mouse) o tex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á mover-se na horizontal e quando a caixa for tocada o texto irá mover-se na ver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iewpoint { position 0 0 50 }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 observad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oup {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ildren 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[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Transform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{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nslation -4 8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ildren 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[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Shap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{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 bo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eometry Sphere { radius 1.5 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earance Appearanc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terial Material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ffuseColor .73 .56 .56 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419720" y="1676520"/>
            <a:ext cx="449568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 Sensor da bo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F STOUCH TouchSensor { }  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]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nsform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nslation 4 8 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ildren 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[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Shap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eometry Box { size 2 2 2 }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 caix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earance Appearen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material Material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{ diffuseColor 0 1 0 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 Sensor da caix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F BTOUCH TouchSensor { }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]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 Sensores de Tempo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F XTIMERH TimeSensor {  cycleInternal 2 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F XTIMERV TimeSensor {  cycleInternal 2 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343400" y="1295280"/>
            <a:ext cx="0" cy="5181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RML - Exemplo 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419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# Interpolado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# Horizont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 ANIMAH PositionInterpolator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ey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[ 0, .25, .5, .75, 1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eyValue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[ 0 0 0, 8 0 0, 16 0 0, -8 0 0, 0 0 0 ]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# Vertic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 ANIMAV PositionInterpolator { </a:t>
            </a:r>
            <a:r>
              <a:rPr b="0" lang="en-US" sz="1600" spc="-1" strike="noStrike">
                <a:solidFill>
                  <a:srgbClr val="fe2439"/>
                </a:solidFill>
                <a:latin typeface="Arial"/>
              </a:rPr>
              <a:t>(…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}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# Tex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 SFORM Transform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ildren Shape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ometry Text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ing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[ “Virtual” 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fontStyle FontStyl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yle “BOLD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ustify “MIDDLE” }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181480" y="1752480"/>
            <a:ext cx="342900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ngth 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[7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maxExtent 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}  }  }  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# Bo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ROUTE stouch.touchTime TO XTIMERH.set_startTim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ROUTE XTIMERH.fraction_change TO ANIMAH.set_fr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ROUTE ANIMAH.value_changed T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SFORM.set_transl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# Caix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ROUTE BTOUCH.touchTime TO XTIMERV.set_start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ROUTE XTIMERV.fraction_change TO ANIMAV.set_fr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ROUTE ANIMAV.value_changed T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SFORM.set_translation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724280" y="1295280"/>
            <a:ext cx="0" cy="5181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RML - Exemplo 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(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739960" y="1219320"/>
            <a:ext cx="393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Visualização do exemplo anteri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1905120" y="1600200"/>
            <a:ext cx="5371920" cy="4838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VRML – Scene Authoring Interfa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cara_feliz" descr=""/>
          <p:cNvPicPr/>
          <p:nvPr/>
        </p:nvPicPr>
        <p:blipFill>
          <a:blip r:embed="rId1"/>
          <a:stretch/>
        </p:blipFill>
        <p:spPr>
          <a:xfrm>
            <a:off x="7886880" y="4724280"/>
            <a:ext cx="1257120" cy="140976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2133720" y="1600200"/>
            <a:ext cx="6019560" cy="1523880"/>
          </a:xfrm>
          <a:prstGeom prst="wedgeRoundRectCallout">
            <a:avLst>
              <a:gd name="adj1" fmla="val -56643"/>
              <a:gd name="adj2" fmla="val 54583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362320" y="1704960"/>
            <a:ext cx="5862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teamento de eventos entre os nós n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é suficiente para o tratamento de vári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asses de comporta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0" name="cara_triste" descr=""/>
          <p:cNvPicPr/>
          <p:nvPr/>
        </p:nvPicPr>
        <p:blipFill>
          <a:blip r:embed="rId2"/>
          <a:stretch/>
        </p:blipFill>
        <p:spPr>
          <a:xfrm>
            <a:off x="609480" y="2590920"/>
            <a:ext cx="1257480" cy="140976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 flipH="1">
            <a:off x="608760" y="4114800"/>
            <a:ext cx="6705720" cy="1752480"/>
          </a:xfrm>
          <a:prstGeom prst="wedgeRoundRectCallout">
            <a:avLst>
              <a:gd name="adj1" fmla="val -59564"/>
              <a:gd name="adj2" fmla="val 28078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993240" y="4343400"/>
            <a:ext cx="5824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RML define o nó Script e a EAI, qu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mitem ao usuário conectar o mundo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as extern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RML – Nó Script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fig_vrml" descr=""/>
          <p:cNvPicPr/>
          <p:nvPr/>
        </p:nvPicPr>
        <p:blipFill>
          <a:blip r:embed="rId1"/>
          <a:stretch/>
        </p:blipFill>
        <p:spPr>
          <a:xfrm>
            <a:off x="914400" y="2971800"/>
            <a:ext cx="3429000" cy="244152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 flipV="1">
            <a:off x="4343400" y="3200400"/>
            <a:ext cx="144792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74160" y="2895480"/>
            <a:ext cx="89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v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562720" y="1752480"/>
            <a:ext cx="3276360" cy="3276720"/>
          </a:xfrm>
          <a:prstGeom prst="irregularSeal2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a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er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processa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 event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H="1">
            <a:off x="4419720" y="4038480"/>
            <a:ext cx="137160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75600" y="4495680"/>
            <a:ext cx="2716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v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alterand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stado do mundo VRM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505320" y="3581280"/>
            <a:ext cx="68580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ó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rip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RML - Introdução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Órgão mantenedor: Wed 3D Consorti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ção e manutenção de novos padrões para a transmissão de conteúdo 3D através da Web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Visualização: através de browser VRML, normalmente um plug-in de um browser Web convencion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RML – Nó Script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ós Scri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zem lógica de decisão e gerenciamento de estados para mundos VR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pazes de receber, processar e gerar eventos que controlam o comportamento dos objetos do mun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a associado ao nó pode controlar toda a interação e o comportamento dos elementos do mundo virtu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RML – Nó Script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3)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ravés do nó Script é possível usar técnicas mais sofisticadas que a interpolação linear para a geração de animaçõ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empl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09480" y="3809880"/>
            <a:ext cx="1828800" cy="990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64640" y="3962520"/>
            <a:ext cx="163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uário cl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bre um obje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65000" y="3352680"/>
            <a:ext cx="153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TouchSens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971800" y="3886200"/>
            <a:ext cx="1828800" cy="990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126960" y="3352680"/>
            <a:ext cx="14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TimeSens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74680" y="419112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810960" y="3962520"/>
            <a:ext cx="948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ca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ulso 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lóg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793120" y="327672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rip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334120" y="3809880"/>
            <a:ext cx="1828800" cy="8384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248880" y="3886200"/>
            <a:ext cx="881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v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siçã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412240" y="4038480"/>
            <a:ext cx="23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546680" y="3124080"/>
            <a:ext cx="130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ó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métr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772400" y="3886200"/>
            <a:ext cx="1143000" cy="6094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7850160" y="4038480"/>
            <a:ext cx="67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438280" y="4343400"/>
            <a:ext cx="457200" cy="0"/>
          </a:xfrm>
          <a:prstGeom prst="line">
            <a:avLst/>
          </a:prstGeom>
          <a:ln w="57240">
            <a:solidFill>
              <a:srgbClr val="fe243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800600" y="4343400"/>
            <a:ext cx="457200" cy="0"/>
          </a:xfrm>
          <a:prstGeom prst="line">
            <a:avLst/>
          </a:prstGeom>
          <a:ln w="57240">
            <a:solidFill>
              <a:srgbClr val="fe243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162920" y="4267080"/>
            <a:ext cx="609480" cy="0"/>
          </a:xfrm>
          <a:prstGeom prst="line">
            <a:avLst/>
          </a:prstGeom>
          <a:ln w="57240">
            <a:solidFill>
              <a:srgbClr val="fe243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562720" y="5257800"/>
            <a:ext cx="1371600" cy="6094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717520" y="5257800"/>
            <a:ext cx="110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(t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qualqu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181480" y="5562720"/>
            <a:ext cx="304920" cy="0"/>
          </a:xfrm>
          <a:prstGeom prst="line">
            <a:avLst/>
          </a:prstGeom>
          <a:ln w="38160">
            <a:solidFill>
              <a:srgbClr val="fe243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>
            <a:off x="5181120" y="4724280"/>
            <a:ext cx="304920" cy="838440"/>
          </a:xfrm>
          <a:prstGeom prst="line">
            <a:avLst/>
          </a:prstGeom>
          <a:ln w="38160">
            <a:solidFill>
              <a:srgbClr val="fe24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184720" y="6019920"/>
            <a:ext cx="200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a exter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934320" y="5562720"/>
            <a:ext cx="228600" cy="0"/>
          </a:xfrm>
          <a:prstGeom prst="line">
            <a:avLst/>
          </a:prstGeom>
          <a:ln w="38160">
            <a:solidFill>
              <a:srgbClr val="fe24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6933960" y="4800240"/>
            <a:ext cx="228600" cy="762120"/>
          </a:xfrm>
          <a:prstGeom prst="line">
            <a:avLst/>
          </a:prstGeom>
          <a:ln w="38160">
            <a:solidFill>
              <a:srgbClr val="fe243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VRML – Nó Script – Exemplo 1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87640" y="1235160"/>
            <a:ext cx="417024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#VRML V2.0 utf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Group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children [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DEF Sph Transform {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children Shape {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geometry Cone {}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appearance Appearance {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material Material { diffuseColor 1 0 0 }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}  }  }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Transform {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translation -2.4 .2 1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rotation 0 1 1 .9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children [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Shape {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geometry Box {}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appearance Appearance {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material DEF MATERIAL Material {}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}   }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DEF TS TouchSensor {} ]    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 Unicode MS"/>
              </a:rPr>
              <a:t>       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DEF SC Script {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url "extouchcube.class"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field SFColor currentColor 0 0 0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eventIn SFColor colorI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eventOut SFBool isRed }  ] }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408920" y="1600200"/>
            <a:ext cx="4495320" cy="45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DEF myColor ColorInterpolator {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key [0.0, 0.3, 0.6, 1.0 ]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keyValue [1 0 0 , 0 1 0, 1 0 0, 0 0 1]  }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DEF myClock TimeSensor { cycleInterval 10 }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DEF XTIMER TimeSensor { loop TRU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cycleInterval 5 }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DEF ENGINE OrientationInterpolator {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key [ 0, .5, 1]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keyValue [ 0 1 0 0, 0 1 0 3.14, 0 1 0 6.28] }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ROUTE TS.touchTime TO myClock.set_startTim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ROUTE myClock.fraction TO myColor.set_fr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ROUTE myColor.value_changed T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MATERIAL.diffuseCol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ROUTE myColor.value_changed TO SC.colorI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ROUTE SC.isRed TO XTIMER.enab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ROUTE XTIMER.fraction TO ENGINE.set_fraction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ROUTE ENGINE.value_changed TO Sph.set_rota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343400" y="1295280"/>
            <a:ext cx="0" cy="5181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RML – Nó Script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– Exemplo 1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126520" y="1295280"/>
            <a:ext cx="520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000000"/>
                </a:solidFill>
                <a:uFillTx/>
                <a:latin typeface="Arial"/>
              </a:rPr>
              <a:t>Roteamento de eventos do exemplo anteri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5" name="touchcube" descr=""/>
          <p:cNvPicPr/>
          <p:nvPr/>
        </p:nvPicPr>
        <p:blipFill>
          <a:blip r:embed="rId1"/>
          <a:stretch/>
        </p:blipFill>
        <p:spPr>
          <a:xfrm>
            <a:off x="1523880" y="1828800"/>
            <a:ext cx="6354720" cy="46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RML – Nó Script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– Exemplo 1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3)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809360" y="1676520"/>
            <a:ext cx="51062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import vrml.*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import vrml.field.*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import vrml.node.*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ublic class extouchcube extends Script {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// declaração dos campos e eventOuts usad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ivate SFColor currentColor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ivate SFBool isRed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ublic void initialize() {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currentColor = (SFColor) getField("currentColor")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isRed = (SFBool) getEventOut("isRed");  }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ublic void processEvent(Event e) {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// chamado no recebimento do evento colorI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currentColor.setValue((ConstSFColor)e.getValue()); }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ublic void eventsProcessed() {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if (currentColor.getRed() &gt;= 0.5) // vermelho maior que 50%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isRed.setValue(false)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else isRed.setValue(true); } }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08880" y="1219320"/>
            <a:ext cx="68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Programa Java associado ao nó Script do exemplo anteri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RML – Nó Script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– Exemplo 1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4)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663640" y="1219320"/>
            <a:ext cx="393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Visualização do exemplo anteri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2133720" y="2057400"/>
            <a:ext cx="4800600" cy="361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RML – Nó Script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– Exemplo 2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59280" y="1219320"/>
            <a:ext cx="381096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#VRML V2.0 utf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iewpoint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ition    0 5 1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ientation 1 0 0 -0.2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eldOfView 0.785398    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otLight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tion 0 10 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ion 0 -1 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adius 100       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#Objeto móvel (esfera amarela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F MOV_OBJ Transform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nslation -8 0 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ildren [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hap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eometry Sphere { radius 0.7 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earance Appearanc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terial Material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ffuseColor 1 1 0  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     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471200" y="1295280"/>
            <a:ext cx="35017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# Sensores (Botõ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nsform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nslation 6.25 0 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ildren [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F TOUCH1 TouchSensor {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hap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eometry Box { size .5 1 1 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earance Appearanc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terial Material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ffuseColor 1 0 0  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}  ]  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nsform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nslation 6.75 0 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ildren [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F TOUCH2 TouchSensor {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hap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eometry Box { size .5 1 1 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earance Appearanc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terial Material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ffuseColor 0 1 0  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}   ]    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267080" y="1295280"/>
            <a:ext cx="0" cy="5181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RML – Nó Script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– Exemplo 2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4267080" y="1295280"/>
            <a:ext cx="0" cy="5181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89080" y="1295280"/>
            <a:ext cx="429120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# Cubos que não se move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nsform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nslation -5 0 0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ildren [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F CUBE_CHILDREN Shap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eometry DEF CUBE_LARG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ox { size 1 1 1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earance Appearanc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terial Material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ffuseColor 1 0 1  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}  ]       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nsform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nslation 0 5 0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ildren [ USE CUBE_CHILDREN ] }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nsform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nslation 0 -4.5 0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ildren [ USE CUBE_CHILDREN ]  }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# Relóg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F TIMER TimeSensor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op TR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ycleInterval 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419720" y="1219320"/>
            <a:ext cx="472428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# Trajetórias para a esfe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F I_1 PositionInterpolator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 [ 0, 0.0833, 0.167, 0.25, 0.333, 0.417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.5, 0.583,  0.667, 0.75, 0.833, 0.917, 1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Value [ -8 0 0, -7 -4 0, -4 -6 0,  0 -7 0, 2.75 -5 0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 -3 0,  5 0 0, 4 3 0, 2.75 5 0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 7 0,  -4 6 0, -7 4 0, -8 0 0]   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F I_2 PositionInterpolator { ...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# Script responsável pelo comportamento da esfe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F S Script {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ventIn SFFloat star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eld SFNode inside USE TOUCH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eld SFNode outside USE TOUCH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ventOut SFVec3f newPosi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eld SFNode PosInterp1 USE INTERP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eld SFNode PosInterp2 USE INTERP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rl "exballs.class"     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# Roteamento de event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OUTE TIMER.fraction_changed TO I_1.set_f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OUTE TIMER.fraction_changed TO I_2.set_f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OUTE TIMER.fraction_changed TO S.sta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OUTE S.newPosition TO MOV_OBJ.transl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RML – Nó Script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– Exemplo 2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208880" y="1219320"/>
            <a:ext cx="68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Programa Java associado ao nó Script do exemplo anteri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62160" y="1752480"/>
            <a:ext cx="5055840" cy="49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port vrml.*;   (..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 class exballs extends Script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vate SFNode inside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..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vate boolean outsid = true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 void initialize()       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// mapping variables into VRML-script fields/ev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side = (SFNode) getField("inside"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utside = (SFNode) getField("outside"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wPosition = (SFVec3f) getEventOut("newPosition"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...) 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d processEvent (Event e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SFBool sensor1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SFBool sensor2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// Getting sensor ev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de aux1 = (Node)(inside.getValue()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nsor1 = (ConstSFBoo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x1.getEventOut("isOver"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633200" y="1600200"/>
            <a:ext cx="4484520" cy="49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x1 = (Node)(outside.getValue()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nsor2 = (ConstSFBool) aux1.getEventOut("isOver"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// boolean outsid stores the last sensor tou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f(sensor2.getValue()) outsid = true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se  if(sensor1.getValue()) outsid = false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// Choosing which trajectory to follow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// according to the boolean outsid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SFFloat f = (ConstSFFloat) e.getValue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f( outsid &amp;&amp; ff &gt; f.getValue()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x = (Node) PosInterp2.getValue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se if ( !outsid &amp;&amp; ff &gt; f.getValue()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x = (Node) PosInterp1.getValue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f = f.getValue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// Mapping new position into an Event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SFVec3f tmp = (ConstSFVec3f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x.getEventOut("value_changed"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wPosition.setValue(tmp);  }   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267080" y="1600200"/>
            <a:ext cx="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419720" y="4724280"/>
            <a:ext cx="0" cy="1752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267080" y="3352680"/>
            <a:ext cx="83844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flipH="1" flipV="1">
            <a:off x="5105520" y="3505320"/>
            <a:ext cx="38088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flipV="1">
            <a:off x="4419720" y="4343400"/>
            <a:ext cx="106668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RML – Nó Script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– Exemplo 2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663640" y="1219320"/>
            <a:ext cx="393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Visualização do exemplo anteri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914400" y="2286000"/>
            <a:ext cx="7581960" cy="312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RML - Introdução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RM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agem independente de plataforma para a publicação de “páginas” Web tridimensiona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jetivo: prover ricos ambientes tridimensionais interativos, permitindo ao usuário definir mundos estáticos e animados, e interagir com e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RML - EAI (External Authoring Interface)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EAI" descr=""/>
          <p:cNvPicPr/>
          <p:nvPr/>
        </p:nvPicPr>
        <p:blipFill>
          <a:blip r:embed="rId1"/>
          <a:stretch/>
        </p:blipFill>
        <p:spPr>
          <a:xfrm>
            <a:off x="609480" y="1371600"/>
            <a:ext cx="6172200" cy="444348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 flipH="1">
            <a:off x="5943240" y="2133720"/>
            <a:ext cx="1523880" cy="609480"/>
          </a:xfrm>
          <a:prstGeom prst="line">
            <a:avLst/>
          </a:prstGeom>
          <a:ln w="38160">
            <a:solidFill>
              <a:srgbClr val="fe243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H="1" flipV="1">
            <a:off x="5333760" y="4800240"/>
            <a:ext cx="1981080" cy="152280"/>
          </a:xfrm>
          <a:prstGeom prst="line">
            <a:avLst/>
          </a:prstGeom>
          <a:ln w="38160">
            <a:solidFill>
              <a:srgbClr val="fe243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7469640" y="1674720"/>
            <a:ext cx="1197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2439"/>
                </a:solidFill>
                <a:latin typeface="Arial"/>
              </a:rPr>
              <a:t>mund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2439"/>
                </a:solidFill>
                <a:latin typeface="Arial"/>
              </a:rPr>
              <a:t>VR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7470720" y="4494240"/>
            <a:ext cx="1009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2439"/>
                </a:solidFill>
                <a:latin typeface="Arial"/>
              </a:rPr>
              <a:t>appl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2439"/>
                </a:solidFill>
                <a:latin typeface="Arial"/>
              </a:rPr>
              <a:t>Ja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7391520" y="2666880"/>
            <a:ext cx="1066680" cy="1600200"/>
          </a:xfrm>
          <a:prstGeom prst="upDownArrow">
            <a:avLst>
              <a:gd name="adj1" fmla="val 50000"/>
              <a:gd name="adj2" fmla="val 29864"/>
            </a:avLst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80880" y="5985000"/>
            <a:ext cx="85345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AI é uma inteface para pemitir que ambientes externos acessem nós de uma cena VRM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RML - EAI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EAI" descr=""/>
          <p:cNvPicPr/>
          <p:nvPr/>
        </p:nvPicPr>
        <p:blipFill>
          <a:blip r:embed="rId1"/>
          <a:stretch/>
        </p:blipFill>
        <p:spPr>
          <a:xfrm>
            <a:off x="533520" y="2133720"/>
            <a:ext cx="2544480" cy="3276360"/>
          </a:xfrm>
          <a:prstGeom prst="rect">
            <a:avLst/>
          </a:prstGeom>
          <a:ln w="0">
            <a:noFill/>
          </a:ln>
        </p:spPr>
      </p:pic>
      <p:sp>
        <p:nvSpPr>
          <p:cNvPr id="292" name=""/>
          <p:cNvSpPr/>
          <p:nvPr/>
        </p:nvSpPr>
        <p:spPr>
          <a:xfrm flipH="1">
            <a:off x="2732040" y="2695680"/>
            <a:ext cx="628560" cy="449280"/>
          </a:xfrm>
          <a:prstGeom prst="line">
            <a:avLst/>
          </a:prstGeom>
          <a:ln w="38160">
            <a:solidFill>
              <a:srgbClr val="fe243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H="1" flipV="1">
            <a:off x="2480760" y="4662000"/>
            <a:ext cx="816120" cy="112680"/>
          </a:xfrm>
          <a:prstGeom prst="line">
            <a:avLst/>
          </a:prstGeom>
          <a:ln w="38160">
            <a:solidFill>
              <a:srgbClr val="fe243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362760" y="2357280"/>
            <a:ext cx="1197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2439"/>
                </a:solidFill>
                <a:latin typeface="Arial"/>
              </a:rPr>
              <a:t>mund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2439"/>
                </a:solidFill>
                <a:latin typeface="Arial"/>
              </a:rPr>
              <a:t>VR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63840" y="4435560"/>
            <a:ext cx="1009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2439"/>
                </a:solidFill>
                <a:latin typeface="Arial"/>
              </a:rPr>
              <a:t>appl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2439"/>
                </a:solidFill>
                <a:latin typeface="Arial"/>
              </a:rPr>
              <a:t>Ja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657600" y="3200400"/>
            <a:ext cx="439560" cy="1179360"/>
          </a:xfrm>
          <a:prstGeom prst="upDownArrow">
            <a:avLst>
              <a:gd name="adj1" fmla="val 50000"/>
              <a:gd name="adj2" fmla="val 53412"/>
            </a:avLst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7" name="fig_vrml" descr=""/>
          <p:cNvPicPr/>
          <p:nvPr/>
        </p:nvPicPr>
        <p:blipFill>
          <a:blip r:embed="rId2"/>
          <a:stretch/>
        </p:blipFill>
        <p:spPr>
          <a:xfrm>
            <a:off x="4732200" y="2971800"/>
            <a:ext cx="1582920" cy="182880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 flipV="1">
            <a:off x="6315120" y="3141720"/>
            <a:ext cx="668160" cy="342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6324480" y="2743200"/>
            <a:ext cx="73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ve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7010280" y="2057400"/>
            <a:ext cx="1828800" cy="2455920"/>
          </a:xfrm>
          <a:prstGeom prst="irregularSeal2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gra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xtern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processame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o evento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H="1">
            <a:off x="6349680" y="3770280"/>
            <a:ext cx="633240" cy="285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415200" y="4164120"/>
            <a:ext cx="216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ve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alterand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stado do mundo VR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791320" y="3427560"/>
            <a:ext cx="453960" cy="742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ó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crip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572000" y="1523880"/>
            <a:ext cx="0" cy="464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679040" y="1371600"/>
            <a:ext cx="72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A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335200" y="1371600"/>
            <a:ext cx="142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Nó Scri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RML - EAI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or modularidade e simplicidade dos progra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or liberdade para criação de interfaces sofisticadas para inteação com mundos VR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equada para a criação de sistemas multimídia complex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ó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equado para dar comportamento individual a objetos da ce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RML - EAI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a usar a EAI é necessário criar página HTML incluindo a cena VRML e um applet que realiza a interação com a cen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06160" y="2819520"/>
            <a:ext cx="823824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html&gt;&lt;head&gt;&lt;title&gt;Tiny3D for blaxxunCC3D and IE&lt;/title&gt;&lt;/head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OBJECT  CLASSID="CLSID:4B6E3013-6E45-11D0-9309-0020AFE05CC8" ID="browser"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HEIGHT=250 WIDTH=600&gt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PARAM NAME="SRC" VALUE="root.wrl"&gt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EMBED src="root.wrl" border=0 height="250" width="600"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/OBJECT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applet code="Tiny3D.class" codebase="." id=vrmlApp mayscript height="250" width="600"&gt;&lt;/applet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script language=VBScript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!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' Send the control object to the appl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Sub window_onLo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document.vrmlApp.setBrowser brow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end su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!--&gt; &lt;/script&gt; &lt;/html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RML - EAI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81532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ebendo eventos da ce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RML                      appl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809880" y="1905120"/>
            <a:ext cx="1905120" cy="457200"/>
          </a:xfrm>
          <a:prstGeom prst="rightArrow">
            <a:avLst>
              <a:gd name="adj1" fmla="val 50000"/>
              <a:gd name="adj2" fmla="val 104173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33520" y="2819520"/>
            <a:ext cx="8381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riar uma classe observadora dos eventos, que implementa a interface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EventOutObserver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 implementar seu método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callback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, que realiza o processamento dos event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60680" y="450684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488960" y="4659480"/>
            <a:ext cx="6064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class MeuObservador implements EventOutObserver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ublic void callback (EventOut ev, double timestamp, Object o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// Processamento sobre o evento recebi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RML - EAI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81532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ebendo eventos da ce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RML                      appl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809880" y="1905120"/>
            <a:ext cx="1905120" cy="457200"/>
          </a:xfrm>
          <a:prstGeom prst="rightArrow">
            <a:avLst>
              <a:gd name="adj1" fmla="val 50000"/>
              <a:gd name="adj2" fmla="val 104173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533520" y="2819520"/>
            <a:ext cx="83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riar uma instância da classe observadora no apple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660680" y="450684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745920" y="3733920"/>
            <a:ext cx="514296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class MinhaClasseVRML extends Applet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ublic void Minha Classe VRML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// Conectando ao browser VRM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Browser b = Browser.getBrowser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// Criando a instância da classe observado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MeuObservador obs = new MeuObservador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(..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RML - EAI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81532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ebendo eventos da ce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RML                      appl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809880" y="1905120"/>
            <a:ext cx="1905120" cy="457200"/>
          </a:xfrm>
          <a:prstGeom prst="rightArrow">
            <a:avLst>
              <a:gd name="adj1" fmla="val 50000"/>
              <a:gd name="adj2" fmla="val 104173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33520" y="2819520"/>
            <a:ext cx="838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bter referência ao evento desejado e usar o método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advise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para indicar ao browser o interesse no even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660680" y="450684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728640" y="3733920"/>
            <a:ext cx="802656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class MinhaClasseVRML extends Applet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ublic void Minha Classe VRML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(..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// Criando a instância da classe observado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MeuObservador obs = new MeuObservador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// Obtendo referência ao nó gerador do evento e registrando o evento de interes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b.getNode( “NodeName” ).getEventOut( “fraction_changed” ).advise(obs, null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RML - EAI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81532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viando eventos para a ce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RML                      appl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09880" y="1905120"/>
            <a:ext cx="1905120" cy="457200"/>
          </a:xfrm>
          <a:prstGeom prst="leftArrow">
            <a:avLst>
              <a:gd name="adj1" fmla="val 50000"/>
              <a:gd name="adj2" fmla="val 104173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660680" y="450684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33520" y="2895480"/>
            <a:ext cx="8381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bter a referência do nó para o qual se deseja enviar o ev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bter a referência do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EventIn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desse n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nviar os valores desejados via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setValue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RML - EAI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81532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viando eventos para a ce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RML                      appl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3809880" y="1905120"/>
            <a:ext cx="1905120" cy="457200"/>
          </a:xfrm>
          <a:prstGeom prst="leftArrow">
            <a:avLst>
              <a:gd name="adj1" fmla="val 50000"/>
              <a:gd name="adj2" fmla="val 104173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660680" y="450684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74040" y="3429000"/>
            <a:ext cx="259020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#VRML v2.0 utf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DEF move_esfera Transform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translation 2 0 –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children Shap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geometry Spher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radius 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048120" y="2590920"/>
            <a:ext cx="0" cy="3809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159000" y="2602080"/>
            <a:ext cx="545688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import vrml.external.*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import vrml.external.field.*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import java.applet.*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ublic class MeuApplet extends Applet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ublic void start ( 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Browser.getBrowser ( 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// 1. Obtendo a referência do nó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Node aTransform = b.getNode( “move_esfera” 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// 2. Obtendo a referência ao EventIn “set_translation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EventInSFVec3f tx = (EventInSFVec3f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aTransform.getEventIn( “set_translation” 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// 3. Enviando a nova posição para o EventIn obtido aci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float nova_posicao [ ] = {0, 1, 0.5f}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tx.setValue(nova_posicao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RML – EAI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– Exemplo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1660680" y="450684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4" name="" descr=""/>
          <p:cNvPicPr/>
          <p:nvPr/>
        </p:nvPicPr>
        <p:blipFill>
          <a:blip r:embed="rId1"/>
          <a:stretch/>
        </p:blipFill>
        <p:spPr>
          <a:xfrm>
            <a:off x="914400" y="1371600"/>
            <a:ext cx="7429680" cy="476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VRML - Estrutura Hierárquica da Cen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2296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adigma de criação de mundos VRML: hierarquia de nós definindo o grafo hierárquico da ce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vrml2" descr=""/>
          <p:cNvPicPr/>
          <p:nvPr/>
        </p:nvPicPr>
        <p:blipFill>
          <a:blip r:embed="rId1"/>
          <a:stretch/>
        </p:blipFill>
        <p:spPr>
          <a:xfrm>
            <a:off x="2362320" y="2819520"/>
            <a:ext cx="4647960" cy="355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VRML – EAI – Exemplo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6" name="" descr=""/>
          <p:cNvPicPr/>
          <p:nvPr/>
        </p:nvPicPr>
        <p:blipFill>
          <a:blip r:embed="rId1"/>
          <a:stretch/>
        </p:blipFill>
        <p:spPr>
          <a:xfrm>
            <a:off x="0" y="533520"/>
            <a:ext cx="9144000" cy="608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RML – EAI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– Exemplo 3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VRML_gamestart" descr=""/>
          <p:cNvPicPr/>
          <p:nvPr/>
        </p:nvPicPr>
        <p:blipFill>
          <a:blip r:embed="rId1"/>
          <a:stretch/>
        </p:blipFill>
        <p:spPr>
          <a:xfrm>
            <a:off x="914400" y="990720"/>
            <a:ext cx="7186680" cy="554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RML – EAI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– Exemplo 3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VRML_heraclesstart" descr=""/>
          <p:cNvPicPr/>
          <p:nvPr/>
        </p:nvPicPr>
        <p:blipFill>
          <a:blip r:embed="rId1"/>
          <a:stretch/>
        </p:blipFill>
        <p:spPr>
          <a:xfrm>
            <a:off x="914400" y="990720"/>
            <a:ext cx="7162920" cy="552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RML – EAI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– Exemplo 3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VRML_heracles" descr=""/>
          <p:cNvPicPr/>
          <p:nvPr/>
        </p:nvPicPr>
        <p:blipFill>
          <a:blip r:embed="rId1"/>
          <a:stretch/>
        </p:blipFill>
        <p:spPr>
          <a:xfrm>
            <a:off x="914400" y="990720"/>
            <a:ext cx="7162920" cy="552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RML – EAI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– Exemplo 3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1"/>
          <a:stretch/>
        </p:blipFill>
        <p:spPr>
          <a:xfrm>
            <a:off x="685800" y="1447920"/>
            <a:ext cx="7848720" cy="476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RML – EAI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– Exemplo 3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VRML_iolaus" descr=""/>
          <p:cNvPicPr/>
          <p:nvPr/>
        </p:nvPicPr>
        <p:blipFill>
          <a:blip r:embed="rId1"/>
          <a:stretch/>
        </p:blipFill>
        <p:spPr>
          <a:xfrm>
            <a:off x="990720" y="1019160"/>
            <a:ext cx="7086600" cy="5465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RML – EAI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– Exemplo 3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762120" y="1447920"/>
            <a:ext cx="7848360" cy="476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X3D (Extensible 3D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posta para nova versão de VR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atibilidade com VRML 9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ção com X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ição de um novo conjunto de tags adequado à classe de documentos que se deseja represent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onentizaç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ncionalidade crucial encapsulada em um núcle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sibilida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úcleo expandido para prover novas funcionalidades (e.g., H-Anim, GeoVRM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X3D - Exemplo de Código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662400" y="2362320"/>
            <a:ext cx="686196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?xml version=“1.0” encoding=“utf-8”?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!DDOCTYPE X3D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web3D.org/TaskGroups/x3d/translation/x3d-compromise.dtd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le://localhost/C:/www.web3D.org/TaskGroups/x3d/translation/x3d-compromise.dtd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[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!ENTITY % VRML97Profile “INCLUDE”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!ENTITY % CoreProfile “IGNORE”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!ENTITY % X3dExtensions “IGNORE”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!ENTITY % GeoVrmlProfile “INCLUDE”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!ENTITY % HAnimProfile “INCLUDE”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X3D - Exemplo de Código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255240" y="1459080"/>
            <a:ext cx="8316000" cy="45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X3D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Scen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Transfor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children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NavigationInfo headlight=“false” avatarSize=“0.25 1.6 0.75” type=“&amp;#34;EXAMINE&amp;#34;”/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irectionalLight/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Transform translation=“3.0 0.0 1.0”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children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Shap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geometry&gt;&lt;Sphere radius=“2.3”/&gt;&lt;/geometry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appearance&gt;&lt;Appearance&gt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material&gt; &lt;Material diffuseColor=“1.0 0.0 0.0”/&gt;&lt;/material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/Appearance&gt;&lt;/appearanc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/Shap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/children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/Transfor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/children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/Transfor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/Scen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/X3D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Times New Roman"/>
              </a:rPr>
              <a:t>VRML - Estrutura Hierárquica da Cena 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ó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juntos de abstrações de objetos e de certas entidades do mundo real: formas geométricas, luz, som, texturas, etc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onentes fundamentais de VR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nas são construídas a partir da disposição, combinação e interação entre os nó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arquias das cenas são construídas a partir do agrupamento de nó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X3D – H-Anim – Exemplo 1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1"/>
          <a:stretch/>
        </p:blipFill>
        <p:spPr>
          <a:xfrm>
            <a:off x="0" y="1219320"/>
            <a:ext cx="9144000" cy="527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X3D – H-Anim – Exemplo 2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1"/>
          <a:stretch/>
        </p:blipFill>
        <p:spPr>
          <a:xfrm>
            <a:off x="0" y="1219320"/>
            <a:ext cx="9144000" cy="527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2590920" y="3048120"/>
            <a:ext cx="4114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Conclusõe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438280" y="2743200"/>
            <a:ext cx="4419720" cy="1676520"/>
          </a:xfrm>
          <a:prstGeom prst="octagon">
            <a:avLst>
              <a:gd name="adj" fmla="val 29287"/>
            </a:avLst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erramentas Apresentada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rramentas de programação para apoio ao desenvolvimento de sistemas gráficos interativos (interfaces com usuário, animação por computador e realidade virtual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 Window System + Interfaces de progamaç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G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va 3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R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238880" y="4038480"/>
            <a:ext cx="0" cy="2133720"/>
          </a:xfrm>
          <a:prstGeom prst="line">
            <a:avLst/>
          </a:prstGeom>
          <a:ln w="9360">
            <a:solidFill>
              <a:srgbClr val="fe243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7316280" y="3962520"/>
            <a:ext cx="68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e2439"/>
                </a:solidFill>
                <a:latin typeface="Times New Roman"/>
              </a:rPr>
              <a:t>baix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7392240" y="5867280"/>
            <a:ext cx="52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e2439"/>
                </a:solidFill>
                <a:latin typeface="Times New Roman"/>
              </a:rPr>
              <a:t>al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7467480" y="4648320"/>
            <a:ext cx="1427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2439"/>
                </a:solidFill>
                <a:latin typeface="Arial"/>
              </a:rPr>
              <a:t>Nível 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2439"/>
                </a:solidFill>
                <a:latin typeface="Arial"/>
              </a:rPr>
              <a:t>Abstraçã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erramentas Apresentada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ível de abstração mais al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ação mais simp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ilidade de aplicações mais sofisticad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ível de abstração mais baix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exibilidade necessária em certas situações (e.g., funções de hardware, acesso ao sistema de janela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erramentas Apresentada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 Window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G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va 3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R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4800600" y="1600200"/>
            <a:ext cx="76320" cy="1143000"/>
          </a:xfrm>
          <a:custGeom>
            <a:avLst/>
            <a:gdLst>
              <a:gd name="textAreaLeft" fmla="*/ 0 w 76320"/>
              <a:gd name="textAreaRight" fmla="*/ 27360 w 7632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048120" y="3962520"/>
            <a:ext cx="75960" cy="1143000"/>
          </a:xfrm>
          <a:custGeom>
            <a:avLst/>
            <a:gdLst>
              <a:gd name="textAreaLeft" fmla="*/ 0 w 75960"/>
              <a:gd name="textAreaRight" fmla="*/ 27360 w 7596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108040" y="1752480"/>
            <a:ext cx="3585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ação gráfica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agens realis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429000" y="3809880"/>
            <a:ext cx="5410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foços no sentido de prover um padrão para a representação e transmissão de conteúdo interativo 3D através da We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ftware Liv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tecnologias apresentadas se baseiam nas idéias de software livre ou open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or aceitação dos produ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unidade contribui ativamente em seu desenvolvim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or confiabilid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or sobrevivê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versidade de interesses evita monopólio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cara_feliz" descr=""/>
          <p:cNvPicPr/>
          <p:nvPr/>
        </p:nvPicPr>
        <p:blipFill>
          <a:blip r:embed="rId1"/>
          <a:stretch/>
        </p:blipFill>
        <p:spPr>
          <a:xfrm>
            <a:off x="7620120" y="2209680"/>
            <a:ext cx="1257120" cy="1409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2666880" y="2743200"/>
            <a:ext cx="3505320" cy="22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FIM</a:t>
            </a:r>
            <a:endParaRPr b="0" lang="en-US" sz="8000" spc="1" strike="noStrike">
              <a:ln w="0">
                <a:noFill/>
              </a:ln>
              <a:solidFill>
                <a:srgbClr val="00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oftware Livre para Computação Gráfica e Animação por Computador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subTitle"/>
          </p:nvPr>
        </p:nvSpPr>
        <p:spPr>
          <a:xfrm>
            <a:off x="0" y="1600200"/>
            <a:ext cx="9144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lberto Barbosa Raposo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(alberto@dca.fee.unicamp.b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dailton José Alves da Cruz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(ajcruz@dca.fee.unicamp.b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lessandro de Lima Bicho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(bicho@dca.fee.unicamp.b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lfredo Kengi Kojima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(kojima@inf.ufrgs.b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arlos Augusto M. dos Santos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(casantos@cpmet.ufpel.tche.b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Isla Carla Felix da Silva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(isla@dca.fee.unicamp.b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Léo Pini Magalhães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(leopini@dca.fee.unicamp.br)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aulo César Pereira de Andrade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(pcpa@conectiva.com.b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RML - Tipos de Nó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381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 agrupam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iam estrutura hierárquica da cena e pemitem que operações sejam aplicadas sobre um conjunto de nós simultaneam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empl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chor: cria links entre mundos VR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nchor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hildren [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rl [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...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RML - Tipos de Nó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381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 agrupam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emplo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cont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form: define um sistema de coordenadas e realiza transformações sobre os nós filh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ansform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anslation 0 0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otation 0 0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cale 1 1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hildren [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...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09T03:54:29Z</dcterms:created>
  <dc:creator>Office Professional 97</dc:creator>
  <dc:description/>
  <dc:language>en-US</dc:language>
  <cp:lastModifiedBy>LCA-DCA-FEEC</cp:lastModifiedBy>
  <cp:lastPrinted>2000-06-06T20:15:16Z</cp:lastPrinted>
  <dcterms:modified xsi:type="dcterms:W3CDTF">2000-10-23T17:23:08Z</dcterms:modified>
  <cp:revision>242</cp:revision>
  <dc:subject/>
  <dc:title>Interação na Web</dc:title>
</cp:coreProperties>
</file>