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072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07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07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07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072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14400"/>
            <a:ext cx="9144000" cy="5943600"/>
          </a:xfrm>
          <a:prstGeom prst="horizontalScroll">
            <a:avLst>
              <a:gd name="adj" fmla="val 48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229600" y="64911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959A-39B6-496B-9FFA-6838E1AC413A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746800" y="6521400"/>
            <a:ext cx="37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BGRAPI’2000 - Gramado, Outubro/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oftware Livre para Computação Gráfica e Animação por Computador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berto Barbosa Rapos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alberto@dca.fee.unicamp.b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dailton José Alves da Cruz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ajcruz@dca.fee.unicamp.b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essandro de Lima Bich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bicho@dca.fee.unicamp.b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fredo Kengi Kojim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kojima@inf.ufrgs.b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los Augusto M. dos Sant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casantos@cpmet.ufpel.tche.b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sla Carla Felix da Silv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isla@dca.fee.unicamp.b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éo Pini Magalhã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leopini@dca.fee.unicamp.br)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ulo César Pereira de Andra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pcpa@conectiva.com.b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erramentas Apresentad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ramentas de programação para apoio ao desenvolvimento de sistemas gráficos interativos (interfaces com usuário, animação por computador e realidade virtu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Window System + Interfaces de proga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3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38880" y="4038480"/>
            <a:ext cx="0" cy="21337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16280" y="39625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bai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92240" y="586728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67480" y="464832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Nível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Abst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erramentas Apresentad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Window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 de janelas com suporte à construção de aplicações gráficas distribuídas e arquitetura cliente-servid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tamente com suas interfaces de programanção (toolkits) é usado para o desenvolvimento de componentes gráficos de interfaces com o usuário e primitivas geométricas bás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erramentas Apresentad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drão aberto para o desenvolvimento de aplicações gráficas 3D que pode ser incorporado a qualquer sistema de janel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ação de imagens realistas (estática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erramentas Apresentad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blioteca padrão da linguagem Java para criação de aplicações tridimensionais interativ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ui recursos sofisticados de animação, interação e navegação por mundos virtu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cionada à W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erramentas Apresentad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ML (Virtual Reality Modeling Langu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agem para modelagem e transmissão de informação 3D e mundos virtuais pela Intern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ui recursos sofisticados de animação, interação e navegação por mundos virtuais (funcionalidade similar à de Java 3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radecimento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took5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2514600" cy="1184400"/>
          </a:xfrm>
          <a:prstGeom prst="rect">
            <a:avLst/>
          </a:prstGeom>
          <a:ln w="0">
            <a:noFill/>
          </a:ln>
        </p:spPr>
      </p:pic>
      <p:pic>
        <p:nvPicPr>
          <p:cNvPr id="45" name="fapesp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048120" cy="706320"/>
          </a:xfrm>
          <a:prstGeom prst="rect">
            <a:avLst/>
          </a:prstGeom>
          <a:ln w="0">
            <a:noFill/>
          </a:ln>
        </p:spPr>
      </p:pic>
      <p:pic>
        <p:nvPicPr>
          <p:cNvPr id="46" name="capes" descr=""/>
          <p:cNvPicPr/>
          <p:nvPr/>
        </p:nvPicPr>
        <p:blipFill>
          <a:blip r:embed="rId3"/>
          <a:stretch/>
        </p:blipFill>
        <p:spPr>
          <a:xfrm>
            <a:off x="6705720" y="1447920"/>
            <a:ext cx="1828800" cy="1377720"/>
          </a:xfrm>
          <a:prstGeom prst="rect">
            <a:avLst/>
          </a:prstGeom>
          <a:ln w="0">
            <a:noFill/>
          </a:ln>
        </p:spPr>
      </p:pic>
      <p:pic>
        <p:nvPicPr>
          <p:cNvPr id="47" name="cnpq" descr=""/>
          <p:cNvPicPr/>
          <p:nvPr/>
        </p:nvPicPr>
        <p:blipFill>
          <a:blip r:embed="rId4"/>
          <a:stretch/>
        </p:blipFill>
        <p:spPr>
          <a:xfrm>
            <a:off x="3886200" y="1600200"/>
            <a:ext cx="2362320" cy="903240"/>
          </a:xfrm>
          <a:prstGeom prst="rect">
            <a:avLst/>
          </a:prstGeom>
          <a:ln w="0">
            <a:noFill/>
          </a:ln>
        </p:spPr>
      </p:pic>
      <p:pic>
        <p:nvPicPr>
          <p:cNvPr id="48" name="feec" descr=""/>
          <p:cNvPicPr/>
          <p:nvPr/>
        </p:nvPicPr>
        <p:blipFill>
          <a:blip r:embed="rId5"/>
          <a:stretch/>
        </p:blipFill>
        <p:spPr>
          <a:xfrm>
            <a:off x="3352680" y="3048120"/>
            <a:ext cx="3048120" cy="1652400"/>
          </a:xfrm>
          <a:prstGeom prst="rect">
            <a:avLst/>
          </a:prstGeom>
          <a:ln w="0">
            <a:noFill/>
          </a:ln>
        </p:spPr>
      </p:pic>
      <p:pic>
        <p:nvPicPr>
          <p:cNvPr id="49" name="ufpel" descr=""/>
          <p:cNvPicPr/>
          <p:nvPr/>
        </p:nvPicPr>
        <p:blipFill>
          <a:blip r:embed="rId6"/>
          <a:stretch/>
        </p:blipFill>
        <p:spPr>
          <a:xfrm>
            <a:off x="609480" y="46483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50" name="ufrgs" descr=""/>
          <p:cNvPicPr/>
          <p:nvPr/>
        </p:nvPicPr>
        <p:blipFill>
          <a:blip r:embed="rId7"/>
          <a:stretch/>
        </p:blipFill>
        <p:spPr>
          <a:xfrm>
            <a:off x="6858000" y="3124080"/>
            <a:ext cx="2057400" cy="1528920"/>
          </a:xfrm>
          <a:prstGeom prst="rect">
            <a:avLst/>
          </a:prstGeom>
          <a:ln w="0">
            <a:noFill/>
          </a:ln>
        </p:spPr>
      </p:pic>
      <p:pic>
        <p:nvPicPr>
          <p:cNvPr id="51" name="conectiva" descr=""/>
          <p:cNvPicPr/>
          <p:nvPr/>
        </p:nvPicPr>
        <p:blipFill>
          <a:blip r:embed="rId8"/>
          <a:stretch/>
        </p:blipFill>
        <p:spPr>
          <a:xfrm>
            <a:off x="2743200" y="5105520"/>
            <a:ext cx="3048120" cy="961920"/>
          </a:xfrm>
          <a:prstGeom prst="rect">
            <a:avLst/>
          </a:prstGeom>
          <a:ln w="0">
            <a:noFill/>
          </a:ln>
        </p:spPr>
      </p:pic>
      <p:pic>
        <p:nvPicPr>
          <p:cNvPr id="52" name="procergs" descr=""/>
          <p:cNvPicPr/>
          <p:nvPr/>
        </p:nvPicPr>
        <p:blipFill>
          <a:blip r:embed="rId9"/>
          <a:stretch/>
        </p:blipFill>
        <p:spPr>
          <a:xfrm>
            <a:off x="6172200" y="5334120"/>
            <a:ext cx="26668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60640" y="1874880"/>
            <a:ext cx="4863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Introdu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X Window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OpenG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Interval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Java 3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VRM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Conclus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4114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77120" y="4114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743560" y="3200400"/>
            <a:ext cx="348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troduçã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2743200"/>
            <a:ext cx="4190760" cy="2057400"/>
          </a:xfrm>
          <a:prstGeom prst="octagon">
            <a:avLst>
              <a:gd name="adj" fmla="val 2928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ftware Livre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desenvolvido por um grupo amplo e heterogêneo de pesoas, empresas e grupos acadêm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idade de interesses impede que se estabeleça o monopólio de um fornecedor ou fabric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Open Sourc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roprietário, mas gratuito e com código abe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or aceitação e distribuição no me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unidade de usuários colabora na manutenção e na compatibilização com diversas platafo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4419720"/>
            <a:ext cx="3352680" cy="1371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Gratu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são Ger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352680"/>
            <a:ext cx="3352680" cy="1371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n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286000"/>
            <a:ext cx="3352680" cy="1371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v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22860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34290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45720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29560" y="1368360"/>
            <a:ext cx="309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51560" y="3581280"/>
            <a:ext cx="368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ário, código-fo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nível, gratu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26440" y="487692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ário, gratui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7600" y="2209680"/>
            <a:ext cx="426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últiplos desenvolvedor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-proprietário, código-fo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nível, gratu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4419720"/>
            <a:ext cx="3352680" cy="1371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Gratu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são Ger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3352680"/>
            <a:ext cx="3352680" cy="1371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n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2286000"/>
            <a:ext cx="3352680" cy="1371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v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860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4290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45720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8600" y="2360520"/>
            <a:ext cx="316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Window Syste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ML (especificaçã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2560" y="1371600"/>
            <a:ext cx="20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emp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3503520"/>
            <a:ext cx="360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, Java 3D, OpenG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f (2000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9800" y="4646520"/>
            <a:ext cx="370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Communicato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utação Gráfic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scimento significativo nos últimos 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licações cada vez mais compl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sidade de padrão gráfico para trabalhar de forma eficiente em diversas platafor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1828440" y="4724280"/>
            <a:ext cx="1219320" cy="1219320"/>
          </a:xfrm>
          <a:custGeom>
            <a:avLst/>
            <a:gdLst>
              <a:gd name="textAreaLeft" fmla="*/ 406440 w 1219320"/>
              <a:gd name="textAreaRight" fmla="*/ 1044360 w 1219320"/>
              <a:gd name="textAreaTop" fmla="*/ 702360 h 1219320"/>
              <a:gd name="textAreaBottom" fmla="*/ 10443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99320" y="5257800"/>
            <a:ext cx="53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livre 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9T03:54:29Z</dcterms:created>
  <dc:creator>Office Professional 97</dc:creator>
  <dc:description/>
  <dc:language>en-US</dc:language>
  <cp:lastModifiedBy>LCA-DCA-FEEC</cp:lastModifiedBy>
  <cp:lastPrinted>2000-06-06T20:15:16Z</cp:lastPrinted>
  <dcterms:modified xsi:type="dcterms:W3CDTF">2000-10-23T16:43:56Z</dcterms:modified>
  <cp:revision>214</cp:revision>
  <dc:subject/>
  <dc:title>Interação na Web</dc:title>
</cp:coreProperties>
</file>