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281-C455-44EE-8B1B-4EBEF5C6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D5B-EF44-41BB-A312-035BCB96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24A-BBDB-454E-9346-3905A135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764-A904-4328-9863-4FE1D195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BEC-8FE6-4193-8DDB-7A6103C2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EBF-FB71-4404-BA8E-2F3601F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73B7-02CC-413C-B0B2-19DAB62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EA3A-0DB2-47AA-B7DB-4A3F898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EC0-7770-4C2C-8D7A-D5DBB8BB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E712-5B5E-4227-ADDE-36C0FC06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7972-FBC1-47C9-B820-AE9FD83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54A-65B8-403D-A2B9-AF6717F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284C-0DFE-4167-A935-9DEC08E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C5AA-12D5-459B-A9FB-04C6DF47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81A5-77C9-42FA-8BC7-499F1422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6D96-3682-45CC-B337-F2617DB0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BAF1-95CC-4643-B9AB-4A6F40F3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397-4895-4EB7-8457-8A1FCB31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BADC-EE02-4766-B1F0-C04EC01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F34-76D5-45A9-8D09-77846EC9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449-C5B4-497B-999B-F0F064B8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503-0291-4579-964A-D3317473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AA5-B0FA-4E73-A205-079A9ADF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F7D-F362-45C9-94CB-6396DC4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E24-A23C-4EFE-8AC5-0A2920BFC5D8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CD5C-15BA-449D-B2FF-D2B52B228082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02DF-15B6-4437-8B12-09A0E5413C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s de etique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3200" y="2279520"/>
            <a:ext cx="7383600" cy="21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A22-C0B7-4CD2-B2FE-C16AFD7CF7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triçõ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odo elemento da UML está associada algum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mânt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lemento gráfico possui um significado bem definido que, uma vez entendido, fica implícito na utilização do elemento em algum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ermitem estender ou alterar a semântica natural de um elemento grá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mecanismo geral especifica restrições sobre um ou mais valores de um ou mais elementos de um mode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071-4AEF-49EC-8754-0097740FD4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triçõ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uma linguagem formal que pode ser utilizada para especificar restrições sobre diversos elementos de um mod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linguagem se cha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inguagem de Restrição de 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CL pode ser utilizada para definir expressões de navegação entre objetos expressões lógicas, consulta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AC5-022F-420B-ABC5-538FD5B632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Capítulo 3</a:t>
            </a:r>
            <a:br>
              <a:rPr sz="5400"/>
            </a:b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Mecanismos Gerai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4ED-CA6A-4CC6-897C-FD3CC96F71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stereótip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o par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stend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enriquecer) o significado de um determinado elemento em um diagram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predefine diversos estereótip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possível também definir estereótipos específ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E7F-FB21-4EB5-8128-19360E1570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stereótip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reótipos podem ser classificados em dois 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reótipo gráfico: um ícone que lembre o significado do conceito a ele associad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reótipos de rót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 nome delimitado pelos símbolos &lt;&lt; e &gt;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827-5B70-41D0-A7AD-7B38429DFB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s de estereótip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2120" y="2205000"/>
            <a:ext cx="6226200" cy="15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582560" y="4429080"/>
          <a:ext cx="2938680" cy="53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2560" y="4429080"/>
                    <a:ext cx="29386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CA5-12D3-4837-B7BA-FC7A34E7D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s explicat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as para comentar ou esclarecer alguma parte de um dia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 ser descritas em texto livre; também podem corresponder a uma expressão formal utilizando OCL (adian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702-4A03-428A-AD38-7B0219A7D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s de notas explicat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12920" y="2060640"/>
            <a:ext cx="381168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793880" y="4237200"/>
          <a:ext cx="6540480" cy="83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3880" y="4237200"/>
                    <a:ext cx="6540480" cy="83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91F-50FB-433D-A94E-A94EA4B5D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tiquetas (Tags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gráficos de um diagrama da UML possuem propriedades predefin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s propriedades para elementos de um diagrama podem também ser definidas atravé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tique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2FE-EA03-4F95-9C59-B83EE325D7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tique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as para definição de etique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{ tag = valor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{ tag1 = valor1 , tag2 = valor2 ...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{ tag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EE9-3AFB-4C39-84C2-8B6E4963E1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11:34Z</dcterms:modified>
  <cp:revision>376</cp:revision>
  <dc:subject>Sildes do livro</dc:subject>
  <dc:title>Princípios de Análise e Projeto Orientados a Objetos com UML</dc:title>
</cp:coreProperties>
</file>