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jpeg" ContentType="image/jpeg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94AF-9D25-4966-992B-6A0A2C65C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6C75-EACD-4156-8A28-24325D62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91FC-C907-4DAC-A204-EC2D470F1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867F-BA6D-4E04-869C-E38CF38BF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52C8-85EE-4329-B28F-F7D2E40D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928C-0483-4179-A51B-E9367741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0B0A-0F86-4DFE-9CB0-91E9CBDA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C53F-BC9F-4B7D-9ACA-BE2311E3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1661-8C4C-4E55-9A15-86AC76AA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462E-BA17-427E-92A5-B7E22D7F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4BD0-4006-4827-8C60-7E527C05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2FDF-D9EA-4459-8F5D-6D4D8134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7CDE-6828-4F29-ABBF-45561F89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CE59-1679-45F3-AC89-06793AEB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EF01-351D-4F18-80CF-744E42ED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8103-BD42-4391-926D-163B0CF60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2F07-9B4A-4371-B8BA-A2817268D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0B26-B6C9-4A47-B49A-2B0D16E7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4547-6658-4074-949E-60A6A712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1D6F-B38B-4848-87FE-6F04B154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D94C-CF88-48CB-9220-0007D348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38DE-E743-46FE-BC57-5798A2F6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FB07-A4DB-40FA-B7D2-ADEF4C9F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AE80-3317-493E-B11C-A21B7098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9AC2-01B8-4530-8AC4-268E0F583EA3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533520" y="1316160"/>
            <a:ext cx="7598880" cy="281160"/>
            <a:chOff x="533520" y="1316160"/>
            <a:chExt cx="7598880" cy="281160"/>
          </a:xfrm>
        </p:grpSpPr>
        <p:sp>
          <p:nvSpPr>
            <p:cNvPr id="7" name=""/>
            <p:cNvSpPr/>
            <p:nvPr/>
          </p:nvSpPr>
          <p:spPr>
            <a:xfrm>
              <a:off x="533520" y="1412640"/>
              <a:ext cx="7543800" cy="76320"/>
            </a:xfrm>
            <a:prstGeom prst="rect">
              <a:avLst/>
            </a:prstGeom>
            <a:gradFill rotWithShape="0">
              <a:gsLst>
                <a:gs pos="0">
                  <a:srgbClr val="868fd0"/>
                </a:gs>
                <a:gs pos="100000">
                  <a:srgbClr val="afb4df"/>
                </a:gs>
              </a:gsLst>
              <a:lin ang="10800000"/>
            </a:gra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4100000">
              <a:off x="7896960" y="1332720"/>
              <a:ext cx="169920" cy="247680"/>
            </a:xfrm>
            <a:prstGeom prst="triangle">
              <a:avLst>
                <a:gd name="adj" fmla="val 0"/>
              </a:avLst>
            </a:prstGeom>
            <a:solidFill>
              <a:srgbClr val="868fd0"/>
            </a:soli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DB53-AB2D-442E-836C-1285A7AA4F0E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Princípios de Análise e Projeto Orientados a Objetos com UML</a:t>
            </a: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6000"/>
            </a:br>
            <a:br>
              <a:rPr sz="6000"/>
            </a:b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94320" y="1401840"/>
            <a:ext cx="46080" cy="12600"/>
          </a:xfrm>
          <a:prstGeom prst="ellipse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64000" y="779400"/>
            <a:ext cx="38160" cy="7920"/>
          </a:xfrm>
          <a:prstGeom prst="rect">
            <a:avLst/>
          </a:prstGeom>
          <a:solidFill>
            <a:srgbClr val="fbfb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ardo Bezerr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dito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M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DD97-610B-400D-BA27-7594633EA3D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Exemplo de descrição contínua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Cliente chega ao caixa eletrônico e insere seu cartão. O Sistema requisita a senha do Cliente. Após o Cliente fornecer sua senha e esta ser validada, o Sistema exibe as opções de operações possíveis. O Cliente opta por realizar um saque. Então o Sistema requisita o total a ser sacado. O Sistema fornece a quantia desejada e imprime o recibo para o Cl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1651-633C-43DB-86AB-4713B34664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Exemplo de descrição numerada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liente insere seu cartão no caixa eletrôn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stema apresenta solicitação de sen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liente digita sen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stema exibe menu de operações disponíve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liente indica que deseja realizar um sa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stema requisita quantia a ser sac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liente retira a quantia e recib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4991-4D8E-4D16-A6D7-20479B2938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Exemplo de descrição numerada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68360" y="2252520"/>
          <a:ext cx="8532720" cy="3121200"/>
        </p:xfrm>
        <a:graphic>
          <a:graphicData uri="http://schemas.openxmlformats.org/drawingml/2006/table">
            <a:tbl>
              <a:tblPr/>
              <a:tblGrid>
                <a:gridCol w="4321080"/>
                <a:gridCol w="4211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Cli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Siste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Insere seu cartão no caixa eletrônic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Digita senh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Solicita realização de saqu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Retira a quantia e o recib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Apresenta solicitação de senh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Exibe operações disponíve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Requisita quantia a ser sacad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6556-9046-4EB4-89A2-0CE6935A53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etalhament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grau de detalhamento a ser utilizado na descrição de um caso de uso também pode vari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caso de uso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sucint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screve as interações sem muitos detal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caso de uso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expandid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screve as interações em detal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4937-785F-41CF-8A8B-9DDA947AA1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Grau de abstraçã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grau de abstração de um caso de uso diz respeito à existência ou não de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menção à tecnologi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a ser utilizada na descrição deste caso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caso de uso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essencia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n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faz menção à tecnologia a ser utiliza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caso de uso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apresenta detalhes da tecnologia a ser utilizada na implementação deste caso de uso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0A0E-1598-4C5A-B12C-1ADF89C854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Grau de abstraçã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63720" y="2900520"/>
          <a:ext cx="8000640" cy="2328480"/>
        </p:xfrm>
        <a:graphic>
          <a:graphicData uri="http://schemas.openxmlformats.org/drawingml/2006/table">
            <a:tbl>
              <a:tblPr/>
              <a:tblGrid>
                <a:gridCol w="8000640"/>
              </a:tblGrid>
              <a:tr h="302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Book Antiqua"/>
                        <a:buAutoNum type="arabicParenR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Cliente fornece sua identificaçã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Book Antiqua"/>
                        <a:buAutoNum type="arabicParenR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Sistema identifica o usuári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Book Antiqua"/>
                        <a:buAutoNum type="arabicParenR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Sistema fornece operações disponívei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Book Antiqua"/>
                        <a:buAutoNum type="arabicParenR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Cliente solicita o saque de uma determinada quanti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Book Antiqua"/>
                        <a:buAutoNum type="arabicParenR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Sistema fornece a quantia desejada da conta do Client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Book Antiqua"/>
                        <a:buAutoNum type="arabicParenR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Cliente recebe dinheiro e recib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571680" y="1676520"/>
            <a:ext cx="800100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 de descrição essencial (e numerad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59F6-D480-4349-9FDD-85111DC6C9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enário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caso de uso tem diversas maneiras de ser realiz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cenári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é a descrição de uma das maneiras pelas quais um caso de um pode ser realiz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cenário também é chamado d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instânci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 um caso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rmalmente há diversos cenários para um mesmo um caso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Úteis durante 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modelagem de interaçõ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38E8-3881-41B0-8E51-2E943BCA1B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enário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14400" y="1600200"/>
          <a:ext cx="7772040" cy="4530240"/>
        </p:xfrm>
        <a:graphic>
          <a:graphicData uri="http://schemas.openxmlformats.org/drawingml/2006/table">
            <a:tbl>
              <a:tblPr/>
              <a:tblGrid>
                <a:gridCol w="7772040"/>
              </a:tblGrid>
              <a:tr h="4569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Um Cliente telefona para a empres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Um Vendedor atende ao telefon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iente declara seu desejo de fazer um pedido de compr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endedor pergunta a forma de pagament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iente indica que vai pagar com cartão de crédit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endedor requisita o número do cartão, a data de expiração e o endereço de entreg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endedor pede as informações do primeiro ite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iente fornece o primeiro ite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endedor pede as informações do segundo ite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iente fornece o segundo 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endedor pede as informações do terceiro 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iente e informa o terceiro ite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endedor informa que o terceiro item está fora de estoq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iente pede para que O Vendedor feche o pedido somente com os dois primeiros ite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endedor fornece o valor total, a data de entrega e uma identificação do pedi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iente agradece e desliga o telefon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endedor contata a Transportadora para enviar o pedido de O Clien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CC33-3D21-4837-985B-F3190C701A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tore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557360"/>
            <a:ext cx="76899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lemento </a:t>
            </a:r>
            <a:r>
              <a:rPr b="0" i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extern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que </a:t>
            </a:r>
            <a:r>
              <a:rPr b="0" i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interag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com 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terno”: atores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fazem parte do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rage”: um ator troca informações com o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sos de uso representam uma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seqüência de interaçõ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ntre o sistema e o 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sentido de troca de informações entre e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rmalmente um agente externo inicia a seqüência de interações como o sistema, ou um evento acontece para que o sistema respon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524720" y="189000"/>
            <a:ext cx="137628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6347-C373-4DCF-8066-052FC7113A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tore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6321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tegorias de ato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esso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Empregado, Cliente, Gerente, Almoxarife, Vendedor, et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organizaçõ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Empresa Fornecedora, Agência de Impostos, Administradora de Cartões, et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outros sistem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Sistema de Cobrança, Sistema de Estoque de Produtos, et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equipamen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Leitora de Código de Barras, Senso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86680" y="2060640"/>
            <a:ext cx="1562040" cy="927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277040" y="3789360"/>
            <a:ext cx="1866960" cy="1630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148360" y="4906800"/>
            <a:ext cx="1950840" cy="195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6ED5-5F9F-40D4-95D5-EAC7666C62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Capítulo</a:t>
            </a: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 4</a:t>
            </a:r>
            <a:r>
              <a:rPr b="0" lang="sv-SE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Modelagem de Casos de Uso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000000"/>
                </a:solidFill>
                <a:latin typeface="Arial"/>
              </a:rPr>
              <a:t>Não diga pouco em muitas palavras, mas sim, muito em pou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itágor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6758-C385-465D-92EE-A2CAEAE7D5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tore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ator corresponde a um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pape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representado em relação a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mesmo indivíduo pode ser o Cliente que compra mercadorias e o Vendedor que processa ven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pessoa pode representar o papel de Funcionário de uma instituição bancária que realiza a manutenção de um caixa eletrônico, mas também pode ser o Cliente do banco que realiza o saque de uma quant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nome dado a um ator deve lembrar o seu papel, ao invés de lembrar quem o represen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6759-BD3C-43E4-8CA5-5934FCFC1D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tores primários e secundári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ator pode participar de muitos casos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caso de uso pode envolver vários atores, o que resulta na classificação dos atores em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primári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ecundári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ator primário é aquele que inicia uma seqüência de interações de um caso de u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ores secundários supervisionam, operam, mantêm ou auxiliam na utilização do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: para que o Usuário (ator primário) requisite uma página a um Browser (sistema), um outro ator (secundário) está envolvido, o Servidor We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4C5F-7C13-4AD4-8E68-2F0E8E0FC7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Relacionamento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sos de uso e atores não existem sozinhos. Pode haver relacionamentos ent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UML define diversos de relacionamentos no modelo de casos de us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omun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Inclu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xten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General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984D-6159-4210-9719-DB19E080F5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Relacionamento de comunic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Existe somente entre casos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Analogia útil: rot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m uma linguagem de programação, instruções podem ser agrupadas em uma unidade lógica chamada rot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empre que essas instruções devem ser executada, a rotina correspondente é cham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Quando dois ou mais casos de uso incluem uma seqüência de interações comum, esta seqüência comum pode ser descrita em um outro caso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90B9-A209-481E-983D-538788FA9B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Relacionamento de comunic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Este caso de uso comu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vita a descrição de uma mesma seqüência de interações mais de uma vez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orna a descrição dos casos de uso mais sim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Um exemplo: considere um sistema de controle de transações bancárias. Alguns casos de uso deste sistema são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Obter Extrato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Realizar Saque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Realizar Transferência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Há uma seqüência de interações em comum: a seqüência de interações para validar a senha do cl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CFA9-E521-46E8-8D25-71444D12531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Relacionamento de extensã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tilizado para modelar situações onde diferentes seqüências de interações podem ser inseridas em um caso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jam A e B dois casos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relacionamento de extensão de A para B indica que um ou mais dos cenários de B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ode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incluir o comportamento especificado por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ste caso, diz-se que B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sten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caso de uso A é chamado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stendi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o caso de uso B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xtens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BFDC-B718-4A55-8B42-3C2A77E0B2E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Relacionamento de extensã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uma das diferentes seqüências representa um comportament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opciona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que só ocorre sob certas condições ou cuja realização depende da escolha do 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ndo um ator opta por executar a seqüência de interações definida no extensor, este é execu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ós a sua execução, o fluxo de interações volta ao caso de uso estendido, recomeçando logo após o ponto em que o extensor foi inser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mportante: não necessariamente o comportamento definido pelo caso de uso extensor é realiz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E02A-B1E1-47BE-8F6F-5085F83167E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Relacionamento de extensã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: considere um processador de textos. Considere que um dos casos de uso deste sistema seja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ditar Document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cenário típico deste caso de uso, o ator abre o documento, modifica-o, salva as modificações e fecha o docu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s, em outro cenário, o ator pode desejar que o sistema faça uma verificação ortográfica no docu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outro, o ele pode querer realizar a substituição de um fragmento de texto por ou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136B-5DE6-4AA5-9E57-C81BE3CF67B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Relacionamento de extensã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terações de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ubstituir Text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qualquer momento durant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ditar Documen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o ator pode optar por substituir um fragmento de texto por out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ator fornece o texto a ser substituído e o texto substitu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ator define os parâmetros de substituição (substituir somente palavras completas ou ocorrências dentro de palavras; substituir no documento todo ou somente na parte selecionada; ignorar ou considerar letras maiúsculas e minúscula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sistema substitui todas as ocorrências encontradas no tex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AEBF-1F95-472A-AC42-7A7593B30B9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Relacionamento de generaliz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lacionamento no qual o reuso é mais evid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e relacionamento permite que um caso de uso (ou um ator) herde características de um caso de uso (ator) mais genér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caso de uso (ator) herdeiro pode especializar o comportamento do caso de uso (ator) b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de existir entre dois casos de uso ou entre dois at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21D7-D7D9-4FF5-86D9-6FB25978D3F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ntrodu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modelo de casos de us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é uma representação das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funcionalidad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xternamente observáveis do sistema e dos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elementos extern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ao sistema que interagem com o me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modelo de casos de uso modela os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requisitos funcionai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CC09-7056-4A3B-BA60-0252B6D085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Relacionamento de generaliz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generalização entre casos de us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sejam A e B dois casos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B herda de A, as seqüências de comportamento de A valem também para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for necessário, B pode redefinir as seqüências de comportamento de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ém disso, B participa em qualquer relacionamento no qual A particip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ntagem: comportamento do caso de uso original é reutilizado pelos casos de uso herdei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omente o comportamento que não faz sentido ou é diferente para um herdeiro precisa ser redefin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C776-FA47-4824-A60D-9A629E70B32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Relacionamento de generaliz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generalização entre ator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significa que o herdeiro possui o mesmo comportamento que o ator do qual ele her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ém disso, o ator herdeiro pode participar em casos de uso em que o ator do qual ele herda não particip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exemplo: considere uma biblioteca na qual pode haver alunos e professores como usuá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bos podem realizar empréstimos de títulos de livros e reservas de exempl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entanto, somente o professor pode requisitar a compra de títulos de livros à bibliote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F093-1714-444F-8793-026882C349B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Diagrama de casos de uso</a:t>
            </a:r>
            <a:r>
              <a:rPr b="0" lang="pt-BR" sz="5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DCF4-D43A-494F-AAA8-2C6760F6E51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casos de uso (DCU)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presenta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graficament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os atores, casos de uso e relacionamentos entre os eleme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m o objetivo de ilustrar em um nível alto de abstração quais elementos externos interagem com que funcionalidades d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espécie de “diagrama de contexto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resenta os elementos externos de um sistema e as maneiras segundo as quais eles as utiliz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A9EC-0394-4AD1-906D-81B3ED16040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Not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notação para um ator em um DCU é a figura de um bone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 o nome do ator definido abaixo desta fig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caso de uso é representado por uma elip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nome do caso de uso é posicionado abaixo ou dentro da elip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relacionamento de comunicação é representado por um segmento de reta ligando ator e caso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de-se também representar a fronteira do sistema em um diagrama de casos de us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26C2-9F02-445B-B43C-AF628B8A452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xemplo (Notação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14400" y="1677960"/>
          <a:ext cx="7772400" cy="437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77960"/>
                    <a:ext cx="7772400" cy="43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66AB-FDBA-45E8-9F1D-8CDA9AB2415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xemplo (Notação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971640" y="1763640"/>
          <a:ext cx="7921440" cy="39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763640"/>
                    <a:ext cx="7921440" cy="39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052C-E7C5-468F-8ADC-3D01B5700BE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Not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relacionamentos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inclus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extens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heranç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são  representados por uma seta direcionada de um caso de uso para ou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seta (tracejada) de um relacionamento de inclusão recebe o estereótip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&lt;&lt;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nclui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&gt;&gt;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seta (tracejada) de um relacionamento de inclusão recebe o estereótip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&lt;&lt;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stend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&gt;&gt;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seta (sólida) de um relacionamento de herança  não recebe estereótip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0F1D-5F56-4514-BA6F-75AC5803902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Not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258920" y="1754280"/>
          <a:ext cx="7128000" cy="40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754280"/>
                    <a:ext cx="7128000" cy="40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0909-B012-4287-8F8C-1BE3A03864D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Not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71640" y="1974960"/>
          <a:ext cx="7705800" cy="36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974960"/>
                    <a:ext cx="7705800" cy="36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216E-67CB-4661-AE44-304E864A3A5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ntrodu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diagrama da UML utilizado na modelagem de casos de uso é o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diagrama de casos de us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écnica de modelagem idealizada por Ivar Jacobson, na década de 197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is tarde, incorporada ao método Objec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steriormente, a notação de casos de uso foi adicionada à UM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A396-5EE7-4064-A17F-38AAC551AB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Not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908000" y="1700280"/>
          <a:ext cx="4896000" cy="47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700280"/>
                    <a:ext cx="4896000" cy="47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5E5D-8107-4134-AA36-DBA1A4B3F92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Not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619280" y="2205000"/>
          <a:ext cx="6192720" cy="35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205000"/>
                    <a:ext cx="6192720" cy="35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68C8-E238-4032-ACBD-A4A863D60CC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Identificação dos elementos do modelo de casos de uso </a:t>
            </a:r>
            <a:r>
              <a:rPr b="0" lang="pt-BR" sz="5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52FB-286A-4FB0-86F6-9DAD1A649E2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Identificação dos elementos do modelo de casos de us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atores e os casos de uso são identificados a partir de informações coletadas na fase de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levantamento de requisit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urante esta fase, os analistas devem identificar as atividades do negócio relevantes ao sistema a ser construí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ão há uma regra geral que indiqu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quant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casos de uso são necessários para descrever completamente um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quantidade de casos de uso a ser utilizada depende completamente da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complexidad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00D4-9235-4F15-B811-0E2F3260598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dentificação de ator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876920" y="5510160"/>
            <a:ext cx="1855800" cy="1231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295280" y="5662440"/>
            <a:ext cx="1836720" cy="1079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581280" y="5975280"/>
            <a:ext cx="648000" cy="333360"/>
          </a:xfrm>
          <a:prstGeom prst="rightArrow">
            <a:avLst>
              <a:gd name="adj1" fmla="val 50000"/>
              <a:gd name="adj2" fmla="val 48596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5207040" y="5621400"/>
          <a:ext cx="517320" cy="399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07040" y="5621400"/>
                    <a:ext cx="5173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ontes e os destinos das informações a serem processadas são atores em poten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vez que um ator é todo elemento externo que interage com o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analista deve identific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áreas da empresa que serão afetadas ou utilizarão o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ntes de informações a serem processadas e os destinos das informações geradas pelo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5ADE-C759-48CB-8031-9253F21C931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dentificação de ator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erguntas úte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e órgãos, empresas ou pessoas irão utilizar o siste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e outros sistemas irão se comunicar com o sistema a ser construí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uém deve ser informado de alguma ocorrência no siste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em está interessado em um certo requisito funcional do siste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desenvolvedor deve ainda continuar a pensar sobre atores quando passar para a identificação dos casos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B5C2-D48F-4A51-85F2-922C5703AEF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dentificação de casos de us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partir da lista (inicial) de atores, deve-se passar à identificação dos casos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essa identificação, pode-se distinguir entre dois tipos de casos de u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mário: representa o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os ato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cundário: aquele que não traz benefício direto para os atores, mas que é necessário para que sistema funcione adequadam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8C7C-970D-487E-B1AD-4673D049D1D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asos de uso primári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erguntas úte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is são as necessidades e objetivos de cada ator em relação ao siste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e informações o sistema deve produzi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sistema deve realizar alguma ação que ocorre regularmente no temp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cada requisito funcional, existe um (ou mais) caso(s) de uso para atendê-l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Outras técnicas de identifica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aso de uso “opost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aso de uso que precede a outro caso de uso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aso de uso relacionado a uma condição interna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aso de uso que sucede a outro caso de uso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aso de uso temporal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715C-BBFE-46F6-BAA5-1BA07AE7A2F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asos de uso secundári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es se encaixam nas seguintes categori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nutenção de cadastr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nutenção de usuá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nutenção de informações provenientes de outros sist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mportante: Um sistema de software não existe para cadastrar informações, nem tampouco para gerenciar os seus usuá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objetivo principal é produzir algo de valor para o ambiente no qual ele está implan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6EF2-2D23-4B45-947A-8334094A0CA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Construção do modelo de casos de uso  </a:t>
            </a:r>
            <a:r>
              <a:rPr b="0" lang="pt-BR" sz="5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B252-C1AE-4B5E-952A-2B0A6904EDF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ntrodu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e modelo direciona diversas das tarefas posteriores do ciclo de vida do sistema de soft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ém disso, o modelo de casos de uso força os desenvolvedores a moldar o sistema de acordo com o usuári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B053-ABDB-4553-8D5A-FBECF97AB9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Construção do diagrama de casos de uso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diagramas de casos de uso devem servir para dar suporte à parte escrita do modelo, fornecendo uma visão de alto ní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nto mais fácil for a leitura do diagrama representando casos de uso, melh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 o sistema sendo modelado não for tão complexo, pode ser criado um único DC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e diagrama permite dar uma visão global e de alto nível d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BA1C-52D4-4C11-ABD5-7936B31A298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Construção do diagrama de casos de uso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sistemas complexos, representar todos os casos de uso do sistema em um único DCU talvez o torne um tanto ilegí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ternativa: criar vários diagramas, de acordo com as necessidades de visualiz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agrama exibindo um caso de uso e seus relacionament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agrama exibindo todos os casos de uso para um 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agrama exibindo todos os casos de uso a serem implementados em um ciclo de desenvolv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0EB5-6774-46FD-82DD-3BB1C49C54D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ocumentação dos ator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419640" y="4292640"/>
            <a:ext cx="2574720" cy="15890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breve descrição para cada ator deve ser adicionada ao modelo de casos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nome de um ator deve lembrar o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pape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sempenhado pelo mesmo n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621F-C5D9-4689-B32B-409A2909A47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ocumentação dos casos de us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L não define uma estruturação específica a ser utilizada na descrição do formato expandido de um caso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seguir, é apresentada uma sugestão de descri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equipe de desenvolvimento deve utilizar o formato de descrição que lhe for realmente út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3DB5-8B8A-4B29-9DA3-B8BD7C093DB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ocumentação dos casos de us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367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cri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dentific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mportâ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um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or Prim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ores Secundá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é-condi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1700280"/>
            <a:ext cx="45720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luxo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luxos Alterna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luxos de Exce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ós-condi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gras do Negóc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istó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tas de Implemen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B61E-7E7A-4B5A-AE93-AD6F177EEC6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ocumentação dos casos de us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258920" y="2852640"/>
            <a:ext cx="6400800" cy="3645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84360" y="1600200"/>
            <a:ext cx="80643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descrição do modelo deve ser mantida no nível mais simples possíve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1B1D-333E-48D2-AB2A-9BA4B82FB39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Documentação associada ao modelo de casos de uso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6FDE-C28E-4487-AE72-EB5A37AE9F3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ocumentação dos casos de us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modelo de casos de uso força o desenvolvedor a pensar em como os agentes externos interagem como 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entanto, este modelo corresponde somente aos requisitos funciona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utros tipos de requisitos (desempenho, interface, segurança, regras do negócio, etc.) também fazem parte d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documento de requisi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5E7B-2F42-4705-8DA9-6C5B0DECB15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Regras do negócio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ão políticas, condições ou restrições que devem ser consideradas na execução dos processos existentes em uma organiz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crevem a maneira pela qual a organização funcio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as regras são identificadas e documentadas no chamado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modelo de regras do negóci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descrição do modelo de regras do negócio pode ser feita utilizando-se texto informal, ou alguma forma de estrutur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4DFF-3D7D-404F-AC95-9DDECA436E9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Regras do negócio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guns exemplos de regras do negóc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O valor total de um pedido é igual à soma dos totais dos itens do pedido acrescido de 10% de taxa de entre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Um professor só pode estar lecionando disciplinas para as quais esteja habili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Um cliente do banco não pode retirar mais de R$ 1.000 por dia de sua co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Os pedidos para um cliente não especial devem ser pagos antecipad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39E9-D505-46C7-95C3-D3A7463C805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omponentes do model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modelo de casos de uso de um sistema é composto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sos de 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lacionamentos entre os elementos anteri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35AC-66C7-4E68-B1CF-94184EB390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Regras do negócio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gras do negócio normalmente têm influência sobre um ou mais casos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identificadores das regras do negócio devem ser adicionados à descrição do caso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tilizando a seção “regras do negócio” da descrição do caso de u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F83C-159A-4C15-AC60-1E6383850C4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Regras do negócio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124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ssível formato para documentação de uma regra de negóci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033560" y="2781360"/>
          <a:ext cx="7714800" cy="2988360"/>
        </p:xfrm>
        <a:graphic>
          <a:graphicData uri="http://schemas.openxmlformats.org/drawingml/2006/table">
            <a:tbl>
              <a:tblPr/>
              <a:tblGrid>
                <a:gridCol w="1508400"/>
                <a:gridCol w="6206400"/>
              </a:tblGrid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Quantidade de inscrições possíveis (RN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escr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Um aluno não pode ser inscrever em mais de seis disciplinas por semestre letiv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ordenador da escola de informá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istór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ata de identificação: 12/07/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28C2-D87B-4108-AE63-A00D139F7682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Requisitos de desempenho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124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exão de casos de uso a requisitos de desempenho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826920" y="2565360"/>
          <a:ext cx="7859880" cy="3565440"/>
        </p:xfrm>
        <a:graphic>
          <a:graphicData uri="http://schemas.openxmlformats.org/drawingml/2006/table">
            <a:tbl>
              <a:tblPr/>
              <a:tblGrid>
                <a:gridCol w="2165400"/>
                <a:gridCol w="2521080"/>
                <a:gridCol w="2295360"/>
                <a:gridCol w="87804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dentific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o caso de u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reqüê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a utiliz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áximo espe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SU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5/mê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era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SU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5/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 segun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SU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60/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era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SU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80/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3 segun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SU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600/mê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0 segun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SU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500/dia durante 10 dias seguid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0 segun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3F8C-47B3-43A0-90F6-B341FA04089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Modelo de casos de uso no processo de desenvolvimento 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987640" y="9810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2BDC-0A73-428D-819F-1AA7BE4550F1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odelo de casos de uso no processo de desenvolviment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identificação da maioria dos atores e casos de uso é feita na fase de concep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descrição dos casos de uso considerados mais críticos começa já nesta fase, que termina com 10% a 20% do modelo de casos de uso compl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o final da fase de elaboração 80% do modelo de casos de uso está construí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crição feita até em um nível de abstração essen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ACA2-DA6B-4778-A622-3B04B10C5552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odelo de casos de uso no processo de desenvolviment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fase de construção, casos de uso formam uma base natural através da qual podem-se realizar as iterações do desenvolvi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grupo de casos é alocado a cada iter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cada iteração, o grupo de casos de uso é detalhado e desenvolv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processo continua até que todos os casos de uso tenham sido desenvolvidos e o sistema esteja completamente construí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6086-FEC6-4825-9F1B-121AAAF01187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odelo de casos de uso no processo de desenvolviment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e tipo de desenvolvimento é chamado de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desenvolvimento dirigido a casos de us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ve-se considerar os casos de uso mais importantes primeira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ntor propõe uma classificação em função do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risco de desenvolviment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das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prioridades estabelecidas pelo usuári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) Risco alto e prioridade 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) Risco alto e prioridade baix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3) Risco baixo e prioridade 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4) Risco baixo e prioridade baix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7FCB-0379-4BFD-ACAA-52A5CB530408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odelo de casos de uso no processo de desenvolviment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siderando-se essa categorização, um caso de uso não tão importante não será contemplado nas iterações inicia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acar o risco maior mais ced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descrição expandida de um caso de uso pode ser deixada para a iteração na qual este deve ser implemen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vita perda de tempo inicial no detalha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ratégia mais adaptável aos requisitos voláte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83A7-382C-432B-B646-641FB54D5BE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Casos de uso nas atividades de análise e projeto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fase de análise, descrições de casos de uso devem capturar os requisitos funcionais do sistema e ignorar aspectos de projeto, como a interface gráfica com o usuá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6C65-B504-4A26-ADF2-091FD10178B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Procediment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dentifique os atores e casos de uso na fase de concep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fase de elabora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enhe o(s) diagrama(s) de casos de us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creva os casos de uso em um formato de alto nível e essen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dene a lista de casos de uso de acordo com prioridade e ris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socie cada grupo de casos de uso a uma iteração da fase de constru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rupos mais prioritários e arriscados nas iterações inici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49D1-63D9-4A2A-9269-91A02EA3AB46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asos de us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caso de uso é a especificação de uma seqüência de interações entre um sistema e os agentes exter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e parte da funcionalidade de um sistema,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sem revelar a estrutura e o comportamento internos deste sistem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modelo de casos de uso típico é formado de vários casos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3E75-0F9E-44BB-B9F7-12A2AB527D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Procediment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i-ésima iteração da fase de constru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talhe os casos de uso do grupo associado a esta iteração (nível de abstração rea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mplemente estes casos de us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2A98-0012-46DD-9695-B780B3E7BFB7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asos de uso e outras atividades do desenvolviment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lanejamento e gerenciamento do proje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ferramenta fundamental para o gerente de um projeto no planejamento e controle de um processo de desenvolvimento incremental e iterativ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stes do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casos de uso e seus cenários oferecem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asos de tes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ocumentação do usu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nuais e guias do usuário podem ser construídos com base nos casos de us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C7A1-1686-4CBA-9C76-DDF6D69E0278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asos de us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2781360"/>
            <a:ext cx="7274160" cy="22334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5040" y="2865960"/>
            <a:ext cx="6999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m caso de uso representa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quem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az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o que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 (interage) com o sistema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m considerar o comportamen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terno do sistem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1DDD-31F3-451A-8801-7AFCF358C1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escrições narrativa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caso de uso é definido através da descrição narrativa das interações que ocorrem entre o(s) elemento(s) externo(s) e 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á várias formas de se descrever casos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rau de abst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rau de detalh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432F-406C-45EB-9AE9-4FBF59C823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2T21:30:00Z</dcterms:created>
  <dc:creator>Eduardo Bezerra</dc:creator>
  <dc:description/>
  <dc:language>en-US</dc:language>
  <cp:lastModifiedBy>bezerra</cp:lastModifiedBy>
  <dcterms:modified xsi:type="dcterms:W3CDTF">2003-02-21T16:12:02Z</dcterms:modified>
  <cp:revision>378</cp:revision>
  <dc:subject>Sildes do livro</dc:subject>
  <dc:title>Princípios de Análise e Projeto Orientados a Objetos com UML</dc:title>
</cp:coreProperties>
</file>