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888-A8DB-41E0-B611-4894FAEE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162-E217-41F1-A76A-190C91F7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BCF-E278-4739-B96D-9FE036C0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EEC-C3CA-44E8-8406-4D82B0D2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367B-DB7E-432B-9544-145A40B7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8468-E538-4627-9BE4-0476833B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6EFA-610A-412E-9A65-E6CC7CA0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E8C3-FC94-4F94-A49D-EAE8CE4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36A3-5522-4448-92BD-8F16C31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876C-7CC9-495E-A868-F929DDA8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9FBA-FBA3-40EB-ACDB-444C35D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296-8125-45BC-8529-45114F36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92B-A338-42A6-85ED-86B40F1C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7374-A349-4CB9-A99F-8B398F3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2F18-05A9-4CCB-9D93-E785A266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3D21-66D2-4D10-94ED-9C8660C4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1824-19D1-4B1B-884D-7B0CF9BE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BC3-EDB6-4913-9120-6EFDCCC6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2CE-111D-4471-9CFA-A05EEC24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5F1-42AD-477D-86A5-87A8C9ED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8FB-14BB-4EA0-993F-B64B1ECF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A3C-1A79-44FE-9303-FC91CB8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928-938D-4004-A144-7F6267FA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D02-DE48-4BA9-A14F-0C15DC02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A0CD-1773-44A8-92A9-18DA98C8D4FD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0C3C-7ED4-4E88-9C78-BFF368B9534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BC48-A576-4B8F-A7A2-96FFEC4AF8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uma clas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da através de uma “caixa” com no máximo três compartimentos exib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tação utilizada depende do nível de abstração desej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3821040"/>
            <a:ext cx="828180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29E-3CC5-45AE-BAE9-8A8617AD59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classe ContaBancári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90680"/>
            <a:ext cx="7772400" cy="31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8C4-28E8-482F-B9A1-0589088829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ssoci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representar o fato de que objetos podem se relacionar uns com os outros, utiliza-se 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ssoc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ssociação representa relacionamentos (ligações)que são formados entre objetos durante a execuçã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bora as associações sejam representadas entre classes do diagrama, tais associações representam ligações possíveis entr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objet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as classes envolvid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89F-6343-4EFA-A423-580E3B9508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uma associ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da através de um segmento de reta ligando as classes cujos objetos se relacion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35280" y="3500280"/>
          <a:ext cx="57466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00280"/>
                    <a:ext cx="5746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835280" y="4437000"/>
          <a:ext cx="669744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66974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35280" y="5516640"/>
          <a:ext cx="590544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5516640"/>
                    <a:ext cx="5905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A5E-7DBA-4B5E-8252-B4D591CEB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ultiplicidad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m a informação dos limites inferior e superior da quantidade de objetos aos quais um outro objeto pode estar assoc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associação em um diagrama de classes possui duas multiplicidades, uma em cada extremo da linha de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1EC-5AEE-42DA-B9F8-871C802496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ultiplicidad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87280" y="2136600"/>
          <a:ext cx="7129800" cy="3195720"/>
        </p:xfrm>
        <a:graphic>
          <a:graphicData uri="http://schemas.openxmlformats.org/drawingml/2006/table">
            <a:tbl>
              <a:tblPr/>
              <a:tblGrid>
                <a:gridCol w="4537080"/>
                <a:gridCol w="259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mbolo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enas 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1 (ou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ero ou Mu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* (ou 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ou Mu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ero ou 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rvalo Específ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l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59F-6091-479F-AC83-75BADE5B2F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multiplicidade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628640"/>
            <a:ext cx="77724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um cliente que esteja associado a vários pe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um cliente que não esteja associado a pedido alg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pedido está associado a um, e somente um, cl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87280" y="4956120"/>
          <a:ext cx="7417080" cy="9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56120"/>
                    <a:ext cx="7417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FEE-E6EC-4632-9440-53FC0E5144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multiplicidade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62864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orrida está associada a, no mínimo, dois velocis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orrida está associada a, no máximo, seis veloc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velocist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tar associado a várias corr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14520" y="4976640"/>
          <a:ext cx="65865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4976640"/>
                    <a:ext cx="6586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F74-6E33-498D-BDAE-883751B12C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ec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conectiv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rresponde ao tipo de associação entre duas classes: 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uitos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 e 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para u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ectividade da associação entre duas classes depende dos símbolos de multiplicidade que são utilizados na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490-0F00-4E73-8096-C1BD0E24EA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ectividade X Multiplic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0320" y="2276640"/>
          <a:ext cx="7988400" cy="3247920"/>
        </p:xfrm>
        <a:graphic>
          <a:graphicData uri="http://schemas.openxmlformats.org/drawingml/2006/table">
            <a:tbl>
              <a:tblPr/>
              <a:tblGrid>
                <a:gridCol w="3090960"/>
                <a:gridCol w="2233440"/>
                <a:gridCol w="2664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ectiv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 um extre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 outro extre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para 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para mu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itos para mu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015-6A23-4DD9-B879-F65A4AC302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5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agem de Classes do Domínio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47280" y="3962160"/>
            <a:ext cx="6681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emos uma capacidade inata de ordenar em diferentes grupos e classes todas as nossas impressões sensor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stein Gaardner, O mundo de Sofia,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6E90-E2FD-4261-BE81-C79EDCE6F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conectividade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2592360"/>
          <a:ext cx="8388360" cy="24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592360"/>
                    <a:ext cx="838836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A01-5BF8-4990-9A39-B761C08C85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cip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aracterística de uma associação que indica a necessidade (ou não) da existência desta associação entre obje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articipação pode se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brigató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pcio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 valor mínimo da multiplicidade de uma associação é igual a 1 (um), significa que a participação é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obrigató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 contrário, a participação é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opciona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90D-94EA-4589-8917-5476D00F6C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Nome de associação, direção de leitura e papéi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melhor esclarecer o significado de uma associação no diagrama de classes, a UML define três recursos de not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Nome da associ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fornece algum significado semântico a mes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Direção de leitur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indica como a associação deve ser l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Pape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para representar um papel específico em uma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CD1-57ED-429B-941E-BD451B52CC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(Nome de associação, direção de leitura e papéis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25400" y="2532240"/>
          <a:ext cx="80946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2532240"/>
                    <a:ext cx="80946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CAD-C350-4A4C-AD76-CA976D61AA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greg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 caso especial da assoc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seqüentemente, multiplicidades, participações, papéis, etc. podem ser usados ig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a para representar conexões que guardam uma relaçã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odo-par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ntr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a agregação, um objeto está contido no outro, ao contrário de uma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 se puder utilizar uma agregação, uma associação também poderá ser utiliz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41E-DA59-4999-8E80-5881F0359B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greg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particul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gregações são assimétricas: se um objeto A é parte de um objeto B, B não pode ser parte de 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gregações propagam comportamento, no sentido de que um comportamento que se aplica a um todo automaticamente se aplica as suas part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80C-EEFD-4DAA-9681-2EA986C680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gr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m duas classes associadas, X e Y. Se uma das perguntas a seguir for respondida com um sim, provavelmente há uma agregação onde X é todo e Y é p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X tem um ou mais 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Y é parte de X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2C6-1886-4F0A-B82E-5429A89872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330033"/>
                </a:solidFill>
                <a:latin typeface="Times New Roman"/>
              </a:rPr>
              <a:t>Notação para uma agregação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4360" y="3970440"/>
          <a:ext cx="828180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70440"/>
                    <a:ext cx="82818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914400" y="1600200"/>
            <a:ext cx="7772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presentada como uma linha conectando as classes relacionadas, com um diamante (losango) branco perto da classe que representa o tod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CA6-C0C0-4968-A82A-02A5DE62F7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 associati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classe que está ligada a uma associação, ao invés de estar ligada a outras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normalmente necessária quando duas ou mais classes estão associadas, e é necessário manter informações sobre esta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lasse associativa pode estar ligada a associações de qualquer tipo de conectiv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0AF-3A1C-451B-A612-52F1DCB72E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Notação para uma classe associativa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600200"/>
            <a:ext cx="7772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presentada pela notação utilizada para uma classe. A diferença é que esta classe é ligada a uma associaçã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58920" y="3573360"/>
          <a:ext cx="734364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73360"/>
                    <a:ext cx="734364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7EF-BE36-446D-828E-07E9ED734D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asos de uso fornece uma perspectiva do sistema a partir de um ponto de vist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xter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posse da visão de casos de uso, os desenvolvedores precisam prosseguir no desenvolviment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9E6-AE0B-4789-AAA4-B67681A23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ssociações n-ári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utilizadas para representar a associação existente entre objetos de n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ssociação terná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uma caso mais comum (menos raro) de associação n-ária (n = 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notação da UML, as linhas de associação se interceptam em um losan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798-6090-4659-9A18-4DCE54B889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associação ternári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2565360"/>
          <a:ext cx="6337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65360"/>
                    <a:ext cx="6337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5DD-05BB-4D58-BF80-4241C12732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ssociações reflexiv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 objetos da mesm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objeto tem um papel distinto na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tilização de papéis é bastante importante para evitar ambigüidades na leitura da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ssociação reflexiv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dica que um objeto se associa com ele próp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o contrário, indica que objetos de uma mesma classe se associ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CAB-8CD5-4411-9A2D-CA3D317717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Exemplo (associação reflexiva)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484360" y="2446200"/>
          <a:ext cx="4608720" cy="28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46200"/>
                    <a:ext cx="4608720" cy="28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7F4-0C87-4B4C-8DBF-BEBFD9487B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Identificando as classes iniciais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F358-86D9-463D-83D2-474B853075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Identificando class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istema de software orientado a objetos é composto de objetos em colaboração para realizar as tarefas deste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outro lado, todo objeto pertence a um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anto, quando se fala na identificação das classes, o objetivo na verdade é saber quais objetos irão compor 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E77-2C09-4042-9E5B-F87608C7E1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Identificando class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uma forma geral, a identificação de classes se divide em duas ativida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imeiramente,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classes candidata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ão identific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pois disso, são aplicados alguns princípios para eliminar classes candidatas desnecessá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ssíve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lasses para um sistema não é complicado; o difícil é eliminar deste conjunto o que não é necessá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133-70D4-4987-A5BC-5B20A2EC44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irigida a responsabi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 de identificação onde a ênfase está na identificação de classes a partir de seu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porta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xternos relevantes para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a classe faz para cumprir com suas responsabilidades deve ser abstraí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esforço recai sobre a identificação d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sponsabil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cada classe deve 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étod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dirigido a responsabilidades enfatiza o encapsulamento da estrutura e do comportamento dos objeto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BC0-1368-44AB-8774-71D128B175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ponsabilidades e colaborad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sistemas OO, objetos encapsulam tanto dados quanto comport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mportamento de um objeto é definido de tal forma que ele possa cumprir com sua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sponsabil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responsabilidade é uma obrigação que um objeto tem para com o sistema no qual ele está ins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ravés delas, um objeto colabora (ajuda) com outros para que os objetivos do sistema sejam alcançad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C3C-A43F-4CF5-AEAF-CC761087A3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ponsabilidades e colaborad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ática, uma responsabilidade é alguma coisa que um objet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nhe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z. (sozinho ou não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Client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conhec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eu nome, seu endereço, seu telefon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Pedid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conhec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ua data de realização e sab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faze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o cálculo do seu to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um objeto tem uma responsabilidade com a qual não pode cumprir sozinho, ele deve requisitar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labor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outr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260-231E-47E6-86DF-C8029D6FEA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uncionalidade externa de um sistema orientado a objetos é fornecida através de colaborações entr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ternamente, os atores visualizam resultados de cálculos, relatórios produzidos, confirmações de requisições realizada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namente, os objetos colaboram uns com os outros para produzir os result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colaboração pode ser vista sob 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specto dinâmic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sob 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specto estrutural estátic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spectos dinâmico e estátic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48A-9589-46E0-9DEB-CAB625644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ponsabilidades e colaborad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xemplo: quando a impressão de uma fatura é requisitada em um sistema de vendas, vários objetos precisam colabo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Pedido pode ter a responsabilidade de fornecer o seu valor to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Cliente fornece seu 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ItemPedido informa a quantidade correspondente e o valor de seu subto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objetos Produto também colaboraram fornecendo seu nome e preço unitári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3EE-AED9-4774-954A-E6496B3428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ponsabilidades e colaborad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58920" y="1989000"/>
          <a:ext cx="69120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9120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BEE-64D8-4F36-99F0-C9D55FB9A04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tegorias de responsabilidad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stuma-se categorizar os objetos de um sistema de acordo com o tipo de responsabilidade a ele atribuí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ent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cont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frontei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categorização foi proposta por Ivar Jacobson (Jacobson et al, 1992) em uma técnica denominada Análise de Robust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A30-AF60-4175-BD36-989BB1FB94D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Ent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985160" y="189000"/>
          <a:ext cx="9079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5160" y="189000"/>
                    <a:ext cx="9079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objeto de entidade é um repositório para alg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form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manipulada pel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objetos representam conceitos do domínio do negó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esses objetos armazenam informações persist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várias instâncias de uma mesma classe de entidade coexistindo n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586-233E-444D-99EA-DC61CCBE02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Ent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res não têm acesso direto a este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entidade se comunicam com o exterior do sistema por intermédio de outros ob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de entidade normalmente participam de vários casos de uso e têm um ciclo de vida lon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Pedid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ode participar dos casos de us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Realizar Pedid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tualizar Estoqu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Este objeto pode existir por diversos anos ou mesmo tanto quanto o própri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B85-9D37-4C66-B03B-CD01245CE6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Ent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de fazer típicas de objetos de entid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formar valores de seus atributos a objetos de cont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alizar cálculos simples, normalmente com a colaboração de objetos de entidade associados através de agregaçõ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r e destruir objetos parte (considerando que o objeto de entidade seja um objeto todo de uma agregaçã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870-C6B9-49AE-A730-51CF50F8F03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Fronteir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083440" y="44280"/>
            <a:ext cx="881280" cy="1297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objetos traduzem os eventos gerados por um ator em eventos relevantes a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bém são responsáveis por apresentar os resultados de uma interação dos objetos em algo inteligível pelo 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objeto de fronteira existe para que o sistema se comunique com o mundo ex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conseqüência, estes objetos são altamente dependentes do amb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F85-E44A-4D9B-865D-0CCF3B5DB86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Fronteir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de fronteira realizam a comunicação do sistema com atores, sejam eles outros sistemas, equipamentos ou seres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três tipos principais de classes de frontei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que se comunicam com o usuário (atores humanos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que se comunicam com outr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que se comunicam com dispositivos atrelados a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118-9491-4FBA-92A0-BEDA02C2F49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Fronteir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icamente têm as seguintes responsabilidad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 faz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tificar aos objetos de controle de eventos gerados externamente a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tificar aos atores do resultado de interações entre os objetos inter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9C2-E776-48C8-B19D-7DD02B9CBC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Fronteir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 conhec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classes de fronteira para interação humana representam informação manipulada através da interface com 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construção de protótipos pode ajudar a identificar essas responsab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de conhecer para classes de fronteira que realizam comunicação com outros sistemas representam propriedades de uma interface de comunicaç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71F-C868-4010-BFE8-5C5FB9B0B7A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agrama da UML utilizado para representar o aspecto estático é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class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class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composto desse diagrama e da descrição textual assoc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s principais deste capítu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crever um método para identificação das classes de objetos de um sistema partir do modelo de casos de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alguns dos elementos do diagrama de classes (outros elementos são descritos em capítulos posterio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crever a construção do modelo de domín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crever a inserção do modelo de classes no processo de desenvolv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D3B-552E-4639-8B36-B69D38123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Control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32720" y="115920"/>
          <a:ext cx="2071440" cy="11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15920"/>
                    <a:ext cx="207144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a “ponte de comunicação” entre objetos de fronteira e objetos de ent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áveis por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ar a lógica de execu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rrespondente a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idem o que o sistema deve fazer quando um evento externo relevante ocor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les realizam o controle do process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gem como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gerent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(coordenadores, controladores) dos outros objetos para a realização de um ou mais caso de u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42D-EF1D-4984-AF27-F71321DDDA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Control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bastante acoplados à lógica da apl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duzem eventos externos em operações que devem ser realizadas pelos demai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o contrário dos objetos de entidade e de fronteira, objetos de controle são tipicamente 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sultam informações e requisitam serviços de outros ob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652-FB1E-43E6-A396-3C46620110C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Control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de fazer típ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alizar monitorações, a fim de responder a eventos externos ao sistema (gerados por objetos de fronteir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ordenar a realização de um caso de uso através do envio de mensagens a objetos de fronteira e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segurar que as regras do negócio (Seção 4.5.1) estão sendo seguidas corret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ordenar a criação de associações entre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DA9-116B-4966-B4E0-54E1B8D416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Control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de conhecer  estão associadas manter valores acumulados, temporários ou derivados durante a realização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 também ter o objetivo de manter o estado da realização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êm vida curta: normalmente existem somente durante a realização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BD1-90D3-4170-85E4-CD551FB678F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tegorização de responsabilidades implica em que cada objeto é especialista em realizar um de três tipos de taref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comunicar com atores (frontei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nter as informações do sistema (entida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ordenar a realização de um caso de uso (cont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mportância dessa categorização está relacionada à capacidade de adaptação do sistema a eventuais muda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F7F-1348-49D9-90DF-C5C03191DB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cada objeto tem funções específicas dentro do sistema, eventuais mudanças no sistema podem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nos complex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locali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eventual modificação em uma parte do sistema tem menos possibilidades de resultar em mudanças em outras par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B88-8B66-4EBA-A1F8-8D1810EBB01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55640" y="1706400"/>
          <a:ext cx="7772400" cy="4530960"/>
        </p:xfrm>
        <a:graphic>
          <a:graphicData uri="http://schemas.openxmlformats.org/drawingml/2006/table">
            <a:tbl>
              <a:tblPr/>
              <a:tblGrid>
                <a:gridCol w="5688000"/>
                <a:gridCol w="20844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ipo de muda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nde mu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169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danças em relação à interface gráfica, ou em relação à comunicação com outros sistem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ontei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danças nas informações manipuladas pelo do sist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t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danças em funcionalidades complexas (lógica do negóci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998-593D-49B8-806F-75565FD9B6C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vantagem de separação de responsabilidades em um sistema para uma loja de aluguel de car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 sistema tiver que ser atualizado para que seus usuários possam utilizá-lo pela Internet, a lógica da aplicação não precisaria de modificaçõ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a lógica para calcular o valor total das locações feitas por um cliente: se esta lógica estiver encapsulada em uma classe de controle, somente esta classe precisaria de modif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A53-414A-412D-9C9B-BE317E82679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um sistema de software que faça separação das responsabilidades de apresentação (fronteira), de lógica da aplicação (controle) e de manutenção dos dados (entidad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cilita também o reuso dos objetos no desenvolvimento de sistemas de software semelh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juda no desacoplamento entre elementos do 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86F-3FF7-41D3-88A2-0BB9BB5FBDB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87280" y="1611360"/>
          <a:ext cx="648036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11360"/>
                    <a:ext cx="648036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9C5-0AFB-4E7A-A5AD-013E62AEC1A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modelo de classes evolui durante o desenvolvimento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À medida que o sistema é desenvolvido, o modelo de classes é incrementado com novos detalh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ê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íveis sucessivos de abstr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omín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Especific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Implement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DA5-F267-478E-8038-11E465C1DA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ndo para a identificaçã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nálise os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da caso de uso é analisado para identificar classes candida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missa: a partir da descrição textual dos casos de uso, podem-se derivar as classe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existência de uma classe em um sistema só pode se justificar se ela participa de alguma forma para o comportamento externamente visível d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F22-E6A3-4A50-9ECF-B0567AF747D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ndo para a identificaçã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substantivos que aparecem no texto do caso de uso são destac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10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ão também consideradas locuções equivalentes a substantiv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ônimos são remov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m: abordagem é bastante si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 depende de como os casos de uso foram escr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10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 linguagem natural, as formas de expressar uma mesma idéia são bastante numeros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2D6-CF2F-4D51-AD85-47728BEBD12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ndo para a identificaçã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ontornar os problemas na identificação de classes através da análise de casos de uso, uma solução é aplicar uma estratégia em dois pa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z-se a análise dos casos de uso para identificar as classes candida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pois disso, aplica-se uma outra técnica para validar o que foi descoberto e para identificar novas classes: a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modelagem CRC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417-937B-4122-89DA-9529D2D0156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baseia fortemente no paradigma da orientação a objetos, onde objetos cooperam uns com os outros para que uma tarefa do sistema seja re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tiva quando profissionais que não têm tanta experiência com o paradigma da orientação a objetos estão envolvidos na identificaçã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alizada em conjunto por especialistas de domínio e desenvolv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029-019B-44BE-9A73-C9F8D9B14D0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odelagem CRC não faz parte da U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ncípio, essa técnica foi proposta como uma forma de ensinar o paradigma da orientação a objetos a inic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udo, a sua simplicidade de notação a tornou particularmente interessante para ser utilizada na identificação de classes de domín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800-D87B-4F5E-ACCA-6AD07BD76AA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pecialistas do negócio e desenvolvedores trabalham em conjunto para identificar classes, juntamente com suas responsabilidades e colabor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s profissionais se reúnem em uma sala, onde tem início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ssão CR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sessão CRC envolve por volta de meia dúzia de pessoas: especialistas de domínio, projetistas, analistas e um moder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a pessoa é entregue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artão CR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D03-ADF4-4FA8-B48B-51C5E53BCB3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rtão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87280" y="2492280"/>
          <a:ext cx="7129440" cy="2425680"/>
        </p:xfrm>
        <a:graphic>
          <a:graphicData uri="http://schemas.openxmlformats.org/drawingml/2006/table">
            <a:tbl>
              <a:tblPr/>
              <a:tblGrid>
                <a:gridCol w="3889440"/>
                <a:gridCol w="3240000"/>
              </a:tblGrid>
              <a:tr h="503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 da classe (especialida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a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abor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ª responsa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ª responsa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-ésima responsa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º colabo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º colabo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-ésimo colabo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9B0-D035-4CBE-8A49-1D3A34E0A40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Cartão CRC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55640" y="2349360"/>
          <a:ext cx="8244000" cy="3268800"/>
        </p:xfrm>
        <a:graphic>
          <a:graphicData uri="http://schemas.openxmlformats.org/drawingml/2006/table">
            <a:tbl>
              <a:tblPr/>
              <a:tblGrid>
                <a:gridCol w="5112000"/>
                <a:gridCol w="3132000"/>
              </a:tblGrid>
              <a:tr h="46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Bancária (entida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a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abor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hecer o seu cli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hecer o seu núme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hecer o seu sal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nter um histórico de    transaçõ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ceitar saques e depósi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istóricoTransaç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DBD-5221-4FF3-96C5-91C2F392E05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distribuição dos cartões pelos participantes, deve-se considerar as categorias de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cenário de caso de uso típico, pode-se começar c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de fronteira para cada ator participante do caso de uso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de controle para todo o caso de us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rmalmente há vários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EA6-B0CB-4014-BA55-2DA17FBEF2D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figuração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oderador da sessão pode desempenhar o papel do objeto control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utro participante desempenha o papel do objeto de frontei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utro participante pode simular o ator (ou atores, se houver mais de u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demais representam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C67-9DCC-433A-B070-4BEFAC1C17F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classes de domíni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 as classes no domínio do negócio em questão. Não leva em consideração restrições inerentes à tecnologia a ser utilizada na solução de um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classes de especif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obtido através da adição de detalhes ao modelo anterior conforme a solução de software escolh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classes de implemen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rresponde à implementação das classes em alguma linguagem de progra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43A-2468-4C5F-BC9F-118F4F5F47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z distribuídos os cartões pelos participantes, um conjunto de cenários de cada caso de uso é selecio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cenário, uma sessão CRC é re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 caso de uso não for tão complexo, ele pode ser analisado em uma única sess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já existem algumas classes candidatas para um certo cen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9AC-A209-4E38-B06E-11A3658F812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ssão CRC começa com a simulação do ator primário disparando a realização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demais participantes encenam a colaboração entre objetos para que o objetivo do ator seja alcanç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vés dessa encenação, as classes, responsabilidades e colaborações são identifi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E1E-2B61-47A1-A79A-D1E38033C79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(procedimento)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lecionar um conjunto de cenários de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um dos ce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aminar a sua seqüência de passos para identificar as responsabilidades do sistema em relação a cada um desses pas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entificar classes relevantes que devem cumprir com as responsab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etir o passo 2 para o próximo cenário e modificar a alocação de responsabilidades e a definiçã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84F-9DB2-4326-8281-15BE52B2241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icas para atribuição de responsabilidad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r responsabilidades com base na especialidade d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tribuir a inteligência do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rupar as responsabilidades conceitualmente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itar responsabilidades redund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756-65CB-44A8-A533-EC4FFE8CA75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onstrução do modelo de classes de domínio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6DC2-ACF6-4AF5-AFC6-D6E8B867FA3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Propriedades de uma classe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responsabilidade de conhecer é mapeada para um ou mais atribu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de uma classe são um modo mais detalhado de explicitar as responsabilidades de faz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operação pode ser vista como uma contribuição da classe para uma tarefa mais complexa representada por um caso de u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definição mais completa das operações de uma classe só pode ser feita após a construção dos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iagramas de inter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E11-3AF2-42A1-8D41-8CE20C594A5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finição de associações e agreg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fato de uma classe possuir colaboradores indica que devem existir relacionamentos entre estes últimos e a clas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to porque um objeto precisa conhecer o outro para poder lhe fazer requisiçõ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tanto, para criar associações, verifique os colaboradores de uma clas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aciocínio para definir associações reflexivas, ternárias e agregações é o me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A8C-FDE3-4030-9C04-414C43C19FE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finição de classes associativ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rgem a partir de responsabilidades de conhecer que o modelador não conseguiu atribuir a alguma clas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600" indent="-4064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mais raramente, de responsabilidad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 fa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55640" y="3746520"/>
          <a:ext cx="806436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46520"/>
                    <a:ext cx="80643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5A4-38B5-46C0-A408-8582F1A58C9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ndo o 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responsabilidades e colaboradores mapeados para elementos do modelo de classes devem ser organizados em um diagrama de classes e documentados, resultando n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classes de domín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 ser associados estereótipos predefinidos às classes identific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924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0ED-7A0F-4A67-B0DD-B88D6481A0F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ndo o 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um único diagrama de classes para todo o sistema pode resultar em um diagrama bastante complexo. Um alternativa é criar uma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são d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asses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rticipa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VCP) para cada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a VCP, são exibidos os objetos que participam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VCPs podem ser reunidas para formar um único diagrama de classes para o sistema como um t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5C1-D9C0-4947-8F17-A181C313B82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termos do domínio do negó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descrever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presentado pelo sistema a ser desenvolvido, sem considerar características 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ser uti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lasses de domínio é descrito neste capít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lasses de domín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BB2-FE00-42DD-9D0C-40FD3431AD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ndo o 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ador pode optar por “esconder” as classes de fronteira ou até mesmo as classes de cont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ferramenta CASE que dê suporte a essa operação seria de grande ajuda para a equipe de desenvolvi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 diagrama, as classes devem ser documentadas textu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860-B28A-44D2-8C23-C46F01F51E0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classes no processo de desenvolvimento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327636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435-C026-461C-9E12-C5B0629856A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lasses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 desenvolvimento dirigido a casos de uso, após a descrição dos casos de uso, é possível iniciar a identificaçã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lasses identificadas são refinadas para retirar inconsistências e redundâ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lasses são documentadas e o diagrama de classes inicial é construído, resultando no modelo de classes de domí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6C4-5ED0-4D5E-9A16-DCF6A8128B0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lasses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onsistências nos modelos devem ser verificadas e corrig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onstruções do modelo de casos de uso e do modelo de classes são retroativas uma sobre a ou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 realização de uma sessão CRC, novos casos de uso podem ser identifi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-se identificar a necessidade de modificação de casos de uso preexist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E54-336A-4717-9B52-3CBC4AC074A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lasses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5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alhes são adicionados aos modelos, à medida que o problema é ent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042920" y="2852640"/>
          <a:ext cx="7135920" cy="31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71359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E76-6B75-4692-8F5B-411CB48961A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iagrama de objetos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A9F9-E65F-47C5-8CCD-B25934AC244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 diagrama de classes, A UML define um segundo tipo de diagrama estrutural, o diagrama d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visto com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stâ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diagramas d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uma “fotografia” do sistema em um certo mo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ibe as ligações formadas entre objetos conforme estes interagem e os valores dos seus atribu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1C0-2AED-408D-AF50-EA88AE52439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Diagrama d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26920" y="2013120"/>
          <a:ext cx="7772400" cy="1487160"/>
        </p:xfrm>
        <a:graphic>
          <a:graphicData uri="http://schemas.openxmlformats.org/drawingml/2006/table">
            <a:tbl>
              <a:tblPr/>
              <a:tblGrid>
                <a:gridCol w="4440240"/>
                <a:gridCol w="3332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xemp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nomeCl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Ped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nomeObjeto: NomeCl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umPedido: Ped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1BB-A7F5-4FF8-9195-A3F87856CC3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Diagrama de objeto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901880"/>
          <a:ext cx="856944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901880"/>
                    <a:ext cx="85694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BD3-2B08-40F7-B64A-DCCE38F2580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Diagrama de objeto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2276640"/>
          <a:ext cx="817236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76640"/>
                    <a:ext cx="81723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232-B652-4562-942B-4B0BE48C976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lasse representa um grupo de objetos semelh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lasse descreve esses objetos atravé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tribu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per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tributos correspondem às informações que um objeto armaz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operações correspondem às ações que um objeto sabe rea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892-492F-4BB1-9228-F41D7DA1BB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 diagrama de classes, A UML define um segundo tipo de diagrama estrutural, o diagrama d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visto com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stâ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diagramas d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uma “fotografia” do sistema em um certo mo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ibe as ligações formadas entre objetos conforme estes interagem e os valores dos seus atribu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B56-1800-4598-820B-9A11D8DFC72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17:08Z</dcterms:modified>
  <cp:revision>374</cp:revision>
  <dc:subject>Sildes do livro</dc:subject>
  <dc:title>Princípios de Análise e Projeto Orientados a Objetos com UML</dc:title>
</cp:coreProperties>
</file>