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B51-C247-436B-A63C-07769B7C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4EB-9979-4BFB-B9F2-A6A02053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C67-EB6D-4A9E-A2AF-A2F9A746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907-7ABA-4C97-B162-33B10B82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A50D-B8CC-458C-9D2C-EF2579D0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4D3F-F57E-4415-9EBC-B74DA99C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8F29-298F-4F0B-8CAA-8AB64D9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0A6F-5516-4318-9226-CBF2630F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7C79-8B40-4227-857F-AED668FC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277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BA89-88C9-4001-A51B-3D4BD132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FD9E-81D7-42E4-8D18-19F7D076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B90-28DF-445B-9F3C-8062A99F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3B36-E938-4AFA-99EA-8F1A31CC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82D1-14BE-4486-86A6-DABABBF1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EF76-0916-429A-BFC1-5C4945A0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4578-8E5A-4377-A125-569F7344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69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040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69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0DDB-9F24-4343-BA29-3B00661E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628-8B91-4638-A95E-E3A8EF85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EE1-409F-49D7-8EA1-E1887304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B6C-B397-4DAA-ACA5-1EFE72DC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277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E15-90A6-497E-9028-136084B0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0EF-ECE4-43C2-B2B1-8E0E6472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109-A386-4629-8F62-56714FD5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A80-21F2-4C3B-9045-581E1727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5C09-B456-4CB2-9A7E-1A8896F8CD3C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385C-FAE7-4760-8C5A-C6E558EAC915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3B48-17C4-489B-98B0-EF0B536229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ntaxe da UML para mensagen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pecificação para o rótulo de uma mensagem deve seguir a seguinte sintax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577960"/>
            <a:ext cx="7848720" cy="459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ressão-seqüência recorrência: v := operação(parâmetr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1400" y="4422600"/>
            <a:ext cx="3889080" cy="703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[’ cláusula-condição ‘]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’ ‘[’ cláusula-iteração ‘]’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9080" y="3505320"/>
            <a:ext cx="7772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 o term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corrê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se ser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di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um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repeti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508720"/>
            <a:ext cx="7772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único termo obrigatório corresponde à ope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697-7206-4E7F-B9E6-B5BAD7E333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s (Sintaxe da UML para mensagens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[para cada f em F] desenha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[enquanto x&gt;0] transformar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senha é válida] abrirJanelaPrincipal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: adicionarItem(i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 [a &gt; b]: trocar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*: desenha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*[i := 1..10]: desenhar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.2.1: x := selecionar(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F2A-13F3-49C2-BA82-14AEC0C672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ivos do modelo de inter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objetivos da construção do modelo de interação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r informações adicionais para completar e aprimorar outros modelos (principalmente o modelo de cla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as operações de uma clas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os objetos participantes da realização de um caso de uso (ou cenário dest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operação, qual a sua assinatu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classe precisa de mai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necer aos programadores uma visão detalhada dos objetos e mensagens envolvidos na realização dos casos de u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8FB-CA89-4328-B031-84CF4B895F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nter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 como os outros diagramas da UML, o diagrama de interação possui um conjunto de elementos gráf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b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s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 de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truição de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C58-AAC6-413C-9776-17B4135A8C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nter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95280" y="4533840"/>
          <a:ext cx="660420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33840"/>
                    <a:ext cx="660420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14400" y="16002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são representados em um diagrama de interação utilizando-se a mesma notação gráfica dos diagrama de obje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representar objeto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nônim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objeto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ome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pendendo da situ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também podem ser represent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o caso de mensagens enviadas para a classe em vez de ser enviada para um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E1E-A143-4926-9355-0FFDD11B71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Tipos de diagrama de inter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dois tipos de diagrama de inte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agrama de seqü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agrama de comun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agramas de seqüência e de comunicação são equivalentes entre 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pode ser convertido no ou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855960"/>
            <a:ext cx="7777080" cy="825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seqüência: mensagens enviadas no decorrer do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4935600"/>
            <a:ext cx="7777440" cy="825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comunicação: mensagens enviadas entre objetos que estão relacio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1A2-F194-4A8C-B750-D069C266F0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seqüênc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objetos participantes da interação são organizados na horizo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aixo de cada objeto existe uma linha (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linha de v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linha de vida possui o seu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oco de contro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 objeto está fazendo al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mensagens entre objetos são representadas com linhas horizontais rotuladas partindo da linha de vida do objeto remetente e chegando a linha de vida do objeto 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osição vertical das mensagens permite deduzir a ordem na qual elas são env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m de envio de mensagens em um diagrama de seqüência pode ser deduzida a partir das expressões de seqü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ção e destruição de objetos podem ser represe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C89-850C-4909-B38D-8EDF085A93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Forma geral de diagramas de seqüência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71640" y="2133720"/>
          <a:ext cx="732780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32780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968120" y="2833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68040" y="2852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8880" y="2852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3B7-71AE-4C2B-845F-D56DBEB4CB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Forma geral de diagramas de seqüênc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44720" y="1700280"/>
          <a:ext cx="72723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700280"/>
                    <a:ext cx="72723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005840" y="21193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68080" y="2143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73120" y="320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B8B-B9E8-4AA3-B517-A8030D21C5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unic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mad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agrama de colabo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a UML 1.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lmente, é bastante semelhante a um diagrama d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iferença é que são adicionados setas e rótulos de mensagens nas ligações entre esses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ligações (linhas) entre objetos correspondem 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lacionam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xistentes entre os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 haver consistência com o diagrama de class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objetos estão distribuídos em duas dimen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ntagem: normalmente permite construir desenhos mais legíveis comparativamente aos diagramas de seqü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vantagem: não há como saber a ordem de envio das mensagens a não ser pela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pressões de seqüê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ção de envio de mensagem é indicada por uma seta próxima ao rótulo da mens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3B8D-5F82-4900-A0D6-963012A097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7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Modelagem de Interaçõ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omente após a construção de diagramas de interação para os cenários de um caso de uso, pode-se ter certeza de que todas as responsabilidades que os objetos devem cumprir foram identific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var Jacobson,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EAB0-A01C-46AA-876A-0D5B4EFA32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unic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1150920" cy="903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320" y="5081760"/>
            <a:ext cx="865080" cy="1699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execução de um cenário de caso de uso, objetos podem s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ri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outros objetos podem s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truí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objetos podem sobreviver à execução do caso de uso (se conectando a outro objetos); outros podem nascer e morrer durante essa exec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ML defin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tiquet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ags) para criação e destruição de objetos ou de ligações entr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new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bjetos ou ligações criados durante a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destroyed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bjetos ou ligações destruídos durante a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transient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bjetos ou ligações destruídos e criados durante a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D27-D996-45A1-B1C8-FEB17A1908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de diagrama de comunic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2467080"/>
          <a:ext cx="814572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67080"/>
                    <a:ext cx="814572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14400" y="1600200"/>
            <a:ext cx="7905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uso da restrição {new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3BF-52F3-4AF2-B8B2-994CA99A24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ulti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obj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le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objetos de uma mesma classe.Pode ser utilizado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r o lado muitos de uma associação de conectividade um para mu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r uma lista (temporária ou não) de objetos sendo formada em uma colab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: uma mensagem pode ser enviada para a coleção como um todo, em vez de ser enviada para um único objeto da cole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multiobjeto é representado graficamente através de dois retângulos superpo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uperposição dos retângulos evita a confusão com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ome do multiobjeto é apresentado no retângulo que fica por cima e segue a mesma nomenclatura utilizada para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nção: usar o nome da classe de seus elementos para nomear o multiob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900840" y="168120"/>
            <a:ext cx="152568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4A8-80B6-44CE-B214-5007E8D648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Notação para Multiobje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5280" y="2182680"/>
          <a:ext cx="838836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82680"/>
                    <a:ext cx="838836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567-837D-4641-A8A1-2657D58FA8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Implementação de Multiobje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ltiobjetos são implementados através de classes que manipulem um conjunto d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++: classes (templates) list e set (ST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talk: classe Collec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va: classes Vector, HashTable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lphi: classe 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mensagens típicas para um multiobjeto são as segui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rParaPrimeir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óxim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terior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contrar(umIdentificadorObj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icionar(umObj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mover(umObj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3AF-A498-4324-AD14-F3A36B0178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onstrução de diagramas de interação  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0CF5-633C-4A44-95A7-FACBD36927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colhendo entre diagramas de seqüência e de comunicaçã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seqüê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be as mensagens ordenadas no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visualização fica dificultada conforme o número de objetos cresce (disposição em uma dimens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comunic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be mensagens enfatizando relacion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lhor utilização do espaço (disposição em duas dimensõ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adequado para profissionais que estão acostumados à sessões CR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o diagrama de seqüência é equivalente ao diagrama de comunicação, a escolha por um ou outro é mais questão de go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rramentas CASE: transformação automat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BF4-5934-41D7-85BC-60A8A2EBB7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cedimento de constru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ada caso de uso, defina um conjunto de cenários relev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ada cenário definido, faç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cione os atores, objeto de fronteira e objeto de controle no dia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ada passo do cenário selecionado, defina as mensagens a serem enviadas de um objeto a ou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a as cláusulas de condição e de iteração, se existirem, para as mensa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icione multiobjetos e objetos de entidade à medida que a sua participação se faz necessário no cenário selecion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97D-6F48-45E9-A41E-8F2694967D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servações sobre o proced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finição dos cenários depende da complexidade dos passos do caso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de mensagens com base nas responsabilidades de cada objeto envolv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ome da mens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argumentos de cada mensagem, se existi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valor de retorno da operação correspondente, se exis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áusulas de condição e de repetição, se existi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io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objetos já devem ter sido identificados durante a construção do modelo de classes de domínio (sessões CRC, outras técnic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stência em relação ao modelo de casos de uso e ao contexto utilizado do diagrama de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enário relevante para cada caso de uso foi consider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nsagens que um objeto recebe estão consistentes com suas responsabilid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262-64DC-44B6-9101-0FD1CB6D7F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servações sobre o proced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de um controlador podem ser criados em um mesmo caso de uso, dependendo de sua complex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trolador pode mesmo ser suprimido, também em função da complexidade do caso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mensagens de um ator a um objeto de fronteira normalmente são rotuladas com a informação fornecida (por exemplo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tem de pedido, id e senh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vez de considerar um cenário completo de um caso de uso, pode ser construído um diagrama de interação para um único passo desse caso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933-A836-49E0-9C3D-6B950F0BBE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160" y="3352680"/>
            <a:ext cx="930240" cy="200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modelos vistos até agora fornecem diversas informações sobre o sistema. No entan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ivo desses modelos é fornecer um entendimento do problema correspondente ao sistema de software a ser desenvolv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de casos de u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são as operações que devem ser executadas internamente ao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classes estas operações pertenc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objetos participam da realização deste caso de u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FEE-E658-476C-B906-A9F07687F3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o de interações no processo de desenvolvimento de sistema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FF7F-6786-49FF-8A1B-50816DBDF3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interação no P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utilizados na fase de construção de um ciclo de vida incremental e ite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construídos para os casos de uso alocados para uma iteração desta f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vérsia sobre utilização na análise ou n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mente (+análise), pode exibir apenas os objetos participantes e mensagens exibindo somente o nome da operação (ou nome da responsabilida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teriormente (+projeto), pode ser ref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 e destruição de objetos, tipo e assinatura completa de cada mensagem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489-3D33-4050-9DA1-54056E3020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interação no P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um processo incremental, os modelos evoluem em conj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bora estes modelos representem visões distintas do sistema, eles s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nterdependentes e complementa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o de casos de uso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odelo de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enários a serem consid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o de classes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odelo de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os iniciais para o modelo de inte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o de interação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odelo de cla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talhamento de oper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talhamento de associ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ções para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os atributos para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as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nsideração dos detalhes obtidos durante a construção do modelo de interação fornece informações úteis para transforma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odelo de classes conceitu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odelo de classes de especifi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C04-2591-40C2-A9DA-2D4CCEFE49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interação no P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68160" y="2025720"/>
          <a:ext cx="800748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2025720"/>
                    <a:ext cx="80074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6DA-FB81-4371-9A9D-C195B4B284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320" y="4916520"/>
            <a:ext cx="796680" cy="1712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de classes de domín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que forma os objetos colaboram para que um determinado caso de uso seja realiz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e ordem as mensagens são enviadas durante esta realiz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informações precisam ser enviadas em uma mensagem de um objeto a out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que há responsabilidades ou mesmo classes que ainda não foram identificad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ssões CRC pode ajudar a identificar quais são as responsabilidades de cada objeto e com que outros objetos ele precisa colabo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s sessões CRC não fornecem um modo de documentar essas inter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FA9-45A8-4641-BBE5-2410AB7BA1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responder às questões anteriores, os diagramas de interação devem ser cri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s diagramas  representam mensagens trocadas entre objetos para a execução de cenários dos casos de us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strução desses diagramas é uma consolidação do entendimento dos aspectos dinâmicos do sistema iniciado nas sessões C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337280"/>
            <a:ext cx="8439120" cy="2288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s de interação representam como o sistema age internamente para que um ator atinja seu objetivo na realização de um caso de uso. A modelagem de um sistema de OO normalmente contém diversos diagramas de interação. O conjunto de todos os diagramas de interação de um sistema constitui o se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elo de inter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13D-1222-4B34-A129-FB3B7D082C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nsag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6280" y="4343400"/>
            <a:ext cx="8362800" cy="1905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8560" y="432504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mensagem representa a requisição de u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bjeto remet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u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bjeto recept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que este último execute algum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finida para sua cla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mensagem deve cont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nform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uficiente para que a operação do objeto receptor possa ser execu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incípio básico da interação entre objetos é o conceit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sistema de OO pode ser visto como uma rede de objetos. Funcionalidades são realizadas pelos objetos, que só podem interagir através do envio de mensa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3AB-B01C-493E-A83F-25D0DC5858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ensagens </a:t>
            </a:r>
            <a:r>
              <a:rPr b="0" i="1" lang="pt-BR" sz="3800" spc="-1" strike="noStrike">
                <a:solidFill>
                  <a:srgbClr val="330033"/>
                </a:solidFill>
                <a:latin typeface="Times New Roman"/>
              </a:rPr>
              <a:t>versus</a:t>
            </a: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 Responsabilidad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ato de um objeto “precisar de ajuda” indica a necessidade de este enviar mensag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construção de diagramas de interação, mensagens de um objeto a outro implicam em operações que classes devem 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975840"/>
            <a:ext cx="6999480" cy="1557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mensagem implica na existência de uma operação no objeto receptor. A resposta do objeto receptor ao recebimento de uma mensagem é a execução da operação correspond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989-7AEA-4FAF-8C3B-17150F4991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ensagens </a:t>
            </a:r>
            <a:r>
              <a:rPr b="0" i="1" lang="pt-BR" sz="3800" spc="-1" strike="noStrike">
                <a:solidFill>
                  <a:srgbClr val="330033"/>
                </a:solidFill>
                <a:latin typeface="Times New Roman"/>
              </a:rPr>
              <a:t>versus</a:t>
            </a: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 Responsabilidad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1986120"/>
          <a:ext cx="7848360" cy="35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6120"/>
                    <a:ext cx="7848360" cy="35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961-F868-4F04-A947-0E9C091911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Tipos de mensagen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ensagem definidos pela UM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sagem simpl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utilizada quando 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aturez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mensagem não é relev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sagem síncro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indica que o objeto remetente espera que o objeto receptor processe a mensagem antes de recomeçar o seu process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sagem assíncro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bjeto remetent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pera a resposta para prosseguir com o seu process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sagem de retorn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indica o término de uma op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22400" y="4267080"/>
          <a:ext cx="554508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4267080"/>
                    <a:ext cx="554508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BE3-69B0-47D5-AF2C-E29B7CC565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NUPAC - Unidade Ipanema</cp:lastModifiedBy>
  <dcterms:modified xsi:type="dcterms:W3CDTF">2004-11-12T13:25:17Z</dcterms:modified>
  <cp:revision>487</cp:revision>
  <dc:subject>Sildes do livro</dc:subject>
  <dc:title>Princípios de Análise e Projeto Orientados a Objetos com UML</dc:title>
</cp:coreProperties>
</file>