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4B2-7A03-46AC-80A3-7B040096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80C-03A3-4E43-8E7A-0C2CC47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F90-F147-4181-A8A0-706FAA57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76F-5502-4031-822C-73D3BCEF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88D3-0854-4D15-823B-79DFC64F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B51-AB05-4315-89E2-17CD1980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1C0-6777-4304-8481-5123A01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7C8-8810-40BB-AEBF-EE73DF0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E08D-1B41-4476-9B47-DFFB6E51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9675-461A-4CD8-B08F-EA8944D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EDBD-D758-47C8-A73F-EEEE436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1C5-E00F-4193-B782-14F21EA0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C28F-6BA0-40F1-8DD4-3254534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F9FF-3A92-4901-8538-E338017D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FEC-1C82-4411-9C09-78EEFB95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D52A-630D-4767-B884-C3717707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F684-FCA0-42AA-AD3D-12E146CA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13E-D9CC-40B0-9F7B-8787F72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291-4EAC-4B41-9C2C-59ED41D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441-076F-4FE6-ADD3-F97C67D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D60-4205-4C6F-9160-7D0C82A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BCC-7794-479B-B9FE-1F480BB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1E5-90FA-4D72-AD2C-40C1E65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421-768F-4EB6-8392-403BB85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C05-DE6F-4C24-A345-2312D50BA6E7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659-49E4-46C5-820B-810FC431A2E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apa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FBFE-A5F2-43F4-8A95-1450CFBB75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oper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: um processamento realizado por (um objeto de) um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mos de implementação: é uma rotina associada a um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nstrução do modelo de interações, operações identificadas na análise são validadas e várias outras operações são identif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operações devem ser adicionadas ao diagrama de classes e documentadas através da definição de su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sinatu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F46-0BE9-4EDD-97D0-B031D221E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intaxe da UML para oper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completa de um atributo deve seguir a 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565360"/>
            <a:ext cx="882036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isibilidade nome(parâmetros): tipo-retorno {propriedade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080" y="45529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ibilidade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pode ser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de retorno e dos parâmetros dependentes de lingu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co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751200"/>
            <a:ext cx="655344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reção nome-parâmetro: tipo-parâ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3213000"/>
            <a:ext cx="7772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nde, para cada parâmet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1EA-5D2A-402B-A98B-4D499C564B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s (Sintaxe da UML para operações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905120"/>
          <a:ext cx="647712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477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08E-20E6-4E00-9C59-9589B6839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Qualificadores para parâmet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2608200"/>
          <a:ext cx="7772400" cy="2044800"/>
        </p:xfrm>
        <a:graphic>
          <a:graphicData uri="http://schemas.openxmlformats.org/drawingml/2006/table">
            <a:tbl>
              <a:tblPr/>
              <a:tblGrid>
                <a:gridCol w="1496880"/>
                <a:gridCol w="62755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re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en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saí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entrada e de saí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21C-6AE9-49F7-BBBA-EB059813C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de criação e destruição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utilizadas freqüentemente nas interaçõe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uma operação de criação servem para iniciar atributos d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 prática: se o valor de um atributo é essencial para o significado do objeto, é mais adequado iniciar o seu valor logo na criação d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destruição servem para liberar memória alocada dinam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criação são identificadas na construção dos diagrama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criação também são utilizadas para definir o estado inicial de um objeto que passa por um conjunt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relev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urante a sua exist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308-5F79-4C85-962C-F75841BFA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eletores e modificador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ncapsulament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acesso a informações internas a uma classe deve ser realizado através de sua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da pelas operações de visibilidade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ssegurar o encapsulamento da classe, todos os seus atributos com visibilidade privativa ou prote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haver operações para obter acess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le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para modificar o valo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ific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 cada atrib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nção utiliz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e um seletor é formado com o prefix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b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seguido do nome do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e um modificador é construído com o prefix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fin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seguido do nome do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sempre faz sentido ter um modificador e um seletor para um atribu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D28-623D-4372-878A-44EB37C04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Especificação de associaçõ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E70-B1D0-4E4F-B735-201E954C8E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UML, há três tipos de relacionamentos entre ob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neraliz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odelo de classes de domínio, os relacionamentos entre objetos foram identificados como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lacionamento de dependência indica que uma classe depende d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rviç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rnecidos por uma outr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ísticas de implem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3C7-0E9F-453F-B734-36D0461275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tipos de dependência entre duas classes podem exis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atribu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variável glob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variável loc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parâmetr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do através de uma linha direcionada e tracejada ligando as classes envolv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reção é da classe dependent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ara a classe da qual ela depen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ornecedo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reótipos: global, local,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44480" y="5535720"/>
          <a:ext cx="75549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535720"/>
                    <a:ext cx="7554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A6E-5169-48A3-B54E-091633A36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5080"/>
          <a:ext cx="83170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575080"/>
                    <a:ext cx="83170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248-0860-4813-9073-702A173388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 8</a:t>
            </a: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Especificação de Classes, Propriedades e Associações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fection (in design) is achieved not when there is nothing more to add, but rather when there is nothing more to take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Raymond, The Cathedral and the Baz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BE5D-FCAD-4CBB-80B7-339FDF0F2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dependência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passagem para o modelo de especificação cada associação deve ser considerada para identificar se ela pode ser transformada em depend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: aumentar o encapsulamento d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 por atributo torna as classes envolvidas mais dependentes uma da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enos dependências estruturais houver no modelo de classes, maior é o encapsulamento das classes constitui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 entre classes de fronteira e control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de fronteira para esse ator: essa classe pode manter um relacionamento estrutural com o controlador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pos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 de fronteira para equipamentos ou outros sistemas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face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 não estrut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7A7-F248-484A-8F96-9E30EE18B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agregação na modelagem de classes de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: utilização de agregação somente durante o modelo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alquer um dos casos, o que deve ser considerado é que a agregação possui uma forma ainda mais forte,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e composições é mais adequada para o modelo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5BF-2960-47CF-89C1-3299C85A65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greg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objetos que fazem parte do todo são criados e destruídos independentemente deste últ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objeto parte pode ser utilizado para compor diversos objetos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struição de um desses objetos todo não implica na destruição do objeto p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mpos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objet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ertencem a um únic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parte são sempre criados e destruídos pelo objeto t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ualmente os clientes do objeto todo não têm conhecimento da estrutura da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objeto composto, são definidas operações para adicionar e remover objeto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F65-C77F-443C-84CC-072A937C75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87280" y="1773360"/>
          <a:ext cx="67694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7694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D69-AEBF-4554-A10D-1F625803E8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76440" y="2774880"/>
          <a:ext cx="520236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2774880"/>
                    <a:ext cx="520236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1600200"/>
            <a:ext cx="8065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e que composições (agregações) podem se estender por diversos níveis, forman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erarquias de composi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eg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58920" y="5565600"/>
          <a:ext cx="748980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5565600"/>
                    <a:ext cx="74898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A42-A0E3-4475-8C21-2E248BA180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composi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5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geral, em uma agregação (composição), o todo tem prioridade para criar suas par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2708280"/>
          <a:ext cx="8532720" cy="35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08280"/>
                    <a:ext cx="8532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64D-03AA-4D13-81CB-C3C8C5ED98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strições sobre associ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rições podem ser adicionadas sobre uma associação para condicionar a forma pela qual a associação deve ser implemen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as das restrições sobre associações predefinidas pela UML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ubconju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exclusiv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4667400"/>
          <a:ext cx="40388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667400"/>
                    <a:ext cx="40388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181480" y="4770360"/>
          <a:ext cx="373392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770360"/>
                    <a:ext cx="37339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B43-8B47-49D7-BDD3-E46331C8F9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avegabilidade de associa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, agregações e composições podem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dire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ire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ssociação bidirecional indica que há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mút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os objetos associ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UML, associações são, por omissão, navegáveis em ambos os sent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ssociação unidirecional é representada adicionando-se um sentido à seta da associ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odelo de classes de especificação, a navegabilidade de todas as associações deve ser 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associações permanecem bidire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houver essa necessidade, recomenda-se transformar a associação em unidire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BEB-741F-483F-AD51-2D1460C23A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avegabilidade de associa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19000" y="4125960"/>
          <a:ext cx="757404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4125960"/>
                    <a:ext cx="75740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3352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ha do sentido da navegabilidade pode ser feita através dos diagramas de inte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sagens influenciam na existência ou não de navegabilidade em um sent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2FB-9B81-412A-AD5E-5CB54A39A1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efinindo a implementação de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ssociações de conectividade um para um, a implementação é trivial: é definido um atributo do tipo Cb na classe 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bilidade bidirecional: aplica-se o  procedimento acima para as du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nto, em associações um para um, não há necessidade de um refinamento adicional do diagrama d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ssociações de conectiv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talhes adicionais podem ser representados para esclarecer como implementar tais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etalhamento de associações se baseia em classes que representa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eções de ele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35F-5328-4BB3-8F7B-3CC3CC2CC5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de classes de especif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resultante de refinamentos no modelo de classes de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modelo é construído em paralelo com o modelo de inter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sua construção, o modelo de especificação é passado aos programadores para que eles o implemen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s a serem consid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ação de classes de domínio em classes de espec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e nova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op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3B0-975E-4762-8B8D-4AEA6B89A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lasse Parametriza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leção pode ser representada em um DC através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parametriz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mpl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classe é utilizada para definir outras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operações ou atributos cuja definição é feita em função de um ou mais parâ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leção pode ser definida a partir de uma classe parametrizada, onde o parâmetro é o tipo do elemento da co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uas notações possíveis na UML para uma classe parametr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classe parametriza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5880240"/>
          <a:ext cx="660240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880240"/>
                    <a:ext cx="6602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FB5-D492-4A68-9D60-C6F7EE5446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um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parametrizadas podem ser utilizadas para detalhar associa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déia bás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r uma classe parametrizada cujo parâmetro é a classe correspondente ao lad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ui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associ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so muitos para muitos é bastante semelhante ao refinamento das associações um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tilização da classe parametrizada resulta na transformação de uma assoc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a assoc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047-FA1C-4688-9228-B0A37B06F6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um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600200"/>
            <a:ext cx="77724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alternativas para representar uma associação um para mui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6000" y="2535120"/>
          <a:ext cx="889308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535120"/>
                    <a:ext cx="889308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rot="5220000">
            <a:off x="3096360" y="4975920"/>
            <a:ext cx="574560" cy="1944720"/>
          </a:xfrm>
          <a:custGeom>
            <a:avLst/>
            <a:gdLst>
              <a:gd name="textAreaLeft" fmla="*/ 76680 w 574560"/>
              <a:gd name="textAreaRight" fmla="*/ 497880 w 57456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435640" y="4797360"/>
            <a:ext cx="504720" cy="2089440"/>
          </a:xfrm>
          <a:custGeom>
            <a:avLst/>
            <a:gdLst>
              <a:gd name="textAreaLeft" fmla="*/ 67320 w 504720"/>
              <a:gd name="textAreaRight" fmla="*/ 437400 w 504720"/>
              <a:gd name="textAreaTop" fmla="*/ 365400 h 2089440"/>
              <a:gd name="textAreaBottom" fmla="*/ 15148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93C-7844-4FCE-90C2-6F64696B78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muitos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00120" y="2216160"/>
          <a:ext cx="70992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216160"/>
                    <a:ext cx="70992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42920" y="2637000"/>
            <a:ext cx="433440" cy="2736720"/>
          </a:xfrm>
          <a:custGeom>
            <a:avLst/>
            <a:gdLst>
              <a:gd name="textAreaLeft" fmla="*/ 57960 w 433440"/>
              <a:gd name="textAreaRight" fmla="*/ 375480 w 433440"/>
              <a:gd name="textAreaTop" fmla="*/ 540720 h 2736720"/>
              <a:gd name="textAreaBottom" fmla="*/ 192240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5400720" cy="27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6D6-7C45-482D-A4E7-7A8AFDCE3A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Refinando classes associativas, associações ternári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mais usual é criar uma classe de especificação para substituir a classe associ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ez feito isso, o problema se transforma no refinamento de associações um para muitos ou muitos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rocedimento pode ser aplicado em associações tern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15F-32EB-4765-B600-986B41DFF5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classes associativas, associações ternária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2021040"/>
            <a:ext cx="8291520" cy="3784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6200000">
            <a:off x="4536360" y="4688640"/>
            <a:ext cx="504720" cy="3170160"/>
          </a:xfrm>
          <a:custGeom>
            <a:avLst/>
            <a:gdLst>
              <a:gd name="textAreaLeft" fmla="*/ 67320 w 504720"/>
              <a:gd name="textAreaRight" fmla="*/ 437400 w 504720"/>
              <a:gd name="textAreaTop" fmla="*/ 554760 h 3170160"/>
              <a:gd name="textAreaBottom" fmla="*/ 2298600 h 31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DAF-2A7F-4464-B8D6-ECF62B7F06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fronteir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análise, considera-se que há uma única classe de fronteira para cada 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passagem para o modelo de especificação, algumas dessas classes podem resultar em várias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face como seres humanos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ojeto da interface gráf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roduz o detalhamento das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amentos: uma ou mais classes para encapsular o protocolo de comunicação do equip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mesmo vale para comunicação com ou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também usual a definiçã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representar a comunicação com ou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uso de classes para se obter alta produtividade e boa qualidade no produto de software em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 podem ser adquiridos já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 fornecidos pelo ambiente de programação send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DB7-75E6-4739-8A6D-A9B76B017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entidad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precisam de armazenamento per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lasses de entidades que devem ser armazenadas de modo persistente devem ser identificadas na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vem ser identificados os padrões de acesso a cada classe de entidade cujos objetos devem ser pers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xa de acesso a uma coleção influencia na política de armazen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2EC-8B8A-47CC-822C-0EBAC499E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contro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especificação, deve-se analisar a verdadeira utilidade de cada classe de controle identificada durante a aná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sos de uso simples (e.g., manutenção de dados), classes de controle não são realmente necess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 de fronteira podem repassar os dados fornecidos pelos atores diretamente para as classes de entidade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sos de uso complexos, uma classe de controle de análise pode resultar em duas ou mais classes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54D-2A96-4A24-8CB1-3448F3616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Especificação de atributos  e operaçõ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C8F-5B5B-48DD-A857-2F0349F09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intaxe da UML para atribu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completa de um atributo deve seguir a 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565360"/>
            <a:ext cx="784872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isibilidade nom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: tipo = valor-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9080" y="3544920"/>
            <a:ext cx="77724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ibilidade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pode ser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e valor inicial dependentes de lingu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ribut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co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atrib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A09-7182-40E7-9905-B290886B4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s (Sintaxe da UML para atributos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19520" y="1700280"/>
          <a:ext cx="4114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00280"/>
                    <a:ext cx="4114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8360" y="4854600"/>
          <a:ext cx="84596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854600"/>
                    <a:ext cx="8459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F18-E8F3-47EE-9915-88B0936473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33:29Z</dcterms:modified>
  <cp:revision>495</cp:revision>
  <dc:subject>Sildes do livro</dc:subject>
  <dc:title>Princípios de Análise e Projeto Orientados a Objetos com UML</dc:title>
</cp:coreProperties>
</file>