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DF2-998A-4801-B382-E5ACEFD0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DC6-3919-436E-B4BF-5AFB2FC2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A15-EA88-4328-8424-166E4CC6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425-1183-459B-A432-98589A03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0514-F9A2-41C2-A038-C25F42A9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F072-D2BD-4EDE-A2F7-115C7720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6AE2-F56B-47C4-9423-9F77DFC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22A8-CDDA-41EC-9DF8-BECA939E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712F-70C9-4DFB-905B-F6FB2717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CADC-4A8C-4831-A8C7-916A8933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DF87-B10E-44F0-9A38-1DBCA349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A29-3E9F-466B-B599-1073166F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7446-C390-448A-96DC-B94C86B9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A152-2F96-4AE6-8800-6D0BDEC4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9B7A-A890-4715-B389-1A656122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3BD1-5E11-4B6F-9E67-2C8C65E3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6917-0204-40A4-B5E5-43B4C134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F3B-8E7B-4C72-9B2B-46ACEA43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3A9-03D4-42E5-8CB2-25BE42BF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19C-BAF7-414C-A4BF-841A212D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3EC-B367-4D3D-BAA4-C6B7D027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FD5-B724-4C17-8F80-6E2BDFE7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EB8-5B69-4C25-9CD8-B854C1B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A8C-E6EA-4C36-A176-42F4247A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DD99-752D-442D-BAFD-957C44CEDDDF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9079-0F16-4EFC-B8A8-DF63526BBAE8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apa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71560" cy="25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B31D-6738-420A-B294-7FC43BFA25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erança de associaçõ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12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ibutos e operações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ssoci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herdados pelas sub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3164040"/>
          <a:ext cx="784836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164040"/>
                    <a:ext cx="784836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FC7-1A04-4CDC-BEC6-F68D1A6CB1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634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Hierarquias de generalização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E952-9EEF-4C77-8AC5-271EEB6BFB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ierarquias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neralização pode ser aplicada em vários nívei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ierarquia de gener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que herda propriedades de uma outra classe pode ela própria servir como superclas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nsitiv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a classe em uma hierarquia herda propriedades e relacionamentos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o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s seus ancestra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simet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adas duas classes A e B, se A for uma generalização de B, então B não pode ser uma generalização de A. Ou seja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de haver ciclos em uma hierarquia de gener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673-A5AB-4BFD-A4B2-7DAF98DDA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ierarquias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19280" y="1916280"/>
          <a:ext cx="54738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16280"/>
                    <a:ext cx="54738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B43-8366-4C31-939B-91AF934810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Herança múltipla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0057-BD1C-4F78-A4A1-DAEDB9D75B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erança múltipl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Herança múltipl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Uma classe pode ter mais de uma super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l classe herda de todas a suas super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so de herança múltipla deve ser evi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tipo de herança é difícil de ent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LPs não dão suporte à implementação desse tipo de herança (Java e Smalltalk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518-D079-4A8B-B6C8-B6CB7EC2B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Herança múltipl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00360" y="2924280"/>
          <a:ext cx="411804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924280"/>
                    <a:ext cx="41180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EEC-3EEB-41E8-8194-6D4E63B77C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lasses abstratas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FE87-FE4E-403F-8404-CB7B6F4438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s de dependênci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almente, a existência de uma classe se justifica pelo fato de haver a possibilidade de gerar instâncias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es concre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podem existir classes que não geram instâncias diretas: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es abstra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as para organizar e simplificar uma hierarquia de gener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riedades comuns a diversas classes podem ser organizadas e definidas em uma classe abstrata a partir da qual as primeiras herd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classes de uma classe abstrata também podem ser abstratas, mas a hierarquia deve terminar em uma ou mais classes concre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216-60C3-4F17-819E-580AA8BC40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classes abstra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2880" y="2852640"/>
          <a:ext cx="525312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2852640"/>
                    <a:ext cx="52531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914400" y="1600200"/>
            <a:ext cx="7772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UML, uma classe abstrata é representada com o seu nome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tálic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D5F-77C6-4DEE-88B5-B23E698E5E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9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Generalização 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eu vi mais longe que outros, é porque eu me apoiei nos ombros de gig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aac New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4C06-1C5A-4C04-9467-D28F12BD6D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efinição de restrições sobre uma generalização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9C85-6CFE-46D3-A888-44B9D02BC5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trições sobre generaliz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trições sobre generalizações são representadas (entre chaves) no diagrama de classes próximas à linha do relacion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trições predefinidas pela U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bre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481560"/>
            <a:ext cx="1727280" cy="865080"/>
          </a:xfrm>
          <a:prstGeom prst="rect">
            <a:avLst/>
          </a:prstGeom>
          <a:solidFill>
            <a:srgbClr val="ccffcc">
              <a:alpha val="51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4397400"/>
            <a:ext cx="1727280" cy="865080"/>
          </a:xfrm>
          <a:prstGeom prst="rect">
            <a:avLst/>
          </a:prstGeom>
          <a:solidFill>
            <a:srgbClr val="ccffcc">
              <a:alpha val="51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831-16A2-4771-9DEB-BDA3366E2E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s (Restrições sobre generalizaçõe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87280" y="1727280"/>
          <a:ext cx="3138480" cy="18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27280"/>
                    <a:ext cx="313848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076720" y="1708200"/>
          <a:ext cx="3610080" cy="18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08200"/>
                    <a:ext cx="361008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58920" y="4076640"/>
          <a:ext cx="3100320" cy="17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4076640"/>
                    <a:ext cx="310032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148360" y="4005360"/>
          <a:ext cx="3500280" cy="18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4005360"/>
                    <a:ext cx="350028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43280" y="1628640"/>
            <a:ext cx="0" cy="496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378936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3E6-6796-43D3-B4C3-05652189D5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Refinando o modelo de classes com generalização 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3AB0-A989-443B-A799-AC87B6C786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o modelo de classes com generaliz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neralização permite refinar o model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déia bás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car abstrações mais genéricas ou mais específicas que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finamentos podem seguir segundo duas estratégi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lternativ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mplementa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eneral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riar uma classe mais genérica, e definir as classes semelhantes como sub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special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riar classes mais específicas a partir de uma classe preex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E20-4F57-4150-B595-56E94B1131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o modelo de classes com generaliz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eguinte teste pode ser realizado para identificar se duas classes X e Y se relacionam por generalizaç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gra da substitui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seja a classe A uma generalização de outra B. Não pode haver diferenças entre utilizar instâncias de B ou de A, do ponto de vista dos usuários d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 seja, é inadequado o uso de generalização onde nem todas as propriedades da superclasse fazem sentido para a sub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887560"/>
            <a:ext cx="309564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é um tipo de Y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993-9E70-4DF0-97F5-D6D06BE5A5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formidade das subclasses à superclass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1280" y="2143080"/>
          <a:ext cx="8353440" cy="34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43080"/>
                    <a:ext cx="8353440" cy="34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449-3F43-4295-96E0-EEEAC54108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c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evitar a construção de hierarquias de generalização muito profundas (com mais de três níve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tam a leitura do dia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apé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ubclass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ão devem ser confund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apel corresponde ao uso de uma certa classe em uma associação.Uma classe pode assumir vários papé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odelador deve evitar a criação de subclasses em situações que podem ser resolvidas através da utilização de papé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E13-356C-4717-BA4A-01CFF62C6D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pel X Subclass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2455920"/>
          <a:ext cx="838836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55920"/>
                    <a:ext cx="838836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523-D9ED-4CA7-918E-D87E5A6BBD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Herança de operações e polimorfismo  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99C5-C100-46DA-9719-4DB2789FAF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lasses também pode representar relacionamentos entr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denotam relações d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general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specific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ntre as classes envol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mífe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mais genérico que 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r huma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r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mais específico que 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íc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amad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lacionamento de gener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165-67EB-41AE-A997-90164C4CB9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Herança de operações e polimorfism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subclasse herda todas as propriedades de sua superclasse que tenham visibilidade pública ou proteg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retanto, pode ser que o comportamento de alguma operação herdada seja diferente para a sub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se caso, a subclasse deve redefinir 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port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op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sinat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operação pode ser reuti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mplement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operaçã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é dife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A4A-EA73-4B9B-8239-6D1181E97D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perações polimórfic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perações polimórfic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operações de mesma assinatura definidas em diversos níveis de uma hierarquia de generalização e que possuem comportamento dife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natura é repetida na(s) subclasse(s) para enfatizar a redefinição de implem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polimórficas implementam 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incípio do polimorfis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o qual duas ou mais classes respondem a mesma mensagem de form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 garantir que as subclasses tenham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terfac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m co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952-AB8B-40E1-9553-EFA9064E7E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perações polimórfic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polimórficas facilitam a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duas ou mais subclasses implementam a mesma operação polimórfica, a mensagem a ser passada é a mesma para todas 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remetente da mensagem não precisa saber qual a verdadeira classe de cada objeto, pois eles aceitam a mesma mens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ferença é que o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éto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implementa a operação é diferente em cada clas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02E-7C0E-440C-B15B-AC76913672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Operações polimórfica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4360" y="2009880"/>
          <a:ext cx="8208720" cy="37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09880"/>
                    <a:ext cx="820872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9DC-7C17-4604-A969-8F7C879E49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perações abstratas e polimorfism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termos de operações, uma classe é abstrata quando ela possui pelo menos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peração abstra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operação abstrata não possui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pode possuir tanto operações abstratas quanto operações concr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que possui pelo menos uma operação abstrata é abstr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subclasse que herda uma operação abstrata e não fornece uma implementação é ela própria abstr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86F-0B8B-4F83-9800-879BDC02E7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perações abstratas e polimorfism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26920" y="2852640"/>
          <a:ext cx="799308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79930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914400" y="1600200"/>
            <a:ext cx="7772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lasses Círculo e Quadrado são concretas, pois fornecem implementação para a operação abstrata her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E2A-1A5C-48EA-830C-AA6FAA36C4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perações abstratas e polimorfism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11280" y="2525760"/>
          <a:ext cx="777708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25760"/>
                    <a:ext cx="777708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914400" y="1600200"/>
            <a:ext cx="7772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aCor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aPoupanç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definem a operaçã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plicarJur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C71-BA91-478D-8BDB-7AD71D07F1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Reuso através de delegação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2E38-9AA8-438F-8B66-3AEAC9C171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uso por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reuso por generalização se baseia na noção de subclasses herdando comportamento de sua superclas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um objeto ContaCorrente não tem como atender à mensagem para executar a operação debitar só com os recursos de sua classe. Ele, então, utiliza a operação herdada da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m: fácil de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osição dos detalhes da superclasse às subclasse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incípio do encapsul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ível violaçà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do Princípio de Liskov (regra da substituição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DEE-7A2B-406D-B8B9-3A6CA31DE0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uso por del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legação é outra forma de realizar o re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pre que um objeto não pode realizar uma operação por si próprio, ele delega uma parte dela para outro(s) objeto(s)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legação é mais genérica que a gener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objeto pode reutilizar o comportamento de outro sem que o primeiro precise ser uma subclasse do seg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11F-820E-4C47-9B21-491205885C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bém pode ser chamad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lacionamento de especi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pois a generalização e a especialização são dois pontos de vista do mesmo relacion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erm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eranç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ambém é comumente utilizado como sinônimo do relacionamento de generalização. (implement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neralização pode ser utilizada tanto no modelo de classes de domínio quanto no de especif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E30-6E10-465F-B758-41577F9D2B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uso por del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mpartilhamento de comportamento e o reuso podem ser realizados em tempo de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mpenho (implica em cruzar a fronteira de um objeto a outro para enviar uma mensag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pode ser utilizada quando uma class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arcialmente abstra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á envol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14F-EE16-47F1-9234-F693C82582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ralização X Del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2293920"/>
          <a:ext cx="853272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93920"/>
                    <a:ext cx="85327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CA3-EE03-416C-A8E1-D2CBE5AAFF6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ralização X Del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vantagens e desvantagens tanto na generalização quanto na deleg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forma geral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recomendado utilizar generalização nas seguintes situ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representar papeis de uma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a subclasse herda propriedades que não se aplicam a 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objeto de uma subclasse pode se transformar em um objeto de outra sub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or exemplo, um objeto Cliente se transforma em um objeto Funcionário (vide a segui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422-A7DF-439A-90DB-2BA110A7576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lassificação dinâmica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763D-8DD1-42AD-B04D-CA8CD1A3936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 na especificação e implementação de uma gener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mesmo objeto pode pertencer a múltiplas classes simultaneamente, ou passar de uma classe para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e uma empresa em que há empregados e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que uma pessoa, em um determinado momento, seja apenas cl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ois pode ser que ela passe a ser também um empregado d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guir essa pessoa é desligada da empresa, continuando a ser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5C2-5F2F-499F-82D2-3868EE400C8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principais LPOO (C++, Java, Smalltalk) não dão suporte direto à implementação da classificação dinâ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objeto é instanciado como sendo de uma classe, ele não pode pertencer posteriormente a uma outr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 parcial: definir todas as possíveis subclasses em uma determinada situ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(para a situação descrita há pouco): as classes Empregado, Cliente e EmpregadoCliente seriam cr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550-9BB8-4437-9671-CFAF4372DDE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resolve o problema to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que um objeto mude de classe!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etamorfo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dição de novas classes à hierarquia torna o modelo ainda mais comple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melhor solução: utilizar a deleg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generalização entre cada subclasse e a superclasse é substituída por uma compo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no próximo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41B-41F6-4447-833E-EC4F822D763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9280" y="2193840"/>
          <a:ext cx="8604360" cy="30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193840"/>
                    <a:ext cx="8604360" cy="30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 rot="16200000">
            <a:off x="4787280" y="3572640"/>
            <a:ext cx="504720" cy="4681440"/>
          </a:xfrm>
          <a:custGeom>
            <a:avLst/>
            <a:gdLst>
              <a:gd name="textAreaLeft" fmla="*/ 67320 w 504720"/>
              <a:gd name="textAreaRight" fmla="*/ 437400 w 504720"/>
              <a:gd name="textAreaTop" fmla="*/ 819000 h 4681440"/>
              <a:gd name="textAreaBottom" fmla="*/ 3394080 h 46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7D9-34E7-4793-9C05-5B43ADA0060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entário final: nada impede que haja uma hierarquia de classes em um modelo de domínio onde um objeto possa pertencer a mais de uma subclasse, ou possa mudar de sub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modelo de especificação é que o modelador deve considerar a reestruturação da hierarquia de classes para resolver o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52B-247C-4209-9957-718F563F6AF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16C5-CA17-4525-BB97-11BCD027A9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emântica de uma generalização,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7E0-3514-43D9-A7E7-B9F8F2DF79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Terminologi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bclas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perclas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perti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bti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lasse ba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lasse herdei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speci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classe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ener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ncestr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scend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generalização em vários níve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E0E-6B5C-422C-9DCB-7DD8628AF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2924280"/>
          <a:ext cx="802800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924280"/>
                    <a:ext cx="80280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C6C-F62E-4EC7-B0DA-9044112BDD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Generalização X Associ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a generalização difere da associação (agregação, composição ) porque a primeira se trata de um relacionamento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ntre class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s são tipos especiais de funcionári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s chefiam departament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associação, objetos específicos de uma classe se associam entre si ou com objetos específicos de outras cla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FF3-9652-4AFF-88A8-3CA604F8BF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NUPAC - Unidade Ipanema</cp:lastModifiedBy>
  <dcterms:modified xsi:type="dcterms:W3CDTF">2004-11-12T13:36:15Z</dcterms:modified>
  <cp:revision>522</cp:revision>
  <dc:subject>Sildes do livro</dc:subject>
  <dc:title>Princípios de Análise e Projeto Orientados a Objetos com UML</dc:title>
</cp:coreProperties>
</file>