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904-6230-4B0D-B51A-21423AA9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C5B-1C9D-446B-81FB-2D42CA3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24C-41F2-4235-AE14-24DDD0B6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400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0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400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0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F50-C319-437A-8106-8A4C9E63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858-C576-49E5-8A2A-86F89E8A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DCA8-9638-4B30-8719-BC66F5CD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3FED-603C-4336-A7EC-F0BBF9A3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B147-77AF-44DB-9FC3-227C5CE9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5D9-7CDF-461B-BB7C-E2790A7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77560"/>
            <a:ext cx="81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0ED-5AF9-4670-9EF6-AD5A9E8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ED7-82DD-4601-9C4C-6178182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822-91C5-4D1F-8D9C-967D009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1E1B-BF39-4C8F-8FCA-500F7DD5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B4F8-67B1-4FDB-B473-80A6AC3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6A8-6EA5-4131-8D27-34D954F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C77-C12B-49EF-94F1-AF53E221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400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0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400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0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A52-36EC-4F70-BE92-AA332D6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60A-DAA6-4BA3-B562-F2FAF1A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222-5C91-43C1-BBB6-E626060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679-EFB6-4D0D-AD8B-F38CD2D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280" y="277560"/>
            <a:ext cx="81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9E9-AB8D-4D5A-AB90-CF146A8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2B6-3DBB-4F8B-9554-72397284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EBD-772C-4E46-8AAA-EC84F01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B8D-0422-420B-9CF5-3F541A7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5C4-9976-4646-AB6A-08245B3EC4A4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A01-0384-41AD-8291-A53EDA86BF6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BB42-BB75-4CC9-922B-0ACBAE5D52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ipos de Evento (cont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responde à passagem de um intervalo de tempo predefini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objeto pode interpretar a passagem de um certo intervalo de tempo como sendo um event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especificado com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seguida de um parâmetro que especifica um intervalo de tem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fter(30 segundos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indica que a transição será disparada 30 segundos após o objeto ter entrado no estado atu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responde a uma condição que se torna verdadei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representado por uma expressão de valor lógico (verdadeiro ou falso) e é especificado utilizando-se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saldo &gt; 0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significa que a transição é disparada quando o valor do atributo saldo for posi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ventos temporais também podem ser definidos utilizando-se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data = 13/07/200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horário = 00:00h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FDD-9E71-4519-9CDB-73A6736B4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 (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taBancária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62652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F51-A12D-41E9-A4B6-6ACFD20F3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ventos resultando em even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corrência de um evento relevante pode ocasionar a ocorrência de outr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 seguir, além da transição de estados, o eve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Ev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elevant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oAl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também é disparado.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4240" y="4292640"/>
            <a:ext cx="781056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064-74D3-49F5-A9FB-30C964670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dição de guard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expressão de valor lógico que condiciona o disparo de um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transição correspondente é disparada se e somente se o evento associado ocorr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 condição de guarda é verd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transição que não possui condição de guarda é sempre disparada quando o evento oc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dição de guarda pode ser definida utilizando-se parâmetros passados no evento e também atributos e referências a ligações da classe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A8B-A708-42F5-A831-B746A9853B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transitar de um estado para outro, um objeto pode realizar uma ou mai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 é uma expressão definida em termo dos atributos, operações, associações da classe ou dos parâmetros do evento também podem ser uti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ção associada a uma transição é executada se e somente se a transição for dispa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2F9-303E-4D44-832F-12BC975B6F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tividad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elhantes a ações, atividades são algo que deve ser ex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uma atividade pode s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romp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uma ação não p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exemplo, enquanto a atividade estiver em execução, pode acontecer um evento que a interrom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diferença: uma atividade sempre está associada a um estado (ao contrário, uma ação está associada a uma transi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ED3-ACF6-4B75-A125-37C2D31F1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o próximo estado de um objeto varie de acordo com uma con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valor da condição for verdadeiro, o objeto vai para um estado E1; se o valor for falso, o objeto vai para outro estado E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se a transição tivesse bifurcações, e cada transição de saída da bifurcação tivesse uma condição de gua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situação pode ser representada em um DTE através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nto de jun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junção permitem que duas ou mais transições compartilhem uma “trajetória de transiçõ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84E-07BD-4F15-8305-AB065F9D84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pode haver um número ilimitado de transições saindo de um ponto de j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haver também uma transição de saída que esteja rotulada com a 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as outras condições forem falsas, a transição da clausul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é dispar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junção permitem que duas ou mais transições compartilhem uma “trajetória de transiçõ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pode haver um número ilimitado de transições saindo de um ponto de j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haver também uma transição de saída que esteja rotulada com a 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as outras condições forem falsas, a transição da clausul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é dispar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F16-46AB-468D-8E28-9AE7E80B51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66960"/>
            <a:ext cx="8064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1FD-0AC7-466F-8DC6-4E32F3F288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ompartimento adicional de um retângulo de estado podem-se especificar ações ou atividades a serem execu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 geral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 / [ação | atividad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três cláusulas predefinidas: e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try,exit,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usada para especificar uma ação a ser realizada no momento em que o objeto entra em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ção desta cláusula é sempre executada, independentemente do estado do qual o objeto ve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como se a ação especificada estivesse associada a todas as transições de entrada no est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FDF-6908-43C1-A6CD-A41DCAC0B2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0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Modelagem de Estados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odos os adultos um dia foram crianças, mas poucos se lembram d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equeno Príncipe, Antoine de Saint-Exup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30D-CB81-45F7-985F-97B78EB45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e para declarar ações que são executadas sempre que o objeto sai de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empre executada, independentemente do estado para o qual o objeto v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É como se a ação especificada estivesse associada a todas as transições de saída do es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a para definir alguma atividade a ser executada quando o objeto passa para um determinado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contrário da cláusula entry, serve para especificar uma atividade ao invés de uma 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DA4-3C3B-4781-A21D-C980EF22D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 d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- 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17600" y="2565360"/>
            <a:ext cx="4343400" cy="29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053-D2A0-4572-97E6-7717D384A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 entry e exit - 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2652840"/>
            <a:ext cx="4302360" cy="279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8FC-43AC-4E1A-BBE4-8F6A4EA79E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Cláusula do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- exemplo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1741320"/>
            <a:ext cx="818820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691-6A17-4F3A-8290-02190143B4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pertador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883280" cy="50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FE1-0597-4CED-9164-E8DBFB427D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Identificação dos elementos de um diagrama de estados </a:t>
            </a: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9F5A-383A-43FD-814A-3BDD819E2D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bom ponto de partida para identificar estados é analisar os possíveis valores de seus atributos e as ligações que ele pode realizar com outr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a existência de atributos ou ligações não é suficiente para justificar a criação de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mportamento de objetos dessa classe deve depender de tais atributos ou ligaçõ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985-0EA2-4915-90A5-DDC22C96B0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á que transições dependem de eventos para ocorrer, devem-se identificar estes eventos primeir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deve-se examinar também se há algum fator que condicione o disparo d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xistir, este fator deve ser modelado como uma condição de guarda d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bom ponto de partida para identificar eventos é a descrição dos casos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ventos encontrados na descrição dos casos de uso são externos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udo, uma transição pode também ser disparada por um ev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B21-7F9F-436E-891E-F6F3FF7898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cada operação com visibilidade pública de uma classe pode ser vista como um evento em pot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utra fonte para identificação de eventos associados a transições é analisar 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gras de negóc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 cliente do banco não pode retirar mais de R$ 1.000 por dia de sua con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s pedidos para um cliente não especial devem ser pagos antecipadamente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 número máximo de alunos por curso é igual a 30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91D-23A9-4811-993B-7C95ECDFC8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Um DTE para uma clas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iagramas de estados são desenhados por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vantagem: dificuldade na visualização do estado do sistema como um to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desvantagem é parcialmente compensada pelos diagramas de inter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todas as classes de um sistema precisam de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omente classes que exibem um comportamento dinâmico relev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os cujo histórico precisa ser rastreado pelo sistema são típicos para se construir um diagrama de estado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EA9-45B8-49C6-A62B-F5FBF486F5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do mundo real se encontram em estados particulares a cada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jarra está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he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está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ns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mesma forma, cada objeto participante de um sistema de software orientado a objetos se encontra 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bjeto muda de estado quando acontece alg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terno ou externo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ran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estado para outro, um objeto realiza determina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ntr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objeto transita de um estado para outro, significa que o sistema no qual ele está inserido também está mudando de es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AB9-3D5C-4401-803B-5CEAFA2206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cedimento para constr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estados relevantes para 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eventos relevantes. Para cada evento, identifique qual a transição que ele ocasi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estado: identifique as transições possíveis quando um evento oc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estado, identifique os eventos internos e ações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transição, verifique se há fatores que influenciam no seu disparo. (definição de condições de guarda  e aç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condição de guarda e para cada ação, identifique os atributos e ligações que estão envolv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a o estado inicial e os eventuais estados fi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he o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83F-4E8A-4AC3-A706-3618F95B9D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Diagramas de estados no processo de desenvolvimento incremental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5A0D-7F75-43C9-8EB6-E1847D94DB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TEs em um PDS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TEs podem ser construídos com base nos diagramas de interação e nos diagramas de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construção do DTE para uma classe, novos atributos e operações podem surg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novas propriedades devem ser adicionadas ao modelo de cla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trução de um DTE freqüentemente leva à descoberta de novos atributos para 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ipalmente atributos para servirem de abstrações para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este processo de construção permite identificar novas operações n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is os objetos precisam reagir aos eventos que eles receb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13C-E4C8-4890-AB8F-6760DA318A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TEs em um PDS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e um objeto varia em função do estado no qual ele se encon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necessária a atualização de uma ou mais operações de uma classe para refletir o comportamento do objetos em cada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o comportamento da oper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car(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clas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aBancá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ria em função do estado no qual esta classe se encon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ques não podem ser realizados em uma conta que esteja no esta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loquea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9DC-8D7F-4B6D-9401-CAE0696A87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agrama de transição de estad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vés da análise 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ans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objetos de um sistema de software, podem-se prever todas as possíve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peraçõ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s, em fun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possam ocor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 da UML que é utilizado para realizar esta análise é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transição de 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UML tem um conjunto rico de notações para desenhar um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ans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ansições in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s aninh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s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CD6-24E5-43BF-9EBF-AFF337C53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tad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tuação na vida de um objeto em que ele satisfaz a alguma condição ou realiza alguma atividade. É função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alores dos atrib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(ou) d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gações com outros ob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erv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ste objeto livro tem val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erdadei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nta bancária passa para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ermel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o seu saldo fic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ega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rofessor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cenci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não está ministrando curso algum durante o semes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tanque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 reser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nível de óleo está abaixo de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edido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endi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todos os seus itens estão atendid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s podem ser vistos como uma abstração dos atributos e associações de 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A9C-53D9-46B1-A04C-B6C6FD1C4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tados inicial e fin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ado inicial indica o estado de um objeto quando ele é criado. Só pode haver um estado inicial em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restrição serve para definir a partir de que ponto um DTE deve começar a ser 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ado final é representado como um círculo “eclipsado” e indica o fim do ciclo de vida de 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pcional e pode haver mais de um estado final em um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ação da UML para es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730-9538-4D7F-B2AC-E1095E26B7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stados estão associados a outros pelas trans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é mostrada como uma linha conectando estados, com uma seta apontando para um d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a transição entre estados ocorre, diz-se que a transição foi dispa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pode ser rotulada com uma expressão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4797360"/>
            <a:ext cx="6840360" cy="649440"/>
          </a:xfrm>
          <a:prstGeom prst="rect">
            <a:avLst/>
          </a:prstGeom>
          <a:solidFill>
            <a:srgbClr val="ccecff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 (lista-parâmetros) [guarda] / 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i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688-F41F-435A-B540-7BE761005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ven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possui um evento ass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vento é algo que acontece em algum ponto no tempo e que pode modificar o estado de um ob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dido re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ura 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que devol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ventos relevantes a um sistema de software podem ser classificados em nos seguintes t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cham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ebimento de uma mensagem de outr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si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ebimento de um s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temp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assagem de um intervalo de tempo predefi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mudanç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a condição que se torna verdad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8FB-1421-4D67-812E-41E0D6C8EA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ipos de Ev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ch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rresponde ao recebimento de uma mensagem de outro obj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pensar neste tipo de evento como uma solicitação de serviço de um objeto a out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s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ste evento o objeto recebe um sinal de outro objeto que pode fazê-lo mudar de es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diferença básica entre o evento de sinal e o evento de chamada é que neste último o objeto que envia a mensagem fica esperando a execução da mes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No evento de sinal, o objeto remetente continua o seu processamento após ter enviado o s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85C-D39A-46DC-8EBA-E98AB71F5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4-11-12T20:23:01Z</dcterms:modified>
  <cp:revision>327</cp:revision>
  <dc:subject>Sildes do livro</dc:subject>
  <dc:title>Princípios de Análise e Projeto Orientados a Objetos com UML</dc:title>
</cp:coreProperties>
</file>