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1CA5-2576-4A38-B6B6-27932E5FC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545E-4BF6-4895-8315-0C027070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4DA5-F122-49FC-A704-1B7E62494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B08E-D1BD-4DDC-9B1D-FE8C08F32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F958-2DFC-4AD4-84F0-0F5FCB849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13CC3-01D1-4F06-AE6C-AEA65F32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CE636-928A-49CE-96BB-A1FAAC45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54974-0384-433D-AF27-4CDA649D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018A-7E5E-42C9-A923-51D23BDF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696D-1D2D-41B3-806A-5EDB1458C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E0F09-B98C-4556-BC42-97C0AA6B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E1DC-B74C-4435-A400-6112DFDC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5545E-4152-491E-8EC9-8FC77F33B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967B7-7D17-48D5-9C27-44E378A5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30EC4-84F6-4FF8-80F0-5C5CCD0A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BC8B-76DA-48FF-B824-6195A345C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EAA4-4B34-42DD-B4DE-1A5067F6F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6A1B-4E79-4E2D-88E5-5C195EDC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D50A-5E45-4396-B784-F56C4A5D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9F79-50D6-44EB-8B85-A552F3E9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C7E0-B1B7-4AE5-AC53-B0CB441FE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5139-1044-4025-97B4-EFD21EE53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5BB7-8CF5-4C9B-8A0F-5909F4C3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92FE-685D-4DEF-9B5C-DF74CCBF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8D05-7FD3-4BBD-B9F2-D67E47DB2870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533520" y="1316160"/>
            <a:ext cx="7598880" cy="281160"/>
            <a:chOff x="533520" y="1316160"/>
            <a:chExt cx="7598880" cy="281160"/>
          </a:xfrm>
        </p:grpSpPr>
        <p:sp>
          <p:nvSpPr>
            <p:cNvPr id="7" name=""/>
            <p:cNvSpPr/>
            <p:nvPr/>
          </p:nvSpPr>
          <p:spPr>
            <a:xfrm>
              <a:off x="533520" y="1412640"/>
              <a:ext cx="7543800" cy="76320"/>
            </a:xfrm>
            <a:prstGeom prst="rect">
              <a:avLst/>
            </a:prstGeom>
            <a:gradFill rotWithShape="0">
              <a:gsLst>
                <a:gs pos="0">
                  <a:srgbClr val="868fd0"/>
                </a:gs>
                <a:gs pos="100000">
                  <a:srgbClr val="afb4df"/>
                </a:gs>
              </a:gsLst>
              <a:lin ang="10800000"/>
            </a:gradFill>
            <a:ln w="0">
              <a:noFill/>
            </a:ln>
            <a:effectLst>
              <a:outerShdw dist="73964" dir="3536435" blurRad="0" rotWithShape="0">
                <a:srgbClr val="0000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4100000">
              <a:off x="7896960" y="1332720"/>
              <a:ext cx="169920" cy="247680"/>
            </a:xfrm>
            <a:prstGeom prst="triangle">
              <a:avLst>
                <a:gd name="adj" fmla="val 0"/>
              </a:avLst>
            </a:prstGeom>
            <a:solidFill>
              <a:srgbClr val="868fd0"/>
            </a:solidFill>
            <a:ln w="0">
              <a:noFill/>
            </a:ln>
            <a:effectLst>
              <a:outerShdw dist="73964" dir="3536435" blurRad="0" rotWithShape="0">
                <a:srgbClr val="0000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2423-EAF1-4B77-9658-34DB3A85D9DA}" type="slidenum">
              <a:rPr b="0" lang="pt-B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858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0" y="1143000"/>
            <a:ext cx="641844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Princípios de Análise e Projeto Orientados a Objetos com UML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94320" y="1401840"/>
            <a:ext cx="46080" cy="12600"/>
          </a:xfrm>
          <a:prstGeom prst="ellipse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800" bIns="-37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64000" y="779400"/>
            <a:ext cx="38160" cy="7920"/>
          </a:xfrm>
          <a:prstGeom prst="rect">
            <a:avLst/>
          </a:prstGeom>
          <a:solidFill>
            <a:srgbClr val="fbfb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ardo Bezerr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ditor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M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A6472-4D2D-4006-A1F6-E762BA3EC8A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Fluxos de controle paralel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luxos de controle paralelos: dois ou mais fluxos sendo executados simultanea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barra de bifurca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recebe uma transição de entrada, e cria dois ou mais fluxos de controle paralel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da fluxo é executado independentemente e em paralelo com os dem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barra de jun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recebe duas ou mais transições de entrada e une os fluxos de controle em um único flux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bjetivo: sincronizar fluxos parale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transição de saída da barra de junção somente é disparada quando </a:t>
            </a:r>
            <a:r>
              <a:rPr b="0" i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tod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as transições de entrada tiverem sido disparad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C168-16D4-4F96-AD1D-ABD258C3AFC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Fluxos de controle paralel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gumas vezes, as atividades de um processo podem ser distribuídas por vários agentes que o executar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rocessos de negócio de uma organizaçã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sso pode ser representado através de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raias de nata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(swim lan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 raias de natação dividem o diagrama de atividade em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compartiment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compartimento contém atividades que são realizadas por uma entid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151A-D501-49E6-B354-614AC1F982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Exemplo (Raias de Natação)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31640" y="1716120"/>
          <a:ext cx="8388360" cy="444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1640" y="1716120"/>
                    <a:ext cx="8388360" cy="44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D000-E281-465A-B9B8-AEE86D6714B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58920" y="3860280"/>
            <a:ext cx="712944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Possíveis usos de diagramas de atividades  </a:t>
            </a:r>
            <a:r>
              <a:rPr b="0" lang="pt-BR" sz="4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CF19-208E-48EE-AFAF-A7354618E1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Usos de diagramas de atividad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ão são freqüentemente utilizados na prática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mportante: na orientação a objetos o sistema é dividido em objetos, e não em módulos funcionais como na Análise Estruturada (Diagrama de Fluxos de Dado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00A9-7033-48B9-8A36-1FC7616960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odelagem dos fluxos de trabalho de um processo do negócio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Modelagem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também é um processo de entendime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o desenvolvedor constrói modelos para entender melhor um problem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este caso, o enfoque está em entender o comportamento do sistema no decorrer de diversos casos de uso (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processos de negóci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mo determinados casos de uso do sistema se relacionam no decorrer do temp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01F0-B04B-4D0C-980B-19254AE8A5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odelagem da lógica de um caso de uso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113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realização de um caso de uso requer que alguma computação seja realiz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sta computação pode ser dividida em atividad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asso P ocorre até que a C seja verdadeira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Se ocorre C, vai para o passo P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essas situações, é interessante complementar a descrição do caso de uso com um diagrama de ativid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8085240" y="1965240"/>
            <a:ext cx="879480" cy="3551040"/>
            <a:chOff x="8085240" y="1965240"/>
            <a:chExt cx="879480" cy="3551040"/>
          </a:xfrm>
        </p:grpSpPr>
        <p:sp>
          <p:nvSpPr>
            <p:cNvPr id="124" name=""/>
            <p:cNvSpPr/>
            <p:nvPr/>
          </p:nvSpPr>
          <p:spPr>
            <a:xfrm>
              <a:off x="8294400" y="1965240"/>
              <a:ext cx="209520" cy="311400"/>
            </a:xfrm>
            <a:prstGeom prst="flowChartOffpageConnector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085240" y="2588040"/>
              <a:ext cx="628200" cy="623160"/>
            </a:xfrm>
            <a:prstGeom prst="flowChartProcess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085240" y="3522600"/>
              <a:ext cx="628200" cy="498600"/>
            </a:xfrm>
            <a:prstGeom prst="flowChartDecision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085240" y="4270320"/>
              <a:ext cx="628200" cy="623160"/>
            </a:xfrm>
            <a:prstGeom prst="flowChartProcess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085240" y="5329440"/>
              <a:ext cx="628200" cy="186840"/>
            </a:xfrm>
            <a:prstGeom prst="flowChartTerminator">
              <a:avLst/>
            </a:prstGeom>
            <a:solidFill>
              <a:srgbClr val="dadad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9" name=""/>
            <p:cNvCxnSpPr>
              <a:stCxn id="124" idx="2"/>
              <a:endCxn id="125" idx="0"/>
            </p:cNvCxnSpPr>
            <p:nvPr/>
          </p:nvCxnSpPr>
          <p:spPr>
            <a:xfrm>
              <a:off x="8398800" y="2276280"/>
              <a:ext cx="1080" cy="311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30" name=""/>
            <p:cNvCxnSpPr>
              <a:stCxn id="125" idx="2"/>
              <a:endCxn id="126" idx="0"/>
            </p:cNvCxnSpPr>
            <p:nvPr/>
          </p:nvCxnSpPr>
          <p:spPr>
            <a:xfrm>
              <a:off x="8398800" y="3210840"/>
              <a:ext cx="1080" cy="3117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31" name=""/>
            <p:cNvCxnSpPr>
              <a:stCxn id="126" idx="2"/>
              <a:endCxn id="127" idx="0"/>
            </p:cNvCxnSpPr>
            <p:nvPr/>
          </p:nvCxnSpPr>
          <p:spPr>
            <a:xfrm>
              <a:off x="8398800" y="4020840"/>
              <a:ext cx="1080" cy="249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32" name=""/>
            <p:cNvCxnSpPr>
              <a:stCxn id="127" idx="2"/>
              <a:endCxn id="128" idx="0"/>
            </p:cNvCxnSpPr>
            <p:nvPr/>
          </p:nvCxnSpPr>
          <p:spPr>
            <a:xfrm>
              <a:off x="8398800" y="4893120"/>
              <a:ext cx="1080" cy="436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33" name=""/>
            <p:cNvSpPr/>
            <p:nvPr/>
          </p:nvSpPr>
          <p:spPr>
            <a:xfrm>
              <a:off x="8713440" y="3771720"/>
              <a:ext cx="25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78280" y="5142600"/>
              <a:ext cx="58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8964720" y="3771360"/>
              <a:ext cx="0" cy="137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FC8A-8D07-414A-B492-34CD4AB81F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odelagem da lógica de um caso de uso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s fluxos principal, alternativos e de exceção podem ser representados em um único diagrama de ativid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mplementar e não substituir a descriçã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dentificação de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atividad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através do exame dos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flux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o caso de u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sos de uso são descritos na perspectiva dos atores, enquanto diagramas de atividade descrevem atividades internas ao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6730-C4AD-4B25-8399-7088CBF61B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Modelagem da lógica de uma operação complexa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ndo um sistema é adequadamente decomposto em seus objetos, a maioria das operações são bastante simp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stas não necessitam de modelagem gráfic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 entanto, pode haver a necessidade de descrever a lógica de uma operação mais complex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Implementação de regras de negóci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38AF-012B-40AB-8253-FBBE27F02BF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Capítulo</a:t>
            </a: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 11</a:t>
            </a:r>
            <a:r>
              <a:rPr b="0" lang="sv-SE" sz="54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5400"/>
            </a:br>
            <a:r>
              <a:rPr b="0" lang="pt-BR" sz="4800" spc="-1" strike="noStrike">
                <a:solidFill>
                  <a:srgbClr val="330033"/>
                </a:solidFill>
                <a:latin typeface="Times New Roman"/>
              </a:rPr>
              <a:t>Modelagem de Atividade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You can choose a ready guide in some celestial voi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f you choose not to decide, you still have made a choi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il Peart (Rush, Freewi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A08E1-1F52-4A3D-A35F-86276C42FB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agrama de ativida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á quatro diagramas da UML que descrevem os aspectos dinâmicos de um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iagramas de est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diagramas de seqüência e de colabora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Arial"/>
              </a:rPr>
              <a:t>diagrama de atividade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É um tipo especial de diagrama de estados, onde são representados os estados de uma atividade, ao invés dos estados de um obj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D646-C81C-4835-9FEA-EE0E81323A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agrama de atividade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diagrama de atividade exibe os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passos de uma computa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24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Cada estado é um passo da computação, onde o sistema está realizando algo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É orientado a fluxos de controle (ao contrário dos DTEs que são orientados a eventos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Fluxograma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stendidos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lém de possuir toda a semântica existente em um fluxograma, permite representar ações concorrentes e sua sincronizaçã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lementos podem ser divididos em dois grupos: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controle seqüencial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controle paralel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C49D-EF7E-4DD4-A4E4-5508D53791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agrama de ativida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lementos utilizados em fluxos seqüencia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stado a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stado ativida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Estados inicial e final, e condição de guar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Transição de términ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ontos de ramificação e de uniã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lementos utilizados em fluxos parale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Barras de sincroniza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Barra de bifurcação (fork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Barra de junção (join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B85A-1207-41B0-8EE4-82E436B7B34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Fluxos de controle seqüenciai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estado em um diagrama de atividade pode s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um</a:t>
            </a:r>
            <a:r>
              <a:rPr b="1" i="1" lang="pt-BR" sz="2600" spc="-1" strike="noStrike">
                <a:solidFill>
                  <a:srgbClr val="000000"/>
                </a:solidFill>
                <a:latin typeface="Arial"/>
              </a:rPr>
              <a:t> estado atividade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 leva um certo tempo para ser finaliza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um</a:t>
            </a:r>
            <a:r>
              <a:rPr b="1" i="1" lang="pt-BR" sz="2600" spc="-1" strike="noStrike">
                <a:solidFill>
                  <a:srgbClr val="000000"/>
                </a:solidFill>
                <a:latin typeface="Arial"/>
              </a:rPr>
              <a:t> estado ação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: realizado instantaneamen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ve haver um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estado inicial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 pode haver vários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estados finai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guarda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associadas a transiçõ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ode não ter estado final, o que significa que o processo ou procedimento é </a:t>
            </a:r>
            <a:r>
              <a:rPr b="0" lang="pt-BR" sz="2600" spc="-1" strike="noStrike" u="sng">
                <a:solidFill>
                  <a:srgbClr val="000000"/>
                </a:solidFill>
                <a:uFillTx/>
                <a:latin typeface="Arial"/>
              </a:rPr>
              <a:t>cíclico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086B-7238-4547-8F6C-6AF30F40D86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Fluxos de controle seqüenciai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transição de términ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significa o término de um passo e o conseqüente início do out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o invés de ser disparada pela ocorrência de um evento, é disparada pelo término de um pass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95F0-ADF9-4C64-9D58-AC218A1B859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Fluxos de controle seqüenciai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ponto de ramifica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possui uma única transição de entrada e várias transições de saí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ara cada transição de saída, há uma condição de guarda associa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Quando o fluxo de controle chega a um ponto de ramificação, uma e somente uma das condições de guarda deve ser verdadei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Pode haver uma transição com 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[else]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1" i="1" lang="pt-BR" sz="2800" spc="-1" strike="noStrike">
                <a:solidFill>
                  <a:srgbClr val="000000"/>
                </a:solidFill>
                <a:latin typeface="Arial"/>
              </a:rPr>
              <a:t>ponto de uni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reúne diversas transições que, direta ou indiretamente, têm um ponto de ramificação em comu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F16E-AFEB-453A-96B1-61201BA4235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330033"/>
                </a:solidFill>
                <a:latin typeface="Times New Roman"/>
              </a:rPr>
              <a:t>Diagrama de ativida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66560" y="1684440"/>
          <a:ext cx="8209080" cy="491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684440"/>
                    <a:ext cx="8209080" cy="49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2002, 2003 Eduardo Bezerr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629D-8751-46DD-81B4-877767BE4A3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2T21:30:00Z</dcterms:created>
  <dc:creator>Eduardo Bezerra</dc:creator>
  <dc:description/>
  <dc:language>en-US</dc:language>
  <cp:lastModifiedBy>bezerra</cp:lastModifiedBy>
  <dcterms:modified xsi:type="dcterms:W3CDTF">2003-02-21T16:20:45Z</dcterms:modified>
  <cp:revision>327</cp:revision>
  <dc:subject>Sildes do livro</dc:subject>
  <dc:title>Princípios de Análise e Projeto Orientados a Objetos com UML</dc:title>
</cp:coreProperties>
</file>