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005-8D8D-4B44-92A7-2379B393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647B-535D-4E95-BB85-87F56983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F34-0A8D-483C-94C5-EB7AF42C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7B1E-0A19-4A6A-89B3-8E243140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EA15-018B-461E-A2E7-DF49EADF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8FDA-C515-4A0D-A68D-A3B53A5D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11FC-6D9D-43E5-B389-9DA5A7EF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8555-5C5D-44FE-93EB-DE963E09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FD25-A73D-4AB0-978D-ECB9C4D9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667A-85C3-430B-A781-9D65E983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C546-8F4E-49BD-809E-636B932B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5CCF-2FAF-4C53-9D90-4CE923C1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13E8-1610-4EBF-B392-F85E83A3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791A-3930-42A1-BAF6-1E8581B1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BA43-D797-4A68-A0D9-23410A57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5404-1500-4471-88CA-2508A617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D983-2F2F-4BBB-A8C7-6BE2EC0A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E252-284B-44C3-BF14-C800F386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1B48-3192-4217-9200-B2FBB9BA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EC7-99FB-4CA8-8EB0-D78F38FD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6D7E-1FD6-49AF-BFC0-D3AD299F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B420-5D14-492A-8D6A-D950CD3E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BD2-8718-49F1-A8BE-3420910A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8BA-4A55-4ED3-A014-BB0770F7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54AB-0948-41E1-A581-32F5380ECCCF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BF6D-D4E7-4E9A-A30A-0A7D6347F5FB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6000"/>
            </a:br>
            <a:br>
              <a:rPr sz="60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D1A5-688B-4161-8019-CF5DCAF614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erfa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ção (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erviç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: u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erviç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alguma tarefa que uma entidade de software realiza para outra. Um serviço é composto de sua especificação e de seu méto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ecificação: define o que o serviço realiza, além de documentar as informações que são necessárias para a sua realiz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odo: corresponde ao modo de realizar um serviço. Dada a especificação de um serviço, podem existir diversos métodos para realizá-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30C8-63BD-42AA-ACBE-ECD2A3FD95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erfa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interface corresponde a um conjunto especificações de serviç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melhante ao conceito de classe abstrata (possui um nome, não gera instânci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, uma interface não contém estrutura interna (atributos e associaçõ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ém disso, todas as operações (serviços) de uma interface só possuem especificações; o método não é definido na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C4C-CC71-4BB7-9A3D-B49D9645C2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erfa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nceito de interface está relacionado a outro conceito da UML: o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lassificado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ificador: uma entidade de software que implementa os métodos dos serviços especificados em um ou mais inte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UML, classificador é um nome genérico que pode deno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sub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ompo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A6DA-4662-4BF9-99E0-AB4D9FADE6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erfa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lassificador possui comportamento, ou seja, implementa um conjunto de oper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ravés de suas oper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lassificador pode fornecer serviços para outros classific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 também pode utilizar serviços desses últi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um classificador implementa uma ou mais operações especificadas em uma interface, diz-se que o classificador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aliz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 inte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0AA-4B6E-4E80-AF5C-AA000D733D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erfa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interface funciona como um nível adicional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indireção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rnando o sistema mais flexível a mudanç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nha que Ca utiliza serviços de Cb1 através de uma interface IC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um novo classificador Cb2, que também realiza ICb for desenvolvido, este pode substituir Cb1 sem que Ca precise sofrer modific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ificadores podem ser substituídos sem causar modificações em seus cli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BF5A-A16E-4740-9943-EEDFF5BFB0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erfaces, No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19280" y="3716280"/>
            <a:ext cx="6192720" cy="2487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14400" y="1600200"/>
            <a:ext cx="77724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rimeira notação é a mesma para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exibidas as operações que a interface especif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 ser usado o estereótipo &lt;&lt;interface&gt;&gt;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917-0A11-4853-821D-BB68BA322B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erfaces, No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1320" y="4005360"/>
            <a:ext cx="4595760" cy="2101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nda notação: através de um segmento de reta com um pequeno círculo em um dos extremos e ligado ao classificador que a realiza no outro extre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s clientes conectadas à interface através de um relacionamento de dependê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988-A833-4C0B-87A0-52C8F42EED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ubsistem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subsistema é um classificador que corresponde a um agrupamento de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ndo um tipo de classificador, um subsistema realiza uma ou mais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UML, um subsistema é representado como um pacote com o estereótipo &lt;&lt;subsistema&gt;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ortante: subsistemas podem realizar interfaces enquanto que pacotes são somente mecanismos de agrupa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-se construir u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iagrama de subsistemas,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e é um diagrama de pacotes onde no qual todos os pacotes são sub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6FD-56F8-47C2-AFE2-8B29F67321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locando classes a subsistem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urante o desenvolvimento de um sistema orientado a objetos, seus subsistemas devem ser identificados, juntamente com as interfaces entre 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classe do sistema é então alocada aos subsist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nalmente, um diagrama de subsistemas é construí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vez feita a sua identificação e a definição de sua interface, cada subsistema pode ser desenvolvido quase que de forma independente um do ou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0E2B-3DBA-4C62-AEF9-6E8AB7A17D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locando classes a subsistem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elo de classes de domínio: ponto de partida para a identificação dos subsist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classes devem ser agrupadas segundo algum critério para formar sub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ritério de agrupamento possível:  considerar as classes mais importantes do modelo de classes de domín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ada uma dessas classes, um subsistema é cri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as classes menos importantes e relacionadas a uma classe considerada importante são posicionadas no subsistema desta úl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1DDB-2A59-43F3-B57A-3F05EB55E1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Capítulo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12</a:t>
            </a:r>
            <a:r>
              <a:rPr b="0" lang="sv-SE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Decompondo o Sistem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One of these days I’m going to cut you into little pie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MEDDLE, Pink Floy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C4B8-A824-468B-8F02-55A49A8E22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locando classes a subsistem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outro lado, na fase especific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mas das classes do modelo de domínio podem sofrer decomposições adicionais, o que resulta em novas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que uma classe de domínio seja ela própria um sub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essas classes forem criadas, elas são adicionadas aos subsistemas pré-defi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158C-26DA-4508-88AA-16E7A7EAC1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Dicas para a definição de subsistem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sistemas devem ser minimamente acopl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sistemas devem ser maximamente coes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pendências cíclicas entre subsistemas devem ser evi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alternativa para eliminar ciclos é quebrar um subsistema pertencente ao ciclo em dois ou mais. Uma outra solução é combinar dois ou mais subsistemas do ciclo em um ú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lasse deve ser definida em um único subsistema (embora possa ser utilizada em vári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ubsistema que define a classe deve mostrar todas as propriedades da mes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tros subsistemas que fazem referência a essa classe podem utilizar a notação simplificada da mes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440-8379-40A0-AB55-4720C598E0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mpon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ém dos subsistemas e das classes, um outro tipo de classificador é o compon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alogia: chip de memó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omponente eletrônico que pode ser utilizada para construir um compu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substituído por outro chip mais poderoso que possua a mesma especific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 mesma forma, pode-se pensar em um sistema de software constituído de diversos componentes, elementos que existem a tempo de execução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160-EDA2-455D-873C-625A58AB4D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mpon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omponente é uma unidade configurável de software que pode ser utilizada na construção de vários sistemas e que pode ser substituída por outra unidade que forneça a mesma funcional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ndo um classificador, um componente pode prover acesso aos seus serviços através de uma inte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icionalmente, um componente fornece serviços a outros componentes do sistema, mas pode também requisitar serviç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4ACF-E969-4940-898D-38EEAE9875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mparação entre classificador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onentes existem a tempo de implementação e de execução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sistemas são elementos que existem a tempo de modelagem desse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ualmente há uma correspondência unívoca entre um componente e um subsistema de orig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-se dizer que o resultado da construção (compilação e ligação) de um subsistema é um com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FA47-37E3-4C11-A90C-081FFB2649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mpon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ra diferença é que componentes representam conceitos fís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o invés de conceitos lógicos representados por classes e sub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onentes são o empacotamento físico do sistema: uma única classe pode fornecer objetos para vários compo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construído segundo o paradigma da OO, um componente é composto de diversos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D07D-60B8-4054-A645-427E22C4F5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Desenvolvimento Baseado em Component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Área ativa de pesquisa, cujo objetivo é a construção de componentes que tenham utilidade em diversas situações, não só no sistema no qual eles foram construí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envolvimento de software passaria a ser cada vez mais baseado n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us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componentes pré-existentes do que na sua construção e teste de compo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ACD-CB35-4464-9DCF-825868F257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euso no Desenvolvimento Baseado em Component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190760" cy="422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D29-B6B2-4EBB-A2A5-6A27B11350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mponentes na UM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L: “um componente de software é um módulo, pacote ou subsistema que tem uma função e uma interface claramente definidas e pode ser integrado em um ou mais sistema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a definição engloba a definição considerada pela área de DB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UML define três tipos de componentes: de execução, de instalação e de trabal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UML fornece uma notação específica para componentes, apresentada mais adi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F6C-071A-473A-B22F-E20604E795F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em Camad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outra forma de organizar a arquitetura de um sistema complexo em partes menores é através de camadas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camada de software, é uma coleção de subsist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camada corresponde a um conjunto de funcionalidades de um sistema d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cionalidades de alto nível dependem de funcionalidades de baixo ní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madas fornecem um nível de abstração através do agrupamento lógico de subsistemas relacion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B1D-808B-4160-B3D2-9A90610472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stões relacionadas à arquitetura de um sist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um sistema é decomposto em subsistemas, e como as suas classes são dispostas pelos diversos subsistem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subsistemas devem ser dispostos fisicamente quando o sistema tiver de ser implantado? (nós de processa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há uma definição universal sobre o que significa arquitetura de um sist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ecificação da UML: “Arquitetura de software é a estrutura organizacional do software. Uma arquitetura pode ser recursivamente decomposta em partes que interagem através de interfac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443-AFAA-412C-B49E-206A7CE757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em Camad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ípio geral: camadas de abstração mais alta devem depender das camadas de abstração mais baixa, e não o contrá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mite que o sistema de software seja mais portável e modificá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mudança em uma camada mais baixa que não afete a sua interface não implicará em mudanças nas camadas mais al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vice-versa, uma mudança em uma camada mais alta que não implica na criação de um novo serviço em uma camada mais baixa não irá afetar estas últ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897-2CD6-4F96-80BA-3CAD800AD0C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em Camad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UML não tem nenhum elemento gráfico pré-específico para representar camadas de um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pacotes também podem ser utilizados para representar cam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stereótipo &lt;&lt;camada&gt;&gt; pode ser utilizado no pacote que represente uma cam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fato de uma camada utilizar outra pode ser representado por um relacionamento de depend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B50-114B-4FBB-85FF-634863C1E5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 Cliente-Servid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sistema cliente-servidor clássico é dividido em duas camadas. A primeira (cliente) requisita serviços à segunda (servido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liente é normalmente responsável pela interface gráfica com o usuá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servidor é normalmente pode servir a diversos clientes para fornecer diversos serviços (segurança, impressão, correio eletrônico, gerenciamento de janelas, etc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D81-5482-4CE5-A069-76619373406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 Cliente-Servid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função da sua carga de processamento, um cliente pode ser magro e gor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iente magro: boa parte do processamento da lógica da aplicação está no servi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iente gordo: contém a interface com o usuário e a maior parte da (ou toda) lógica da aplicação (servidor funciona como um repositório de dad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BC8-C8B8-49AC-A192-8D830C4BE3E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 Cliente-Servid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s cliente-servidor em duas camadas foram dominantes durante aproximadamente toda a década de 90 e são utilizados até ho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nstrução de sistemas cliente-servidor é vantajosa quando o número de clientes não é tão gra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 exemplo, uma centena de clientes interagindo com o servidor através de uma rede lo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206-DE86-40A5-BAFE-9C02DC6956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 Cliente-Servid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com o surgimento da Internet. Rapidamente, originou-se uma demanda pela construção de sistemas de software que pudessem ser utilizados nesse amb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to causou problemas em relação à estratégia cliente-servidor de duas camadas, principalmente em relação à construção de clientes gor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net: permitir o acesso a variados recursos através de um programa navegador (browser), que não fornece grande suporte à construção daquele tipo de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81E-99F9-4247-B129-6058566D803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 em três camad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lução encontrada: adição de um nova camada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s construídos segundo essa estratégia são denominados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istemas cliente-servidor em três camad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as camadas normalmente recebem os seguintes no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mada de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mada da lógica do negó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mada de a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652-58A9-4C1D-B6C9-620B5802366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mada de apresen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s que contêm funcionalidade para visualização dos dados pelos usuá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classes de fronteira para atores humanos se encontram nessa cam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ivo: exibir informações ao usuário e traduzir ações do usuário em requisições às demais partes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 de camadas de apresentaçã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sistema de menus baseados em tex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página escrita em HTML ou XHTML com JavaScript apresentada em um navegador de Interne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interface gráfica construída em algum ambiente de programação vis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1C1-BD0B-47E7-90CC-95D87D39857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mada da lógica do negóc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bém denominada camada da lógica da aplicação (servidor de aplicaçã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s que implementam as regras do negócio no qual o sistema está para ser impla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ém disso, essa camada deve decidir que parte da camada de acesso de ser ativada com base em requisições provenientes da camada de apresen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ssa camada, são realizadas computações com base nos dados armazenados ou nos dados de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bém são feitas validações de dados provenientes da camada de apresentação. Classes de controle e as classes de entidade se encontram nesta cam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51C-C088-40CA-B021-3A13D9199E4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mada de acess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ém classes que se comunicam com outros sistemas para realizar tarefas ou adquirir informações para 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icamente essa camada é implementada utilizando algum mecanismo de armazenamento persistente (SGB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haver uma subcamada dentro desta camada: a camada de persist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ola o restante do sistema de  modificações no mecanismo de armazenamento persis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AD2-F8F3-43DC-B2E5-41387193E8E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Visão Ger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ções introdutó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c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quitetura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cliente-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em três cam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quitetura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BF1E-4127-410A-B5B6-5B699E96E1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fís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 a disposição física do sistema de software pelo hardware disponí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ivisão de um sistema em camadas é independente da sua disposição fís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camadas de software podem estar fisicamente localizadas em uma única máquina, ou podem estar distribuídas por diversos process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ernativamente, essas camadas podem estar distribuídas fisicamente em vários processadores. (Por exemplo, quando a camada da lógica do negócio é dividida em duas ou mais máquina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4B82-82AC-4C07-8E40-0D4A4FD8347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fís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odelo que representa a arquitetura física é denominad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modelo de implement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modelo da arquitetura físic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á dois tipos de diagramas na UML utilizados para modelar a arquitetura fís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 de impla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 de compo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E3E-CBB3-4277-8A75-114C521FC4C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compon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3432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stra os vários componentes de software de um sistema, além das dependências entre estes últi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elementos gráficos desse diagra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58920" y="4071960"/>
            <a:ext cx="7416720" cy="130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7021-A3A5-4627-9144-401C395D2E9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compon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547640" y="2637000"/>
            <a:ext cx="7056720" cy="27190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 de diagrama de compo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3D54-A3E7-48C6-A86E-913241DC735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compon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7056360" cy="32763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mas alternativas de representação de interfaces de compo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41C6-EFAB-4D29-B2ED-5B898516319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compon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UML define diversos estereótipos para compon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lt;&lt;executável&gt;&gt;: um componente que pode ser exec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lt;&lt;documento&gt;&gt;: um documento. Por exemplo, um manual de instalação ou um manual do usu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lt;&lt;tabela&gt;&gt;: uma tabela em um banco de d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lt;&lt;arquivo&gt;&gt;: um arquivo de d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lt;&lt;biblioteca&gt;&gt;: uma biblioteca de objetos ou de funções. Por exemplo, uma DLL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EFE-2DAF-4F62-9AEA-B0F369D0924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implan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 a topologia física do sistema e opcionalmente os componentes que são executados nesta topolo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senta um mapeamento entre os componentes de software e o hardware util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ementos: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nó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onexõ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nó é uma unidade física que representa um recurso comput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lmente possui uma memória e alguma capacidade de process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: processadores, dispositivos, sensores, roteadores ou qualquer equipamento de importância para o sistema d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1BF-10DA-4BD5-A2E4-6718B4F11F0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implan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nós são conectados uns aos outros através das conex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exões mostram mecanismos de comunicação entre os nó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ios físicos (cabo coaxial, fibra ótica, etc.) ou protocolos de comunicação (TCP/IP, HTTP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nó é representado através de um cub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me e tipo do nó definidos no interior do cu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intaxe para o nome e o tipo do nó é similar à utilizada para os diagramas de obj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nto o nome quanto o tipo são opcio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onexão é representada graficamente por uma linha (estereotipada) ligando dois nó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5504-F3D0-4C58-8B03-92C8D11ECA6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implan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16000" y="2406600"/>
            <a:ext cx="7265880" cy="33908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 de diagrama de implan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C846-1DCF-477A-8CB4-CE87A8DA743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implan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 de diagrama de implantação exibindo compo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7859880" cy="276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4C72-DD2C-45AA-B15D-7A66650F613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co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mecanismo de agrupamento geral que pode ser utilizado para agrupar vários artefatos de um mode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tação: uma pasta com uma a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eúdo, duas maneiras de representar grafica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) exibir o conteúdo dentro do pac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) “pendurar” os elementos agrupados no ícone do pac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05CD-CC0E-4B04-89FA-4C41591C03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locando componentes aos nó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atividade de alocação de componentes aos nós físicos só tem sentido para sistemas distribuí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sistemas que utilizam um único processador, não há necessidade desta ativ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dos principais objetivos: distribuir a carga de processamento do sistema para aumentar o desempen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entanto, nem sempre isso aumenta o desempen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so porque a sobrecarga de comunicação entre os nós pode anular os ganhos obtidos com a distribuição do process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DC46-E764-490E-906C-880AA85A6EC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locando componentes aos nó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vio de mensage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“distânc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ntro de um processo executando em um n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e processos no mesmo n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ltrapassa as fronteiras de um nó para ser executada em outra máqu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tanto, durante a alocação de componentes, o arquiteto de software deve considerar diversos fat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itos desses fatores se sobrepõem ou são incompat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BCBD-8817-4F81-8201-144A3CB9E3B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locando componentes aos nó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tores relacionados ao desempenh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ção de dispos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ga comput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acidade de processamento dos nó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lização de tare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 de 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370F-4C2B-4FF8-BD58-D35DCB237DC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locando componentes aos nó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tores não relacionados ao desempenh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quisitos não funcionais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erenças de plataformas (de hardware ou de sistema operacional) dos componentes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s usuários do sistema: leva em conta a localização física dos usuários, que máquinas eles utilizam, como eles estão conectad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cessidade ou benefícios da distribuição das camadas lógicas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undância: o mesmo componente pode ter que ser alocado a mais de um n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CB4-F1A4-4644-B13A-33D6511A573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física no processo de desenvolvi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nstrução dos diagramas de componentes é iniciada na fase de elaboração (projeto da arquitetura) e refinada na fase de construção (projeto detalhad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nstrução de diagramas de componentes se justifica para componentes de execu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 visualizar as dependências entre os componentes e a utilização de interfaces a tempo de execução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distribuído: representar seus componentes utilizando diagramas de implan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9A5-58A8-4D14-989A-8B22A12B3EE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física no processo de desenvolvi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é recomendável usar diagramas de componentes para representar dependências de compilação entre os elementos do código fonte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aioria dos ambientes de desenvolvimento tem capacidade de manter as dependências entre códigos fonte, códigos objeto, códigos executáveis e páginas d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ó adiciona mais diagramas que terão que ser mantidos e que não terão uma real uti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á também vários sistemas de gerenciamento de configurações e de versões de código (e.g, CVS)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F42-6FF4-450E-B622-83AF270B839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física no processo de desenvolvi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relação ao diagrama de implantação, sua construção tem início na fase de elaboração. Na fase de construção, os componentes são adicionados aos diversos nó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versão do sistema corresponde a uma versão do DI, que exibe os componentes utilizados na construção daquela ver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DI deve fazer parte dos manuais para instalação e operacionalização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m todo sistema necessita de diagramas de componentes ou diagramas de implan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simpl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istemas complex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CFA-FA4F-492C-8A22-312B7C10F5D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Modelo de casos de uso no processo de desenvolvimento 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987640" y="9810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C7B5-9060-416E-B824-E6CB38B6E03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co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6769080" cy="254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6ECD-E230-4718-8CD5-9805CBF882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co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360" y="2565360"/>
            <a:ext cx="4191120" cy="3573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14400" y="1600200"/>
            <a:ext cx="78343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cotes podem ser agrupados dentro de outros pacotes, formando uma hierarquia de conte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65C7-2C9A-446B-9B29-ECEDE65C5E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Pacotes, Visibilidad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40268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elemento de um pacote pode ter visibilidade pública, protegida ou priv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8000" y="3141720"/>
            <a:ext cx="6243840" cy="157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93E-EA9B-43EE-BFD8-7EB6EE6F8E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Pacotes, Dependênci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haver relacionamentos de dependência entre pac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im, pode-se construir u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iagrama de paco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e representa dependências entre pac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pacote P1 é dependente de outro, P2, se houver qualquer dependência entre quaisquer dois elementos de P1 e P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36B-F6D8-4758-90F9-9DE8309AC9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Eduardo Bezerra</cp:lastModifiedBy>
  <dcterms:modified xsi:type="dcterms:W3CDTF">2003-04-27T14:53:15Z</dcterms:modified>
  <cp:revision>397</cp:revision>
  <dc:subject>Sildes do livro</dc:subject>
  <dc:title>Princípios de Análise e Projeto Orientados a Objetos com UML</dc:title>
</cp:coreProperties>
</file>