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06BA-1CE7-44E2-94DE-B5E73D46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A0C-C396-4DB2-80A0-F1B8C106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0BE4-523D-4735-8D11-BEBD1205A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1EDA-8957-460D-B2D4-EBDA3BE79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1685-A665-43E8-B45E-30F9FEA7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FB047-FCB9-4FC0-AE9C-9B4D78A3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A6268-DA7D-427A-A6ED-BBF89F7F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39A7-473E-409F-84CB-4C7B00BA1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2F0D-152D-40FC-86F4-2FDF2365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6B6C-8894-4904-9562-A03BBF23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2730-902C-4D88-B7F0-16EC0FB4D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877-1450-4B6E-82ED-2FA2A87B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DB8B-4DFE-4988-B28C-7BCFDB55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C29A-5C97-4119-A0F4-DFA01127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E9EFE-21E5-4341-9403-16B7AA81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CD2B-9058-4946-A0FE-A901F8B19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EF1C-64DA-4C45-B4F0-4F0361269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3C1-CB6A-4A7B-A9B7-49E38C02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3B97-E0F9-4115-A111-935CBAB90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F8C0-451F-4038-AAED-99972DEE6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78D-38A5-4FF4-A72B-A34183E1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3587-920A-4AA3-A3E9-6CCD43531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C44-A9FA-4F6A-A3CA-2F5432351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E002-0F4A-43A1-BC66-7817FD16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D981-3A44-4A5F-88A3-544801E04667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737F-8C63-438E-A06D-EAEC2DDE1C7A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0" y="1143000"/>
            <a:ext cx="64184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CCCDE-1D32-4346-AE95-F265D6FE0E9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nceitos do modelo de dados relacion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68360" y="1628640"/>
          <a:ext cx="5487840" cy="1976400"/>
        </p:xfrm>
        <a:graphic>
          <a:graphicData uri="http://schemas.openxmlformats.org/drawingml/2006/table">
            <a:tbl>
              <a:tblPr/>
              <a:tblGrid>
                <a:gridCol w="438120"/>
                <a:gridCol w="676080"/>
                <a:gridCol w="2360880"/>
                <a:gridCol w="2012760"/>
              </a:tblGrid>
              <a:tr h="398880">
                <a:tc gridSpan="4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epartam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ig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Ger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rsos Huma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át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cursos Financei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649760" y="3975120"/>
          <a:ext cx="3809880" cy="2190600"/>
        </p:xfrm>
        <a:graphic>
          <a:graphicData uri="http://schemas.openxmlformats.org/drawingml/2006/table">
            <a:tbl>
              <a:tblPr/>
              <a:tblGrid>
                <a:gridCol w="555480"/>
                <a:gridCol w="1494000"/>
                <a:gridCol w="1760400"/>
              </a:tblGrid>
              <a:tr h="3682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oje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r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7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M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3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GIL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6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C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$ 8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755640" y="3789360"/>
          <a:ext cx="3429000" cy="2766960"/>
        </p:xfrm>
        <a:graphic>
          <a:graphicData uri="http://schemas.openxmlformats.org/drawingml/2006/table">
            <a:tbl>
              <a:tblPr/>
              <a:tblGrid>
                <a:gridCol w="565200"/>
                <a:gridCol w="1198440"/>
                <a:gridCol w="1665360"/>
              </a:tblGrid>
              <a:tr h="398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oc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Proj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dEmpreg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FFC8-EF58-4DE6-90EC-8F3989C7FF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nceitos do modelo de dados relacion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39640" y="2492280"/>
          <a:ext cx="8194680" cy="2867040"/>
        </p:xfrm>
        <a:graphic>
          <a:graphicData uri="http://schemas.openxmlformats.org/drawingml/2006/table">
            <a:tbl>
              <a:tblPr/>
              <a:tblGrid>
                <a:gridCol w="354240"/>
                <a:gridCol w="1033560"/>
                <a:gridCol w="1471320"/>
                <a:gridCol w="863640"/>
                <a:gridCol w="1798560"/>
                <a:gridCol w="1065240"/>
                <a:gridCol w="1608120"/>
              </a:tblGrid>
              <a:tr h="337320">
                <a:tc grid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reg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trícu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dereç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idDepartamen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8488847-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l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a 24 de Maio,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40-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4488847-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a do Bispo, 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733-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del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. Rio Branco, 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45868378-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ber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. Apiacás,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9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Uruguaiana, 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254647888-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rc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DC1D-CF40-4BC9-9420-ABE1916BE43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Objetos transientes e persistentes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C811-B7E7-480E-8C77-B8CBF18D576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objetos de um sistema podem ser classificados em persistentes e transi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bjetos transientes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m somente na memória princip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jetos de controle e objetos de frontei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Objetos persistent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têm uma existência que perdura durante várias execuções d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ecisam ser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armazenado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quando uma execução termina, e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restaurado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quando uma outra execução é inici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ipicamente objetos de entida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C058-3165-41A1-A0D4-35E18A8547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Mapeamento de objetos para o modelo relacional 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EB90-486C-4023-BA5D-CC4A5D9771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apeamento de objetos para o modelo relacion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ção de um SGBDR: necessidade do mapeamento dos valores de atributos de objetos persistentes para tabel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a partir do modelo de classes que o mapeamento de objetos para o modelo relacional é rea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melhante ao de mapeamento do M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ferenças em virtude de o modelo de classes possuir mais recursos de representação que o M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FD02-6DAE-4150-A8BC-E604B431DCE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apeamento de objetos para o modelo relacion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: o MER e o modelo de classes </a:t>
            </a:r>
            <a:r>
              <a:rPr b="1" i="1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ão equival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ses modelos são freqüentemente confundi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MER é um modelo de dados, enquanto que o modelo de classes modela objetos (dados e comportament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tação (simplificad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da relação é representada através do seu nome e dos nomes de suas colunas entre parêntes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haves primárias são sublinhad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haves estrangeiras são tracejad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2E3E-8AB4-47FF-820C-DB8891B2F5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apeamento de objetos para o modelo relacion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s a seguir utilizam sempre 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luna de implement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omo chave primária de cada rel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oluna de implementação é um identificador sem significado no domínio de negó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a abordagem é utilizada pa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nter uma padronização nos exempl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 por ser uma das melhores maneiras de associar identificadores a objetos mapeados para tabel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D125-7406-4AA8-A80F-34F1A65FAC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Classes e seus atribu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s são mapeadas para rel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so mais simples: mapear cada classe como uma relação, e cada atributo como uma colun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No entanto, pode não haver correspondência unívoca entre classes e relações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atributos o que vale de forma geral é qu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um atributo será mapeado para uma ou mais colun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m todos os atributos de uma classe são persistentes (atributos derivad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53A3-DC57-4EA4-837B-62BD204DA2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Classes e seus atribu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79280" y="4368960"/>
          <a:ext cx="8788320" cy="1004760"/>
        </p:xfrm>
        <a:graphic>
          <a:graphicData uri="http://schemas.openxmlformats.org/drawingml/2006/table">
            <a:tbl>
              <a:tblPr/>
              <a:tblGrid>
                <a:gridCol w="87883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PF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lefone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ogradouro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aNascimento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CE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EP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úmero, sufix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liente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lefone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ogradouro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aNascimento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PF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E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332000" y="1989000"/>
          <a:ext cx="5904000" cy="16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89000"/>
                    <a:ext cx="5904000" cy="16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 rot="1057200">
            <a:off x="183960" y="2338200"/>
            <a:ext cx="576000" cy="2143080"/>
          </a:xfrm>
          <a:custGeom>
            <a:avLst/>
            <a:gdLst>
              <a:gd name="textAreaLeft" fmla="*/ 77040 w 576000"/>
              <a:gd name="textAreaRight" fmla="*/ 498960 w 576000"/>
              <a:gd name="textAreaTop" fmla="*/ 374760 h 2143080"/>
              <a:gd name="textAreaBottom" fmla="*/ 155376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5883-D086-4E69-8AF0-F0CA1BA79EE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 13</a:t>
            </a:r>
            <a:r>
              <a:rPr b="0" lang="sv-SE" sz="4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4800"/>
            </a:b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Mapeamento de Objetos para o Modelo Relacional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0BAA5-E00E-4B10-9435-E70E8F1AFF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ocedimento utiliza o conceit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have estrangeir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três casos, cada um correspondente a um tip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onectiv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s exemplos a seguir, considere, sem perda de generalidade,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há uma associação entre objetos de duas classes, Ca e C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s duas classes foram mapeadas para duas relações separadas, Ta e Tb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15E2-2053-4543-ABD5-ECB471FB41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24000" y="2308320"/>
          <a:ext cx="8424720" cy="29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308320"/>
                    <a:ext cx="8424720" cy="29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A9E2-FCCF-4313-BB7D-C41D98F393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1: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-se adicionar uma chave estrangeira em uma das duas relações para referenciar a chave primária da outra rel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olha da relação na qual a chave estrangeira deve ser adicionada com base n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articip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três possibili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rigatória em ambos os extrem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pcional em ambos os extrem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rigatória em um extremo e opcional no outro extrem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692360" y="5065560"/>
            <a:ext cx="6264360" cy="649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FC86-DAD4-4B35-9E99-3DDCDD8571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1-1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258920" y="4950000"/>
          <a:ext cx="7283520" cy="639720"/>
        </p:xfrm>
        <a:graphic>
          <a:graphicData uri="http://schemas.openxmlformats.org/drawingml/2006/table">
            <a:tbl>
              <a:tblPr/>
              <a:tblGrid>
                <a:gridCol w="7283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epartament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sigla, nome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EmpregadoGeren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regado(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matrícula, CPF, nome, endereço, CEP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1692360" y="1628640"/>
          <a:ext cx="591804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628640"/>
                    <a:ext cx="59180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 rot="739800">
            <a:off x="250920" y="2421000"/>
            <a:ext cx="961920" cy="3152880"/>
          </a:xfrm>
          <a:custGeom>
            <a:avLst/>
            <a:gdLst>
              <a:gd name="textAreaLeft" fmla="*/ 128880 w 961920"/>
              <a:gd name="textAreaRight" fmla="*/ 833040 w 961920"/>
              <a:gd name="textAreaTop" fmla="*/ 551520 h 3152880"/>
              <a:gd name="textAreaBottom" fmla="*/ 2286000 h 31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8A52-F7CE-476E-BE89-AEA98862E7B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1-mui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ja Ca a classe na qual cada objeto se associa com muitos objetos da classe C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jam Ta eTb as relações resultantes do mapeamento de Ca e Cb, respectiv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ste caso, deve-se adicionar uma chave estrangeira em T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ara referenciar a chave primária de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BB0D-BA77-48AD-9503-25EE237289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1-mui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50920" y="4797360"/>
          <a:ext cx="8651880" cy="639720"/>
        </p:xfrm>
        <a:graphic>
          <a:graphicData uri="http://schemas.openxmlformats.org/drawingml/2006/table">
            <a:tbl>
              <a:tblPr/>
              <a:tblGrid>
                <a:gridCol w="8651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epartamento(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sigla, nome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EmpregadoGeren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regad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trícula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PF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ereço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EP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Departamen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1619280" y="1916280"/>
          <a:ext cx="590544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16280"/>
                    <a:ext cx="590544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 rot="1004400">
            <a:off x="395280" y="2292480"/>
            <a:ext cx="649440" cy="2576520"/>
          </a:xfrm>
          <a:custGeom>
            <a:avLst/>
            <a:gdLst>
              <a:gd name="textAreaLeft" fmla="*/ 86760 w 649440"/>
              <a:gd name="textAreaRight" fmla="*/ 562680 w 649440"/>
              <a:gd name="textAreaTop" fmla="*/ 450720 h 2576520"/>
              <a:gd name="textAreaBottom" fmla="*/ 1868040 h 25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23E4-B32D-460C-B979-F5AB9B7BB23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muitos-mui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ja Ca a classe na qual cada objeto se associa com muitos objetos da classe C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jam Ta eTb as relações resultantes do mapeamento de Ca e Cb, respectivame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lação de associ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ve ser cri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a relação de associação serve para representar a associação muitos para muitos entre duas ou mais relaçõ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E8AC-3FB9-4543-9414-765BF7CCB23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27756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muitos-mui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quivalente à aplicação do mapeament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m para mui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uas vezes, considerando-se os pares (Ta, Tassoc) e (Tb, Tasso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ternativas para definir a chave primária de Tasso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finir uma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chave primária composta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riar uma coluna de implementação que sirva como chave primária simples da relação de associ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AB09-1E9E-4566-870D-6970B8AD3E6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277560"/>
            <a:ext cx="82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muitos-muito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65440" y="1569960"/>
          <a:ext cx="5111640" cy="171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5440" y="1569960"/>
                    <a:ext cx="5111640" cy="171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"/>
          <p:cNvGraphicFramePr/>
          <p:nvPr/>
        </p:nvGraphicFramePr>
        <p:xfrm>
          <a:off x="250920" y="3571920"/>
          <a:ext cx="8651880" cy="2378160"/>
        </p:xfrm>
        <a:graphic>
          <a:graphicData uri="http://schemas.openxmlformats.org/drawingml/2006/table">
            <a:tbl>
              <a:tblPr/>
              <a:tblGrid>
                <a:gridCol w="865188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epartament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sigla, nome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EmpregadoGeren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regad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trícula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PF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ereço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EP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Departamen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ocaçã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Proje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Empregad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ome, verb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ojet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ome, verb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epartament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sigla, nome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EmpregadoGerent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regad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trícula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PF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ereço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EP,</a:t>
                      </a:r>
                      <a:r>
                        <a:rPr b="0" lang="en-US" sz="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Departamen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ocaçã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Proje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Empregad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ome, verb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ojet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ome, verb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 rot="1287000">
            <a:off x="395280" y="1557360"/>
            <a:ext cx="576360" cy="2146320"/>
          </a:xfrm>
          <a:custGeom>
            <a:avLst/>
            <a:gdLst>
              <a:gd name="textAreaLeft" fmla="*/ 77040 w 576360"/>
              <a:gd name="textAreaRight" fmla="*/ 499320 w 576360"/>
              <a:gd name="textAreaTop" fmla="*/ 375480 h 2146320"/>
              <a:gd name="textAreaBottom" fmla="*/ 1556280 h 2146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04A2-2309-40D7-B2AB-43F07CB0278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greg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ma especial de associação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esm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rocedimento para realizar o mapeamento de associações pode ser uti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a diferença semântica influi na forma como o SGBDR deve agir quando um registro da relação correspondente a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tod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ve ser excluído ou atua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moção ou atualização em casca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de ser implementado como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gatilhos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procedimentos armazenado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FB9D-C289-4CC8-841C-542CD2325A1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levância do mapeamento de objetos para o modelo rela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tecnologia OO como forma usual de desenvolver sistemas de softwar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m dúvida os SGBDR dominam o mercado comerci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ncípios teóricos bastante difer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tecnologia O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jetos são abstrações de comportament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bjetos: dados + funçõ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cnologia rela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lida com o armazenamento de dados tabular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865-335F-455E-85FF-B7106B5EC6E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greg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adrão de acesso em agregações (composições) também é diferente do encontrado nas associ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ndo um objeto todo deve ser restaurado, é natural restaurar também os objetos par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m associações, isso nem sempre é o ca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finição d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índice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adequados é importante para acesso eficiente aos objetos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part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3972-A73E-4C78-A453-082B30E0460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Reflexiv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orma especial de associação </a:t>
            </a:r>
            <a:r>
              <a:rPr b="0" lang="pt-B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esm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rocedimento para realizar o mapeamento de associações pode ser utiliz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particular, em uma associação reflexiva de conectivida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uitos para mui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relação de associ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ve ser cri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A7C7-5BDE-4B48-BCC1-14AEEAE144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Reflexiv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06280" y="4624560"/>
          <a:ext cx="8686800" cy="38880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38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regado(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matrícula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aContratação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Cônjung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Superviso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2268360" y="1700280"/>
          <a:ext cx="4523040" cy="232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700280"/>
                    <a:ext cx="4523040" cy="23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 rot="1285200">
            <a:off x="514080" y="1571400"/>
            <a:ext cx="961920" cy="3152520"/>
          </a:xfrm>
          <a:custGeom>
            <a:avLst/>
            <a:gdLst>
              <a:gd name="textAreaLeft" fmla="*/ 128880 w 961920"/>
              <a:gd name="textAreaRight" fmla="*/ 833040 w 961920"/>
              <a:gd name="textAreaTop" fmla="*/ 551520 h 3152520"/>
              <a:gd name="textAreaBottom" fmla="*/ 2285640 h 315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67E4-DDBB-4186-9D2F-AF4A2CDAFA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n-ári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ações n-árias (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): procedimento semelhante ao utilizado para associações binárias de conectividad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uitos para mui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a relação para representar a associação é cri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ão adicionadas nesta relação chaves estrangeir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a associação n-ária possuir uma classe associativa, os atributos desta são mapeados como colunas da relação de associ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ACD7-73F7-4529-A600-4554AE2F67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Associações n-ári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042920" y="4624560"/>
          <a:ext cx="7010640" cy="1252440"/>
        </p:xfrm>
        <a:graphic>
          <a:graphicData uri="http://schemas.openxmlformats.org/drawingml/2006/table">
            <a:tbl>
              <a:tblPr/>
              <a:tblGrid>
                <a:gridCol w="701064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écnico(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ome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ojeto(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ome, verba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mputador(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 model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Alocação(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Proje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Técnic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Computador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1979640" y="1773360"/>
          <a:ext cx="4537080" cy="209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773360"/>
                    <a:ext cx="45370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502800">
            <a:off x="431280" y="1989000"/>
            <a:ext cx="827280" cy="2792520"/>
          </a:xfrm>
          <a:custGeom>
            <a:avLst/>
            <a:gdLst>
              <a:gd name="textAreaLeft" fmla="*/ 110880 w 827280"/>
              <a:gd name="textAreaRight" fmla="*/ 716400 w 827280"/>
              <a:gd name="textAreaTop" fmla="*/ 488520 h 2792520"/>
              <a:gd name="textAreaBottom" fmla="*/ 2024640 h 279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C2BA-3AB6-4809-8105-13304E6B042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Classes Associativ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ada um dos casos de mapeamento de associações, há uma variante onde uma classe associativa é uti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peamento é feito através da criação de uma relação para representá-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s atributos da classe associativa são mapeados para colunas dessa rel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sa relação deve conter chaves estrangeiras que referenciem as relações correspondentes às classes que participam da associ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5592-AA33-443B-86CF-60A8753D5D1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Classes Associativa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042920" y="1700280"/>
          <a:ext cx="7058160" cy="23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058160" cy="23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79280" y="4341960"/>
          <a:ext cx="8785440" cy="146340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mpregad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matrícula, nom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rojet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sigla, nome, verbaAnual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EmpregadoLíder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erramenta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ome, descriçã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tilizaçã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Ferramenta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Proje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dataUso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rabalho(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Empregad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</a:t>
                      </a: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Projeto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cargaHorária, remuneraçã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6" name=""/>
          <p:cNvSpPr/>
          <p:nvPr/>
        </p:nvSpPr>
        <p:spPr>
          <a:xfrm rot="641400">
            <a:off x="107640" y="2273040"/>
            <a:ext cx="504720" cy="2000160"/>
          </a:xfrm>
          <a:custGeom>
            <a:avLst/>
            <a:gdLst>
              <a:gd name="textAreaLeft" fmla="*/ 67320 w 504720"/>
              <a:gd name="textAreaRight" fmla="*/ 437400 w 504720"/>
              <a:gd name="textAreaTop" fmla="*/ 349920 h 2000160"/>
              <a:gd name="textAreaBottom" fmla="*/ 145008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D596-6D7C-4FA7-BFB7-76DFAD8DAB0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Generaliz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ês forma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lternativ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mapea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a relação para cada classe da hierarqu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a relação para toda a hierarqu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a relação para cada classe concreta da hierarqu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Nenhum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s alternativas de mapeamento de generalização é a melh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da uma delas possui vantagens e desvantagen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colha de uma delas depende das do sistema sendo desenvolvi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equipe de desenvolvimento pode decidir implementar mais de uma alternativ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05A9-8D7F-4375-840A-410A8F8E670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Generaliz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843280" y="1628640"/>
          <a:ext cx="2952720" cy="21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1628640"/>
                    <a:ext cx="2952720" cy="21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324000" y="4138560"/>
          <a:ext cx="8396280" cy="1738440"/>
        </p:xfrm>
        <a:graphic>
          <a:graphicData uri="http://schemas.openxmlformats.org/drawingml/2006/table">
            <a:tbl>
              <a:tblPr/>
              <a:tblGrid>
                <a:gridCol w="83962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tribuinte(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endereç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ssoaFísica(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nome, dataNascimento, CPF,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Contribuin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ssoaJurídica(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CNPJ, razãoSocial, 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Contribuinte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ssoa(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ome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ndereço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aNascimento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PF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NPJ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razãoSocial,</a:t>
                      </a:r>
                      <a:r>
                        <a:rPr b="0" lang="en-US" sz="5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ip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ssoaFísica(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dataNascimento, nome, endereço, CPF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essoaJurídica(</a:t>
                      </a:r>
                      <a:r>
                        <a:rPr b="0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urier New"/>
                          <a:ea typeface="Times New Roman"/>
                        </a:rPr>
                        <a:t>i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 CNPJ, endereço, razãoSocia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 rot="2503800">
            <a:off x="1042920" y="1197000"/>
            <a:ext cx="961920" cy="3152880"/>
          </a:xfrm>
          <a:custGeom>
            <a:avLst/>
            <a:gdLst>
              <a:gd name="textAreaLeft" fmla="*/ 128880 w 961920"/>
              <a:gd name="textAreaRight" fmla="*/ 833040 w 961920"/>
              <a:gd name="textAreaTop" fmla="*/ 551520 h 3152880"/>
              <a:gd name="textAreaBottom" fmla="*/ 2286000 h 315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C1E-09C9-4432-99C7-633B98E0D73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Generaliz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1ª alternativa (uma relação para cada classe da hierarquia) é a que melhor reflete o modelo 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lasse é mapeada para uma rel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s colunas desta relação são correspondentes aos atributos específicos da class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m: desempenho da manipulação das rel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serções e remoções e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junçõe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C75-F4C6-4CB9-B76E-38C8FB3674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ojeto de banco de dado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855F-FD1F-4BB2-A385-2533316B07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Generaliz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2ª alternativa de implementação é bastante simples, além de facilitar situações em que objetos mudam de clas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m: alteração de esqu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dição ou remoção de atribu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em o potencial de desperdiçar bastante espaço de armazenament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ierarquia com várias classes “irmã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os pertencem a uma, e somente uma, classe da hierarqu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6A1-1465-4A83-8CE1-245D977F4BE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330033"/>
                </a:solidFill>
                <a:latin typeface="Times New Roman"/>
              </a:rPr>
              <a:t>Mapeamento: Generalizações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3ª alternativa apresenta a vantagem de agrupar os objetos de uma classe em uma única rel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m: quando uma classe é modificada, cada uma das relações correspondentes as suas subclasses deve ser modific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odas as relações correspondentes a subclasses devem ser modificadas quando a definição da superclasse é modific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2FC6-3C52-4512-B361-22598EA7DD2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O modelo de dados objeto-relacional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4610-62C9-4112-9513-E858D01A29A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 modelo de dados objeto-relacional (MOR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ma extensão do modelo relacional, onde são adicionadas características de O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SGBDOR é um SGBD que armazena informações de acordo com o M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de processar dados relacionais e obje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dronizado em 1999 (SQL9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mite a definição de estruturas de dados arbitrariamente complexas (clas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lunas podem conter valores de tipos de dados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estruturados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mapeamento de objetos pode ser feito mais diret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B934-610C-4B6F-9BBD-244E28BCAA3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O modelo de dados objeto-relacional (MOR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SGBDOR são ideais para certas aplicações especiais, como CAD/C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atualmente estes SGBDO não dão suporte completo ao padrão SQL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 maior suporte a este padrão tornará o mapeamento de objetos mais fáci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to: existe uma plataforma imensa de sistemas que usam o modelo relacional pu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is que isso, existe uma grande resistência em substituir esse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sso leva a crer que o mapeamento de objetos para o modelo relacional ainda irá durar por muitos 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4E8C-7845-42B2-8158-D4D00A0B65B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Manutenção de objetos persistentes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D95B1-4BB9-4914-BF9B-B897ADEB2CC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anutenção de objetos persistent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os aspectos relativos ao armazenamento de objetos devem ser defin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aterialização: restaurar um objeto a partir do banco de dados quando necessá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tualização: enviar modificações sobre um objeto para o banco de d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moção: remover um objeto do armazenamento persist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sas funcionalidades permitem que objetos perdurem e sejam modificados em diversas execuções do siste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E84B-AF49-4432-9B8E-4C764087EFF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cesso direto ao banco de dado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lução simples: fazer com que cada objeto persistente possua comportamento que permita a sua restauração, atualização ou remoção do mecanismo persistente conforme necessário (SQL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ácil implementação em 4GLs (controles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data aware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Classes da lógica do negócio acopladas às classes relativas à interface e ao acesso ao B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Migração do sistema de um SGBD para outr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Lógica da aplicação fica desprotegida de eventuais modificações na estrutura do BD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1915-35A5-42C8-A38A-9302CE6753A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cesso direto ao banco de dado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ada programador deve ter conhecimento sobre SQ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coesã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das classes diminui porque cada classe deve possuir responsabilidades relativas ao armazenamento e materialização de seus obje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A dificuldade de manutenção e extensão do código fonte resultante praticamente proíbe a utilização desta abordagem </a:t>
            </a:r>
            <a:r>
              <a:rPr b="0" lang="pt-BR" sz="2900" spc="-1" strike="noStrike" u="sng">
                <a:solidFill>
                  <a:srgbClr val="000000"/>
                </a:solidFill>
                <a:uFillTx/>
                <a:latin typeface="Arial"/>
              </a:rPr>
              <a:t>para sistemas complexos</a:t>
            </a:r>
            <a:r>
              <a:rPr b="0" lang="pt-BR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D117-4993-4679-B68F-664C17C0421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 camada de persistência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: isolar os objetos de mudanças no mecanismo de armazen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um SGBD diferente tiver que ser utilizado pelo sistema, por exemplo, somente a camada de persistência é modificada; os objetos de domínio permanecem intac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minuição do acoplamento entre os objetos e a estrutura do BD torn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is flexível (pode ser modificado para se adaptar a novos requisit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is portável (pode ser transportado para outras plataformas de HW ou SW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FD9C-F562-4DAC-9587-58B331193D0A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das primeiras atividades do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projeto detalhad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o desenvolvimento do banco de dados a ser utilizado, se este não exist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ividade: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rojeto do banco de dad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nstrução do esquema do banco de d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riação de índ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rmazenamento físico dos d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efinição de visões sobre os dados armazen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tribuição de direitos de aces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líticas de backup dos d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7598-9304-4D57-A94D-1901B275D9B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 camada de persistência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ntermediação traz uma sobrecarga de processamento ao sistema, o que pode diminuir o seu desempenh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de aumentar a complexidade da realização de certas operações que seriam triviais com o uso direto de SQ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tretanto, as vantagens adquiridas pela utilização de uma camada de software, principalmente em sistemas complexos, geralmente compensam as desvantag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D84-95BB-4852-B605-2138A0B4166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A camada de persistência 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mas funcionalidades necessárias em uma camada de persistênc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mplementação da camada de persistênc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ersistência de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nipulação de coleções de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Gerenciamento de transaçõ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peamento de nomes de atributos para nomes de coluna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9C53-E57D-4F28-BCC9-36C90D38D54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Introdução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opo: apenas os aspectos de mapeamento de informações entre as tecnologias de OO e rel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mapeamento do modelo de classes para o modelo relaciona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ta: ferramentas CASE e mapeamento automático; engenharia rever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m sempre uma ferramenta CASE está disponí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smo na existência de uma ferramenta, é importante um conhecimento básico dos procedimentos do mapea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34A0-1516-4E15-8F75-5D3A7559AE1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onceitos do modelo de dados relacional 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DB94-55C6-425C-B1BD-8B29B74A0D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nceitos do modelo de dados relacion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damentado no conceito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el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oluna de uma relação pode conter apena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valores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atômic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have primár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colunas cujos valores podem ser utilizados para identificar unicamente cada linha de uma rel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ociações entre linhas: valores de uma coluna fazem referência a valores de uma outra coluna. (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chave estrangeir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A258-171E-40A8-8490-AAB961C38A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Conceitos do modelo de dados relacional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19640" y="4653000"/>
            <a:ext cx="2415960" cy="19112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chave estrangeira também pode conter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valores nul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representado pela constante 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NULL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NULL é normalmente é usado para indicar que um valor não se aplica, ou é desconhecido, ou não exi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DC81-9CF6-4AFF-95DB-EDC2B2C70F5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bezerra</cp:lastModifiedBy>
  <dcterms:modified xsi:type="dcterms:W3CDTF">2003-02-21T16:21:17Z</dcterms:modified>
  <cp:revision>367</cp:revision>
  <dc:subject>Sildes do livro</dc:subject>
  <dc:title>Princípios de Análise e Projeto Orientados a Objetos com UML</dc:title>
</cp:coreProperties>
</file>