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CFF-89E3-42F8-A64A-0D56CC1A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AF5-133A-4CC5-8903-CBD834F3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D74-BCA6-46AF-90F7-E68F47C9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985-08A0-43A2-A17A-2A3A8212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105-9252-42F1-B932-2E527F83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27E-3453-4A05-B4E3-C8F9F52C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F09-BCC5-4016-9714-24ABC08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8E4-4146-4F04-9A7A-275EE49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481-9CAA-4320-A0FE-46303B3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1CD-9509-42B3-8655-D9E52E4B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04F-6C27-401F-B105-05D0C4DA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78D-B0BA-4727-8F67-7107EE82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7D15-9786-42E8-934F-B71E5CBAF7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ML, Arquitetura e Desenvolvimento de Softwa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mentos de Arquitetura de Softwa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362320" y="2928960"/>
            <a:ext cx="4419360" cy="2227680"/>
            <a:chOff x="2362320" y="2928960"/>
            <a:chExt cx="4419360" cy="2227680"/>
          </a:xfrm>
        </p:grpSpPr>
        <p:sp>
          <p:nvSpPr>
            <p:cNvPr id="85" name=""/>
            <p:cNvSpPr/>
            <p:nvPr/>
          </p:nvSpPr>
          <p:spPr>
            <a:xfrm>
              <a:off x="2362320" y="4757760"/>
              <a:ext cx="44193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amework Concei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2320" y="2928960"/>
              <a:ext cx="1631520" cy="138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7960" y="3919320"/>
              <a:ext cx="25153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ru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97960" y="2928960"/>
              <a:ext cx="25153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rtamento Dinâ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886120" y="5715000"/>
            <a:ext cx="33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 algn="ctr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que são os concei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s seus sig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390840"/>
            <a:ext cx="220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ii) Compone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ios de comun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24320" y="1981080"/>
            <a:ext cx="40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iii) Como os componentes interag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 suas transições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9084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iv) Serviços ofere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 necessários a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666880"/>
            <a:ext cx="333360" cy="366840"/>
          </a:xfrm>
          <a:prstGeom prst="downArrow">
            <a:avLst>
              <a:gd name="adj1" fmla="val 50000"/>
              <a:gd name="adj2" fmla="val 27511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124080"/>
            <a:ext cx="519120" cy="333360"/>
          </a:xfrm>
          <a:prstGeom prst="rightArrow">
            <a:avLst>
              <a:gd name="adj1" fmla="val 50000"/>
              <a:gd name="adj2" fmla="val 38931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3962520"/>
            <a:ext cx="457200" cy="333360"/>
          </a:xfrm>
          <a:prstGeom prst="leftArrow">
            <a:avLst>
              <a:gd name="adj1" fmla="val 50000"/>
              <a:gd name="adj2" fmla="val 3428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181480"/>
            <a:ext cx="333360" cy="457200"/>
          </a:xfrm>
          <a:prstGeom prst="upArrow">
            <a:avLst>
              <a:gd name="adj1" fmla="val 50000"/>
              <a:gd name="adj2" fmla="val 3428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UML – </a:t>
            </a:r>
            <a:r>
              <a:rPr b="0" i="1" lang="pt-BR" sz="2800" spc="-1" strike="noStrike">
                <a:solidFill>
                  <a:srgbClr val="000000"/>
                </a:solidFill>
                <a:latin typeface="Arial Black"/>
              </a:rPr>
              <a:t>Unified Modeling Langua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nguagem de modelagem padrão OMG para o desenvolvimento de sistemas 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delagem Visual de sistemas de software, i.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ráfica e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o invés de textual e declara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bina notação de métodos exist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ooch, OMT e OOSE (Jacob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luenciado por Fusion, Odell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ão é um método (nem é específico a um métod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.e. sem processo definido, guideline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ML é  grande (e complexo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ossui 8 categorias de notações gráficas, mais OCL (Object Constraint Language) e mecanismos de extens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752480"/>
            <a:ext cx="320040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Object Constraint Languag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O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429000"/>
            <a:ext cx="320040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anismos de Exten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676520"/>
            <a:ext cx="4267080" cy="3869640"/>
            <a:chOff x="304920" y="1676520"/>
            <a:chExt cx="4267080" cy="3869640"/>
          </a:xfrm>
        </p:grpSpPr>
        <p:sp>
          <p:nvSpPr>
            <p:cNvPr id="104" name=""/>
            <p:cNvSpPr/>
            <p:nvPr/>
          </p:nvSpPr>
          <p:spPr>
            <a:xfrm>
              <a:off x="1371600" y="167652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mplement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207144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iagramas de Ativ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6680" y="243828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iagramas de Est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14400" y="281916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iagramas de Colabor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320040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s de Seqüê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80" y="358128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 de Casos de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396216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s de Estrutur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434340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enciamento do Model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ra que servem as notações de U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666880" y="3505320"/>
            <a:ext cx="3657600" cy="1883880"/>
            <a:chOff x="2666880" y="3505320"/>
            <a:chExt cx="3657600" cy="1883880"/>
          </a:xfrm>
        </p:grpSpPr>
        <p:sp>
          <p:nvSpPr>
            <p:cNvPr id="114" name=""/>
            <p:cNvSpPr/>
            <p:nvPr/>
          </p:nvSpPr>
          <p:spPr>
            <a:xfrm>
              <a:off x="2666880" y="4990320"/>
              <a:ext cx="36576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amework Concei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3505320"/>
              <a:ext cx="1350360" cy="138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6080" y="4309200"/>
              <a:ext cx="2082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ru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86080" y="3505320"/>
              <a:ext cx="20829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rtamento Dinâ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05080" y="5867280"/>
            <a:ext cx="219096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gramas d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2560" y="3352680"/>
            <a:ext cx="2250360" cy="1297800"/>
            <a:chOff x="232560" y="3352680"/>
            <a:chExt cx="2250360" cy="1297800"/>
          </a:xfrm>
        </p:grpSpPr>
        <p:sp>
          <p:nvSpPr>
            <p:cNvPr id="120" name=""/>
            <p:cNvSpPr/>
            <p:nvPr/>
          </p:nvSpPr>
          <p:spPr>
            <a:xfrm>
              <a:off x="232560" y="3352680"/>
              <a:ext cx="2128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 de Es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200" y="3733560"/>
              <a:ext cx="207972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(parte do Diagrama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 Clas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555240" y="3200400"/>
            <a:ext cx="2360160" cy="1831320"/>
            <a:chOff x="6555240" y="3200400"/>
            <a:chExt cx="2360160" cy="1831320"/>
          </a:xfrm>
        </p:grpSpPr>
        <p:sp>
          <p:nvSpPr>
            <p:cNvPr id="123" name=""/>
            <p:cNvSpPr/>
            <p:nvPr/>
          </p:nvSpPr>
          <p:spPr>
            <a:xfrm>
              <a:off x="6858000" y="3200400"/>
              <a:ext cx="205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ploy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05720" y="3505320"/>
              <a:ext cx="21333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on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809880"/>
              <a:ext cx="21337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co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5240" y="4114800"/>
              <a:ext cx="219564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 de Obje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parte do Diagrama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Clas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127320" y="1752480"/>
            <a:ext cx="2968560" cy="1557000"/>
            <a:chOff x="3127320" y="1752480"/>
            <a:chExt cx="2968560" cy="1557000"/>
          </a:xfrm>
        </p:grpSpPr>
        <p:sp>
          <p:nvSpPr>
            <p:cNvPr id="128" name=""/>
            <p:cNvSpPr/>
            <p:nvPr/>
          </p:nvSpPr>
          <p:spPr>
            <a:xfrm>
              <a:off x="3429000" y="1752480"/>
              <a:ext cx="266688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s de Ativ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6720" y="2057400"/>
              <a:ext cx="266688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qüê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2362320"/>
              <a:ext cx="25909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sos de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7320" y="2666880"/>
              <a:ext cx="257508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 de Colabor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209680" y="4343400"/>
            <a:ext cx="671760" cy="457200"/>
          </a:xfrm>
          <a:prstGeom prst="rightArrow">
            <a:avLst>
              <a:gd name="adj1" fmla="val 50000"/>
              <a:gd name="adj2" fmla="val 36732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5410080"/>
            <a:ext cx="485640" cy="533520"/>
          </a:xfrm>
          <a:prstGeom prst="upArrow">
            <a:avLst>
              <a:gd name="adj1" fmla="val 50000"/>
              <a:gd name="adj2" fmla="val 27465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4343400"/>
            <a:ext cx="609840" cy="409680"/>
          </a:xfrm>
          <a:prstGeom prst="leftArrow">
            <a:avLst>
              <a:gd name="adj1" fmla="val 50000"/>
              <a:gd name="adj2" fmla="val 37214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048120"/>
            <a:ext cx="486000" cy="533160"/>
          </a:xfrm>
          <a:prstGeom prst="downArrow">
            <a:avLst>
              <a:gd name="adj1" fmla="val 50000"/>
              <a:gd name="adj2" fmla="val 2742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de UML se aplic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Visão de Arquitetu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specialmente Arquitetura Lógica e de Proces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ocument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Overview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técn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nuais de referê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285440" y="2743200"/>
            <a:ext cx="9032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8320" y="2057400"/>
            <a:ext cx="173052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quitetura 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9040" y="3352680"/>
            <a:ext cx="213156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quitetura de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5080" y="1981080"/>
            <a:ext cx="165132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quitetura Fí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5080" y="3276720"/>
            <a:ext cx="284328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quitetura de Desenvolv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9" idx="3"/>
            <a:endCxn id="138" idx="1"/>
          </p:cNvCxnSpPr>
          <p:nvPr/>
        </p:nvCxnSpPr>
        <p:spPr>
          <a:xfrm>
            <a:off x="3238560" y="2230200"/>
            <a:ext cx="10404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0" idx="3"/>
            <a:endCxn id="138" idx="1"/>
          </p:cNvCxnSpPr>
          <p:nvPr/>
        </p:nvCxnSpPr>
        <p:spPr>
          <a:xfrm flipV="1">
            <a:off x="3370320" y="2915640"/>
            <a:ext cx="9086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3"/>
            <a:endCxn id="141" idx="1"/>
          </p:cNvCxnSpPr>
          <p:nvPr/>
        </p:nvCxnSpPr>
        <p:spPr>
          <a:xfrm flipV="1">
            <a:off x="5195880" y="2153520"/>
            <a:ext cx="5198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3"/>
            <a:endCxn id="142" idx="1"/>
          </p:cNvCxnSpPr>
          <p:nvPr/>
        </p:nvCxnSpPr>
        <p:spPr>
          <a:xfrm>
            <a:off x="5195880" y="2916000"/>
            <a:ext cx="5198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o de Desenvolvimento Típic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2133720"/>
            <a:ext cx="4191120" cy="1015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quê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806960" y="2057400"/>
            <a:ext cx="789840" cy="3733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éx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3880" y="25146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56320" y="297180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3505320"/>
            <a:ext cx="4190760" cy="1015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o? Maior Granul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43880" y="38862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4800600"/>
            <a:ext cx="4190760" cy="466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32200" y="4190760"/>
            <a:ext cx="2177280" cy="1214280"/>
            <a:chOff x="232200" y="4190760"/>
            <a:chExt cx="2177280" cy="1214280"/>
          </a:xfrm>
        </p:grpSpPr>
        <p:sp>
          <p:nvSpPr>
            <p:cNvPr id="156" name=""/>
            <p:cNvSpPr/>
            <p:nvPr/>
          </p:nvSpPr>
          <p:spPr>
            <a:xfrm flipH="1" flipV="1">
              <a:off x="1675800" y="419040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040 h 1214280"/>
                <a:gd name="textAreaBottom" fmla="*/ 88020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2200" y="4724280"/>
              <a:ext cx="1271880" cy="39888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id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2200" y="2666880"/>
            <a:ext cx="2177280" cy="1214640"/>
            <a:chOff x="232200" y="2666880"/>
            <a:chExt cx="2177280" cy="1214640"/>
          </a:xfrm>
        </p:grpSpPr>
        <p:sp>
          <p:nvSpPr>
            <p:cNvPr id="159" name=""/>
            <p:cNvSpPr/>
            <p:nvPr/>
          </p:nvSpPr>
          <p:spPr>
            <a:xfrm flipH="1" flipV="1">
              <a:off x="1675800" y="2666880"/>
              <a:ext cx="733320" cy="121464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640"/>
                <a:gd name="textAreaBottom" fmla="*/ 880560 h 121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2200" y="3200400"/>
              <a:ext cx="1271880" cy="39888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id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8520" y="1600200"/>
            <a:ext cx="16574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to 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133720"/>
            <a:ext cx="609480" cy="485640"/>
          </a:xfrm>
          <a:prstGeom prst="rightArrow">
            <a:avLst>
              <a:gd name="adj1" fmla="val 50000"/>
              <a:gd name="adj2" fmla="val 31375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4952880"/>
            <a:ext cx="419112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5105520"/>
            <a:ext cx="4191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o? Granularidade F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388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79800" y="586656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60958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62485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luxo Lógico - Não 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449568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ML e Processo de Desenvolvimen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2209680"/>
            <a:ext cx="4190760" cy="1200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oco : Exterior do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ranularidade : Atores /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rot="10800000">
            <a:off x="8326440" y="2057400"/>
            <a:ext cx="60696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2666880"/>
            <a:ext cx="723960" cy="486000"/>
          </a:xfrm>
          <a:prstGeom prst="leftRightArrow">
            <a:avLst>
              <a:gd name="adj1" fmla="val 50000"/>
              <a:gd name="adj2" fmla="val 29654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3048120"/>
            <a:ext cx="5446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581280"/>
            <a:ext cx="4190760" cy="14439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oco: Interior do Sistema, Exterior de componente e cone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ranularidade: Componentes e Cone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505320" y="5257800"/>
            <a:ext cx="4495680" cy="1505160"/>
            <a:chOff x="3505320" y="5257800"/>
            <a:chExt cx="4495680" cy="1505160"/>
          </a:xfrm>
        </p:grpSpPr>
        <p:sp>
          <p:nvSpPr>
            <p:cNvPr id="177" name=""/>
            <p:cNvSpPr/>
            <p:nvPr/>
          </p:nvSpPr>
          <p:spPr>
            <a:xfrm>
              <a:off x="3505320" y="5257800"/>
              <a:ext cx="4190760" cy="4665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5410080"/>
              <a:ext cx="41911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9880" y="5562360"/>
              <a:ext cx="4191120" cy="12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oco: Interior dos componentes e conect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ranularidade : Obje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62920" y="495288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4724280"/>
            <a:ext cx="2819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work Conce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280" y="3597120"/>
            <a:ext cx="104148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4267080"/>
            <a:ext cx="1605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7080" y="3597120"/>
            <a:ext cx="16048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rtamento Dinâ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080" y="4114800"/>
            <a:ext cx="723960" cy="485640"/>
          </a:xfrm>
          <a:prstGeom prst="leftRightArrow">
            <a:avLst>
              <a:gd name="adj1" fmla="val 50000"/>
              <a:gd name="adj2" fmla="val 296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5638680"/>
            <a:ext cx="723960" cy="486000"/>
          </a:xfrm>
          <a:prstGeom prst="leftRightArrow">
            <a:avLst>
              <a:gd name="adj1" fmla="val 50000"/>
              <a:gd name="adj2" fmla="val 29654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2880" y="297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4" idx="3"/>
            <a:endCxn id="171" idx="1"/>
          </p:cNvCxnSpPr>
          <p:nvPr/>
        </p:nvCxnSpPr>
        <p:spPr>
          <a:xfrm flipV="1">
            <a:off x="2901960" y="2809800"/>
            <a:ext cx="60372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4" idx="3"/>
            <a:endCxn id="175" idx="1"/>
          </p:cNvCxnSpPr>
          <p:nvPr/>
        </p:nvCxnSpPr>
        <p:spPr>
          <a:xfrm>
            <a:off x="2901960" y="3892680"/>
            <a:ext cx="6037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2895120" y="3886200"/>
            <a:ext cx="909000" cy="179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135160" y="30481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rtefato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8326440" y="1371240"/>
            <a:ext cx="606960" cy="480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2133720"/>
            <a:ext cx="723960" cy="485640"/>
          </a:xfrm>
          <a:prstGeom prst="leftRightArrow">
            <a:avLst>
              <a:gd name="adj1" fmla="val 50000"/>
              <a:gd name="adj2" fmla="val 296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289548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505320" y="4952880"/>
            <a:ext cx="4495680" cy="1630800"/>
            <a:chOff x="3505320" y="4952880"/>
            <a:chExt cx="4495680" cy="1630800"/>
          </a:xfrm>
        </p:grpSpPr>
        <p:sp>
          <p:nvSpPr>
            <p:cNvPr id="197" name=""/>
            <p:cNvSpPr/>
            <p:nvPr/>
          </p:nvSpPr>
          <p:spPr>
            <a:xfrm>
              <a:off x="3505320" y="4952880"/>
              <a:ext cx="4190760" cy="4665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7600" y="5105160"/>
              <a:ext cx="41911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9880" y="5257440"/>
              <a:ext cx="4191120" cy="132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391520" y="457200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5280" y="4724280"/>
            <a:ext cx="2819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work Conce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5280" y="3597120"/>
            <a:ext cx="104148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267080"/>
            <a:ext cx="1605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7080" y="3597120"/>
            <a:ext cx="16048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rtamento Dinâ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5638680"/>
            <a:ext cx="723960" cy="486000"/>
          </a:xfrm>
          <a:prstGeom prst="leftRightArrow">
            <a:avLst>
              <a:gd name="adj1" fmla="val 50000"/>
              <a:gd name="adj2" fmla="val 29654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2880" y="297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4" idx="3"/>
            <a:endCxn id="208" idx="1"/>
          </p:cNvCxnSpPr>
          <p:nvPr/>
        </p:nvCxnSpPr>
        <p:spPr>
          <a:xfrm flipV="1">
            <a:off x="2901960" y="2265120"/>
            <a:ext cx="527760" cy="162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4" idx="3"/>
            <a:endCxn id="210" idx="1"/>
          </p:cNvCxnSpPr>
          <p:nvPr/>
        </p:nvCxnSpPr>
        <p:spPr>
          <a:xfrm>
            <a:off x="2901960" y="3892320"/>
            <a:ext cx="52776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/>
          <p:nvPr/>
        </p:nvCxnSpPr>
        <p:spPr>
          <a:xfrm>
            <a:off x="2895120" y="3886200"/>
            <a:ext cx="909000" cy="179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135160" y="30481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43360" y="5284800"/>
            <a:ext cx="4648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rutural (Diagrama de Objet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abilidades dos Obj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aborações dos Obj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agrama de Classe -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352680"/>
            <a:ext cx="4495680" cy="1326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0120" y="3886200"/>
            <a:ext cx="723960" cy="485640"/>
          </a:xfrm>
          <a:prstGeom prst="leftRightArrow">
            <a:avLst>
              <a:gd name="adj1" fmla="val 50000"/>
              <a:gd name="adj2" fmla="val 296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429000"/>
            <a:ext cx="4648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rutural (Diagrama de Objet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onentes e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aborações de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agrama de Classe - Arquite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429000" y="1295280"/>
            <a:ext cx="4724280" cy="1951920"/>
            <a:chOff x="3429000" y="1295280"/>
            <a:chExt cx="4724280" cy="1951920"/>
          </a:xfrm>
        </p:grpSpPr>
        <p:sp>
          <p:nvSpPr>
            <p:cNvPr id="208" name=""/>
            <p:cNvSpPr/>
            <p:nvPr/>
          </p:nvSpPr>
          <p:spPr>
            <a:xfrm>
              <a:off x="3429000" y="1295280"/>
              <a:ext cx="4572000" cy="19519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05320" y="1295280"/>
              <a:ext cx="464796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pa conceit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agrama de Contex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agrama de Use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jetivos e etapas – Use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rface do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isitos não funcion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58:16Z</dcterms:created>
  <dc:creator>Gustavo Robichez de Carvalho</dc:creator>
  <dc:description/>
  <dc:language>en-US</dc:language>
  <cp:lastModifiedBy>Gustavo Robichez de Carvalho</cp:lastModifiedBy>
  <dcterms:modified xsi:type="dcterms:W3CDTF">2001-08-09T16:34:49Z</dcterms:modified>
  <cp:revision>6</cp:revision>
  <dc:subject/>
  <dc:title>Elementos de Arquitetura de Software</dc:title>
</cp:coreProperties>
</file>