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5011-ADDB-47F3-B5A5-2B49CBC8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5092-05C5-4126-BF61-AED3A719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F6C-CD43-4A22-8B58-763DA191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D4B0-882A-4FF9-9BD6-009CFC31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382A-9E7E-4C6E-A250-39273635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90DE-717B-48A3-9CEF-2B9927EE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E77-B386-4752-98F0-9AA2999D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89D0-A3B0-4E40-A507-1D56D3D3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D643-205B-4A67-89E6-C3E7A570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F9BD-E408-47D0-AD04-5000500F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783D-DA44-4573-9D66-95A63CB0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633D-4376-46C8-90DB-8B4CED09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69A0-AA80-4B8C-A961-9ABCAFA26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S OPERACIONAIS DISTRIBUÍ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JORGE FELIPPE &amp; VICTOR CARDO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O DE ESTADOS DE 2P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09760" y="2200320"/>
            <a:ext cx="63244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VANTAGEM 2 P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ior desvantagem do Protocolo de Confirmação de Duas fases é o fato dele ser um protocolo de bloque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 nó (coordenador ou site participante) fica parado enquanto não recebe uma mensagem. Isso significa que outros processos que competem por recursos bloqueados ficam esperando a liberação dos recursos enquanto o processo em execução não termina e libera os bloque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 a possibilidade de um nó ficar esperando mesmo se todos os outros nós tiverem falhado, assim como alguns sites participantes podem ficar esperando e não resolver suas transações caso o coordenador falhe. Isso significa que os recursos envolvidos podem ficar bloqueados para semp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-PHASE COMMIT PROTO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e protocolo é um algorítmo com execução distribuída onde cada um dos nós de execução pode votar e concordar com a transação. Tem como principal vantagem sobre o 2PC a capacidade de suportar N falhas de (2N+1) sites particip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que uma transação seja bem sucedida, ou todos os nós concordam com a transação, ou a transação é abortada em todos eles, mesmo que uma falha ocorra durante a execu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participante, incluindo o coordenador, mantém uma área privada de trabalho para manter o registro sobre as atualizações dos objetos gerenciados. Cada atualização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contém o valor antigo e o novo do objeto. Atualizações não se tornam permanentes até que a transação seja finalmente confirmada, para garantir a semântica de isolamento das trans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-PHASE COMMIT PROTO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se1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– Igual a fase 1 do 2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se2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– O coordenador envia uma mensagem de “precommit T” a todos os sites participantes caso estes tenham indicado dentro do tempo limite que podem efetivar a transação “ready T” ou então se os mesmos responderem com uma mensagem de “abort T”; Os sites devem responder com uma mensagem de “ack 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se3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– Ao receber N mensagens de reconhecimento, o coordenador envia a mensagem “commit T” a todos os sites participantes, que ao recebê-la efetivam a trans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FOS DE ESTADOS DO 3 P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71600" y="1947960"/>
            <a:ext cx="6399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E DE CONCORR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ndo múltiplas transações são executadas simultaneamente  em diferentes processos, alguns mecanismos  são necessários para mante-los fora de outros caminh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se mecanismo é chamado de controle de concorrê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to nível de abst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as requerem do programador estar intimamente envolvido com todos os detalhes de exclusão mútua, gerenciamento da região crítica, prevenção de deadlock, e recuperação de cra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nsações em Sistemas distribuídos serve para endereçar dois problemas: concorrência (evitar condição de corrida e falhas) e falhas (garantir consistência dos dad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 SUA ORIGEM NO MUNDO DOS NEGÓC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03640" y="306864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amente os dados eram armazenados em fitas magné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mo assim possui propriedades de uma trans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3500280"/>
            <a:ext cx="93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2000" y="2781360"/>
            <a:ext cx="431640" cy="2232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40360" y="2997360"/>
            <a:ext cx="1712880" cy="1668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95640" y="2997360"/>
            <a:ext cx="865080" cy="680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50960" y="2624040"/>
            <a:ext cx="13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ntário ant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128680" y="4162320"/>
            <a:ext cx="865440" cy="681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84360" y="378936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ualizações do 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32000" y="3284640"/>
            <a:ext cx="935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059280" y="4220640"/>
            <a:ext cx="93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40360" y="270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448320" y="3586320"/>
            <a:ext cx="865440" cy="680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04000" y="321300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o inventá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40360" y="3789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96360" y="2997360"/>
            <a:ext cx="431640" cy="1439640"/>
          </a:xfrm>
          <a:custGeom>
            <a:avLst/>
            <a:gdLst>
              <a:gd name="textAreaLeft" fmla="*/ 0 w 431640"/>
              <a:gd name="textAreaRight" fmla="*/ 155880 w 43164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21800" y="3801960"/>
            <a:ext cx="12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 t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I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ndo usando transações requer primitivas especiais que devem ser fornecidas pelo sistema operacional ou pela linguagem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runtim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EGIN_TRANSACTION: Marca o início de uma trans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D_TRANSACTION: Termina a transação e tenta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mmi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BORT_TRANSACTION: Elimina uma transação; restaura valores antig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AD: Lê um dado vindo de um arquivo (ou outro obje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RITE: Escreve um dado em um arquivo (ou outro obje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. DE PRIMI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A DE PASSAGENS AÉ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492280"/>
            <a:ext cx="38876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EGIN 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erve WP-JF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erve JFK-Nairob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erve Nairobi-Malind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40360" y="2492280"/>
            <a:ext cx="50036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rve WP-JF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rve JFK-Nairob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rve Nairobi-Malindi FULL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RT_TRANS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6728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56000" y="227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RIE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m 4 propriedades essenci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omic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ara o mundo, a transação acontece indivisivelmente; todas as operações são confirmadas ou abortadas. Essa propriedade é garantida pelos protocolos de confirm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siste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Garante que o resultado da transação é correta . Se ela iniciar em um estado do sistema consistente, quando ela terminar, o estado continuará consis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solated ou Serializabilit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Transações concorrentes não interferem com out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urab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Uma vez que uma transação é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mmita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as mudanças são perma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ivat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Writehead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wo-Phase Commit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wo-Phase Commit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835280" y="3068640"/>
            <a:ext cx="4813200" cy="1549440"/>
            <a:chOff x="1835280" y="3068640"/>
            <a:chExt cx="4813200" cy="1549440"/>
          </a:xfrm>
        </p:grpSpPr>
        <p:sp>
          <p:nvSpPr>
            <p:cNvPr id="81" name=""/>
            <p:cNvSpPr/>
            <p:nvPr/>
          </p:nvSpPr>
          <p:spPr>
            <a:xfrm>
              <a:off x="1835280" y="3070440"/>
              <a:ext cx="1676160" cy="15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Escreve ‘Prepare” no lo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Envia “Prepare” messa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Collect all repli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Escreve no log de registr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Envia a mensagem de Commi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67400" y="3068640"/>
              <a:ext cx="1981080" cy="15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Escreve “ready” no lo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Envia mensage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screve Commit no log de registr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mi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Envia a mensagem de Fi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59160" y="32464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3282480" y="34747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30560" y="41608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2825640" y="43894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619280" y="2637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RDEN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2637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ORDI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63640" y="40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2920" y="342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4149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9:16:20Z</dcterms:created>
  <dc:creator>Jorge Felippe Penna de Barros</dc:creator>
  <dc:description/>
  <dc:language>en-US</dc:language>
  <cp:lastModifiedBy>Jorge Felippe Penna de Barros</cp:lastModifiedBy>
  <dcterms:modified xsi:type="dcterms:W3CDTF">2005-12-09T23:47:00Z</dcterms:modified>
  <cp:revision>27</cp:revision>
  <dc:subject/>
  <dc:title>Slide 1</dc:title>
</cp:coreProperties>
</file>