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723-5BF5-4776-B934-E1F2DF7C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2FB-36BD-4443-B6AB-579C4CD2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8F1-0ABE-4727-A43F-9D6B17E5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C8D-36C4-4740-AD69-7BA6A0F3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656-8A04-4C7A-8DE5-81BDD7F1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94F-5E36-4B34-8C46-D23AA10B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9D5-7ADB-40C5-9238-E76DD3C1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AC5-2AB3-4C2C-A5CC-22D5A9EC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4F1-73CE-4998-BDF5-E31CEB51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5EC-9B03-47B9-949D-9D4C0E2A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6B8-9184-4F28-B558-C7B391C7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CFA-28DB-48D6-BA49-9E327063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2840-1AD0-470F-BF5C-505C5787C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000000"/>
                </a:solidFill>
                <a:latin typeface="Verdana"/>
              </a:rPr>
              <a:t>SOCKE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OMP1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218960" cy="906480"/>
          </a:xfrm>
          <a:prstGeom prst="rect">
            <a:avLst/>
          </a:prstGeom>
          <a:ln w="0">
            <a:noFill/>
          </a:ln>
        </p:spPr>
      </p:pic>
      <p:pic>
        <p:nvPicPr>
          <p:cNvPr id="43" name="COMP1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1218960" cy="906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3733920"/>
            <a:ext cx="4572000" cy="1155600"/>
          </a:xfrm>
          <a:custGeom>
            <a:avLst/>
            <a:gdLst/>
            <a:ahLst/>
            <a:rect l="l" t="t" r="r" b="b"/>
            <a:pathLst>
              <a:path w="2880" h="728">
                <a:moveTo>
                  <a:pt x="0" y="176"/>
                </a:moveTo>
                <a:cubicBezTo>
                  <a:pt x="456" y="88"/>
                  <a:pt x="912" y="0"/>
                  <a:pt x="1056" y="80"/>
                </a:cubicBezTo>
                <a:cubicBezTo>
                  <a:pt x="1200" y="160"/>
                  <a:pt x="560" y="584"/>
                  <a:pt x="864" y="656"/>
                </a:cubicBezTo>
                <a:cubicBezTo>
                  <a:pt x="1168" y="728"/>
                  <a:pt x="2520" y="440"/>
                  <a:pt x="2880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743200"/>
            <a:ext cx="685800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523880"/>
            <a:ext cx="815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quenceIn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vê um modo de concatenar os dados de 2 ou mais fluxos de dados de entr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429000"/>
            <a:ext cx="815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lterInputStream e FilterOut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ilterIn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rovê os métodos necessários para filtrar os dados obtidos de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In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ilter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rovê os métodos necessários para filtrar os dados que serão escritos em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Os dois são utilizado para permitir operações de sort e filtragem dos d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1295280"/>
            <a:ext cx="815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BufferedIn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ubclasse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ilterIn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provê a entrada de dados buferizada (a eficiência é aumentada pela leitura de grandes volumes de dados e o armazenamento destes dados em um buffer interno). Quando o dado é requisitado, ele é disponibilizado do buffer, ao invés de ser lido do disco, rede ou outro recurso l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11480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BufferedOut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ubclasse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ilter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provê a buferização dos dados de saída (a eficiência aumenta devido ao armazenamento dos dados de saída e o envio desses dados para a saida somente quando o buffer enche ou quando o méto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lush(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é chama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acote java.net provê uma estrutura poderosa e flexível para rede. Muitas das classes deste pacote fazem parte de uma infra-estrutura de rede não utilizadas em aplicações normais, são mais complicadas e de difícil compreensão. Aqui vamos descrever somente as classes utilizadas normalmente em aplicaçõ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3276720"/>
            <a:ext cx="792504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representa uma localização na Internet. Ela provê uma interface bem simples de rede – o download de um objeto referenciado por um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ode ser feito através de uma simples chamada, ou podem ser abertos canais de leitura ou escrita neste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105520"/>
            <a:ext cx="792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um nível mais complexo, o objet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Connectio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ode ser obtido a partir de um objet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fornecido. 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Connectio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rovê métodos adicionais que permitem trabalhar co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 de maneiras mais sofistic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219320"/>
            <a:ext cx="8381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a fazer mais do que um simples download de um objeto referenciado por um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o pacote java.net fornece 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 Esta classe permite conectar a uma determinada porta em um determinado host Internet e ler e escrever dados utilizando as classe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In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o pacote java.io. Para implementar um servidor para aceitar conexões de clientes, é possível utilizar 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erver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Tanto 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quanto 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erver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utilizam 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InetAddres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que representa um endereço Inter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34340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acote java.net fornece ainda classes que permitem operações de rede de baixo nível, através dos objeto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atagramPa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que podem ser enviados e recebidos pela rede através do objet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atagram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O Java 1.1 incluiu neste pacote 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Multicast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que suporta rede por difusão (multicast networkin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4479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a classe representa uma URL (Uniform Resource Locator) e permite o download de dados referidos por uma URL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312408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URL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e abstrata, define uma conexão de rede para um objeto especificado por um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Deve ser utilizada quando se deseja mais controle sobre o download dos dados do que os oferecidos pelos métodos d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447920"/>
            <a:ext cx="8153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HttpURL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a classe é uma especialização d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Connectio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Uma instância desta classe é retornada quando o méto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openConnection(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é chamado por um objet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que utiliza o protocolo HTTP. As muitas constantes definidas por esta classe são os códigos de estado retornados pelos servidores HTTP.  Por isto, para um maior entendimento desta classe, é necessária a compreensão em detalhes do protocolo HT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144792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URL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e que define um método estático utilizado para converter uma string para a form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encode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ou seja, espaços são convertidos para “+”, e todos os caracteres não alfanuméricos (exceto “_”) são convertidos por um caracter de percentagem (“%”) seguindo por 2 dígitos hexadecimais. Este método é utilizado para permitir o envio da URL em ASCII, de forma que os caracteres especiais sejam corretamente interpretados por qualquer computador no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3048120"/>
            <a:ext cx="8382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a classe implementa um socket para a comunicação entre processos através da rede. O método construtor cria um socket e o conecta ao host e porta especificados. Opcionalmente, também é possível especificar se a comunicação através do socket deve ser baseada em uma conexão confiável ou não. A conexão confiável é a padr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371600"/>
            <a:ext cx="8305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Inet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a classe representa um endereço internet, e é utilizada na criação dos objeto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atagramPa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37160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Server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a classe é utilizada por servidores para “escutar” (listen) requisições de conexões de clientes. Quando um objet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erver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é criado, é especificada a porta que o servidor irá escutar. O méto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ccept(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nicia a escuta nesta porta, e fica aguardando até que um cliente requisite uma conexão nesta porta. Quando isto ocorre,  o méto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ccept(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aceita a conexão, criando e retornando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que o servidor pode utilizar para se comunicar com o cl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219320"/>
            <a:ext cx="807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Datagram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a classe define um socket que pode receber e enviar pacotes de datagramas pela rede utilizando o protocolo UDP. Um datagrama é uma interface de rede de nível bem baixo: é simplesmente um vetor de bytes enviado através da rede. Um datagrama não implementa nenhum tipo de protocolo de comunicação baseado em stream, e não há conexão estabelecida entre o remetente e o receptor. Pacotes de datagramas são chamados não confiáveis porque o protocolo não faz nenhum esforço para garantir a chegada ou o reenvio do datagrama em caso de falha no envio. Assim, pacotes enviados através 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atagram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não tem garantia de chegada, muito menos garantia de chegada na ordem enviada. Por outro lado, este protocolo simples faz com que as transmissões de datagramas sejam bem rápi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5486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otocolo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drão de comunicação entre os processos cliente e serv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1148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ocket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anal de comunicação entre um processo cliente e um processo serv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800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onexão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dentifica o par de sockets entre o processo cliente e o processo serv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3526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orta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orta do computador na qual o serviço é disponibili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6668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Host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omputador onde é executado o processo serv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209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rocesso que disponibiliza recur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liente: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cesso que solicita al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1295280"/>
            <a:ext cx="8305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Datagram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a classe implementa um pacote de dados que pode ser enviado ou recebido pela rede através de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atagram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emplo de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* Este programa conecta a um WEB server e faz downloads de uma específica URL. Usa o protocolo HTTP.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public class HttpClien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Verifica os argu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f ((args.length != 1 ) &amp;&amp; (args.length != 2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hrow new IllegalArgumentException(“Faltam argumentos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Pega uma string para escrever o conteúdo da UR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OutputStream to_fi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f (args.length == 2) to_file = new FileOutputStream( args[1]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else to_file = System.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Agora usa uma class URL para analisar o que foi passado pe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usuário como parâmetro: protocolo, host, porta, file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URL url = new URL( args[0]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tring protocol = url.getProtocol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f (!protocol.equals(“http”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hrow new IllegalArgumentException(“Usar o protocolo http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tring host = url.getHos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nt port = url.getPor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f (port == -1) port = 80;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Se não há port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                    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use o default do 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tring filename = url.getFil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Abrir uma conexão na rede com socket para a porta e o ho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especif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ocket socket = new Socket(host,por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Pega entrada e saída para o 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nputStream from_server = socket.getInputStream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PrintWriter to_server =  new PrintWri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( new OutputStreamWriter(socket.getOutputStream()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emplo de Programa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Envia o comando GET HTTP para o WEB server, especificando 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arqu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o_server.println(“GET “ + filenam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o_server.flush();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Envie ag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Le a resposta do server, e a escreve no arqu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byte[] buffer = new byte[4096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nt bytes_rea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while(( bytes_read = from_server.read(buffer)) != -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o_file.write(buffer, 0, bytes_rea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Quando o server fecha a conexão, nós fechamos nosso arqu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ocket.clos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o_file.clos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catch ( Exception e) {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Informe dos erros ocorr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ystem.err.println(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ystem.err.println(“Ao usar: java HttpClient &lt;URL&gt; &lt;filename&gt;]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emplo de Programa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3809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ocket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ada um dos processos (Cliente e Servidor) constrói seu socket. Utiliza uma porta de comunic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8288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lient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recisa saber da existência e conhecer o endereço do serv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8195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Não precisa saber o endereço do cliente, ou da sua existência, antes da conex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So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socket de mensagens têm que ler mensagens intei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6002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is processos para se comunicar precisam declarar o mesmo tipo de Socket e o mesmo domín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438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ndo um socket é criado, o programa tem que especificar o tipo do socket e o domínio do endereç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352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socket pode ser de dois tipos: de fluxo ou de mensage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191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socket de fluxo trata as comunicações como um fluxo contínuo de caracte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Domí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domínios mais usados são o do UNIX e o d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04812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 DO UNIX – dois processos compartilham o mesmo sistema de arquivos. O endereço é uma string de caracteres que é uma entrada no sistema de arqu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739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 DA INTERNET – dois processos executando em hosts diferentes se comunicam. O endereço é o IP do ho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Protocolos de Comunic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da tipo de socket utiliza um protocolo de comunic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2767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socket de fluxo utiliza o TCP ( Transmission Control Protocol ) é um protocolo orientado a conexão e seguro. Como exemplo pode ser citada uma ligação via telef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41972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socket de mensagens utiliza o UDP ( UNIX Datagram Protocol ) que não é baseado em conexão e não é seguro. Como exemplo pode ser citado o envio de uma ca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U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aplicação cliente que coleta informações de um usuário antes de enviá-las a um servidor cent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30481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aplicação de servidor que funciona como um ponto de coleta central para dados de vários usuá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h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44792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acote java.io contem um número relativamente grande de classes. Grande parte do pacote consiste em fluxos de bytes  - subclasses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In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ou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e em fluxos de caracteres – subclasses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Reade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ou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Write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0481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nputStream e 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es abstratas que definem métodos para leitura e escrita de bytes. Suas subclasses permitem que os bytes sejam lidos e escritos de várias fo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9528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leInputStream e File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êem e escrevem em arquiv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676520"/>
            <a:ext cx="7925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295280"/>
            <a:ext cx="80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ByteArrayInputStream e ByteArrayOut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êem e escrevem em uma lista de bytes na memória. É utilizada quando se precisa escrever ou ler dados da memória como se eles tivessem vindo de um arquivo, de um pipe ou de um socket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65760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ipedInputStream e PipedOut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ipedIn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lê bytes de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iped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e 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iped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screve bytes em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ipedIn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Essas últimas classes trabalham junto para implementar um “pipe” para comunicações entre processos (thread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00:25:51Z</dcterms:created>
  <dc:creator>Louise Guimarães Pedroso</dc:creator>
  <dc:description/>
  <dc:language>en-US</dc:language>
  <cp:lastModifiedBy>Ismael H F Santos</cp:lastModifiedBy>
  <dcterms:modified xsi:type="dcterms:W3CDTF">2000-02-07T04:13:44Z</dcterms:modified>
  <cp:revision>24</cp:revision>
  <dc:subject/>
  <dc:title>Sockets</dc:title>
</cp:coreProperties>
</file>