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B5C-128D-4FBC-B97E-DEA5CED0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76D-38F0-419D-B988-BA1209FB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936-E3BE-4B43-A939-25D8342A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DBF-4573-4188-9850-4370F4DE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7F8-001B-4B50-9E89-53C56F16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2E4-BBFA-4FA7-B498-C1ED22A4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00B-BA59-454D-8345-1641466C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734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9F0-B1D6-4B54-89C8-4C5BF3B3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E41-104A-46A7-BDCC-48723696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9072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0126-E89C-4AD8-B23B-3C2C1E93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72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734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9E0-A211-4E47-ACF8-1E3B9201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872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4636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9072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872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4636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86B-7D5B-40D1-BFDC-E449334F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3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A1E1-4E13-437B-9325-7D6569A6FB3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M U L T I C A S 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Comic Sans MS"/>
              </a:rPr>
              <a:t>Centro Universitário da Cida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Comic Sans MS"/>
              </a:rPr>
              <a:t>Projeto de Software</a:t>
            </a:r>
            <a:r>
              <a:rPr b="0" lang="en-US" sz="3200" spc="-1" strike="noStrike">
                <a:solidFill>
                  <a:srgbClr val="402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omic Sans MS"/>
              </a:rPr>
              <a:t>Catarina Abreu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omic Sans MS"/>
              </a:rPr>
              <a:t>Nuno Camin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ulticasting Chat em Java 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54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Programa proposto: Chat-forum utilizando o conceito de multicasting e armazenando histórico de mensagens em banco de dados, com opções de criar novas salas e “bisbilhotar” o que está acontecendo em uma sala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Foram utilizados:  Peer-to-peer multicasting, JDBC, Skins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164360" y="765000"/>
            <a:ext cx="666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Funcionament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990960" cy="2933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05120" y="2895480"/>
            <a:ext cx="83808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5960" y="1981080"/>
            <a:ext cx="16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Area d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informaçõ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858000" y="3276720"/>
            <a:ext cx="38088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86960" y="243828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Tráfego d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ch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352320" y="5181120"/>
            <a:ext cx="68580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0840" y="541008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Área de entrada de informaçõ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Classe MulticastCh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828800"/>
            <a:ext cx="7542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Extende Jfra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Mistura elementos de AWT e Swing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Iniciada com grupo, porta e tempo de vida de pacotes como default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Métodos principais:</a:t>
            </a:r>
            <a:br>
              <a:rPr sz="1800"/>
            </a:b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- initAWT() - inicia a interface gráfica</a:t>
            </a:r>
            <a:br>
              <a:rPr sz="1800"/>
            </a:b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- start() - inicia o funcionamento do Multicast</a:t>
            </a:r>
            <a:br>
              <a:rPr sz="1800"/>
            </a:b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- stop() - pára o Multicast</a:t>
            </a:r>
            <a:br>
              <a:rPr sz="1800"/>
            </a:b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- Separa usuarios em “salas” através de um artifício no tratamento da string de entrada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omic Sans MS"/>
              </a:rPr>
              <a:t>M U L T I C A S 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Comic Sans MS"/>
              </a:rPr>
              <a:t>Centro Universitário da Cida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Comic Sans MS"/>
              </a:rPr>
              <a:t>Projeto de Software</a:t>
            </a:r>
            <a:r>
              <a:rPr b="0" lang="en-US" sz="3200" spc="-1" strike="noStrike">
                <a:solidFill>
                  <a:srgbClr val="402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omic Sans MS"/>
              </a:rPr>
              <a:t>Catarina Abreu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omic Sans MS"/>
              </a:rPr>
              <a:t>Nuno Camin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M U L T I C A S 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Comic Sans MS"/>
              </a:rPr>
              <a:t>1. Conceitos de Multicas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Comic Sans MS"/>
              </a:rPr>
              <a:t>2. Multicast em Jav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Comic Sans MS"/>
              </a:rPr>
              <a:t>3. Aplicação: Multicasting Ch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Multicast: Conceito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Permite a distribuição eficiente de pacotes na rede de forma simultânea a vários usuários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2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402000"/>
                </a:solidFill>
                <a:latin typeface="Comic Sans MS"/>
              </a:rPr>
              <a:t>Pode ser analisada em comparação às tecnologias unicast (de máquina a máquina) e broadcast (de uma máquina para todas as máquinas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2000"/>
                </a:solidFill>
                <a:latin typeface="Comic Sans MS"/>
              </a:rPr>
              <a:t>Somente os computadores que realmente desejam receber a informação, irão recebê-la: para isso eles se "inscrevem" em grupos, e a informação será passada de roteador a roteador aos interessados do outro lado, que fizerem parte do grupo almejado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Multicast: Conceito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2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omic Sans MS"/>
              </a:rPr>
              <a:t>Transmissão Unicast   x   Trasmissão Multicas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2868480"/>
            <a:ext cx="3181320" cy="2000520"/>
          </a:xfrm>
          <a:prstGeom prst="rect">
            <a:avLst/>
          </a:prstGeom>
          <a:ln w="57240">
            <a:solidFill>
              <a:srgbClr val="a08366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8560" y="2924280"/>
            <a:ext cx="3133800" cy="1857240"/>
          </a:xfrm>
          <a:prstGeom prst="rect">
            <a:avLst/>
          </a:prstGeom>
          <a:ln w="57240">
            <a:solidFill>
              <a:srgbClr val="a08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Multicast: Conceito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2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omic Sans MS"/>
              </a:rPr>
              <a:t>Transmissão Multicast Peer-to-pee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2000"/>
                </a:solidFill>
                <a:latin typeface="Comic Sans MS"/>
              </a:rPr>
              <a:t>(utilizada na aplicação Chat…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87640" y="3141720"/>
            <a:ext cx="3133800" cy="1800000"/>
          </a:xfrm>
          <a:prstGeom prst="rect">
            <a:avLst/>
          </a:prstGeom>
          <a:ln w="57240">
            <a:solidFill>
              <a:srgbClr val="a08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Comic Sans MS"/>
              </a:rPr>
              <a:t>Multicast em Java 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54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Comic Sans MS"/>
              </a:rPr>
              <a:t>InetAddress:</a:t>
            </a:r>
            <a:r>
              <a:rPr b="0" lang="pt-BR" sz="2800" spc="-1" strike="noStrike">
                <a:solidFill>
                  <a:srgbClr val="402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402000"/>
                </a:solidFill>
                <a:latin typeface="Comic Sans MS"/>
              </a:rPr>
              <a:t>Esta classe representa um endereço IP.  Pode ser utilizada para resolver um nome de host para um endereço IP e vice versa.  É utilizada para endereçar hosts numa rede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   </a:t>
            </a: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Principais métodos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520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static InetAddress getByName(String host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520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boolean isMulticastAddress( 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520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String getHostName( 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520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byte[ ] getAddress( 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83520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String getHostAddress( 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7280" y="744480"/>
            <a:ext cx="4669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Comic Sans MS"/>
              </a:rPr>
              <a:t>Multicast em Java 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829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Comic Sans MS"/>
              </a:rPr>
              <a:t>DatagramPacket:</a:t>
            </a:r>
            <a:r>
              <a:rPr b="0" lang="pt-BR" sz="1800" spc="-1" strike="noStrike">
                <a:solidFill>
                  <a:srgbClr val="402000"/>
                </a:solidFill>
                <a:latin typeface="Comic Sans MS"/>
              </a:rPr>
              <a:t> Esta classe representa um datagrama: por exemplo, um pacote de dados a ser transmitido na rede ou que foi recebido da rede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    </a:t>
            </a: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Construtores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5446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DatagramPacket(byte[ ] data, int length, InetAddress address, int port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5446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DatagramPacket(byte[ ] data, int length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08366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a08366"/>
                </a:solidFill>
                <a:latin typeface="Comic Sans MS"/>
              </a:rPr>
              <a:t>Principais métodos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-365040">
              <a:lnSpc>
                <a:spcPct val="65000"/>
              </a:lnSpc>
              <a:spcBef>
                <a:spcPts val="2251"/>
              </a:spcBef>
              <a:buClr>
                <a:srgbClr val="ce9964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InetAddress getAddress();  void setAddress(InetAddress address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int getPort( ); </a:t>
            </a: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          void setPort(Inetint port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byte[ ] getData( ); </a:t>
            </a: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          void setData(byte[ ] data)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int getLength( ); </a:t>
            </a: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          void setLength(int length)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54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6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779400"/>
            <a:ext cx="4096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Comic Sans MS"/>
              </a:rPr>
              <a:t>Multicast em Java 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54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Comic Sans MS"/>
              </a:rPr>
              <a:t>DatagramSocket:</a:t>
            </a:r>
            <a:r>
              <a:rPr b="0" lang="pt-BR" sz="1800" spc="-1" strike="noStrike">
                <a:solidFill>
                  <a:srgbClr val="402000"/>
                </a:solidFill>
                <a:latin typeface="Comic Sans MS"/>
              </a:rPr>
              <a:t> Esta classe representa uma socket UDP.  Permite que sejam colocados datagramas unicast na rede para serem entregues a um host remoto ou  receber datagramas da rede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   </a:t>
            </a: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Construtores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DatagramSocket( 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DatagramSocket(int port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   </a:t>
            </a: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Principais métodos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void send(DatagramPacket packet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void receive(DatagramPacket packet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void close( 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96000" y="744480"/>
            <a:ext cx="5619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Comic Sans MS"/>
              </a:rPr>
              <a:t>Multicast em Java 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54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Comic Sans MS"/>
              </a:rPr>
              <a:t>MulticastSocket:</a:t>
            </a:r>
            <a:r>
              <a:rPr b="0" lang="pt-BR" sz="1800" spc="-1" strike="noStrike">
                <a:solidFill>
                  <a:srgbClr val="402000"/>
                </a:solidFill>
                <a:latin typeface="Comic Sans MS"/>
              </a:rPr>
              <a:t> Esta é uma subclasse de DatagramSocket, provendo suporte para multicast, especificamente a habilidade de se juntar ou abandonar grupos multicast, além de estabelecer o time-to-live dos datagramas transmitidos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   </a:t>
            </a: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Construtor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MulticastSocket(int port)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   </a:t>
            </a:r>
            <a:r>
              <a:rPr b="1" lang="pt-BR" sz="1800" spc="-1" strike="noStrike">
                <a:solidFill>
                  <a:srgbClr val="a08366"/>
                </a:solidFill>
                <a:latin typeface="Comic Sans MS"/>
              </a:rPr>
              <a:t>Principais métodos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void joinGroup(InetAddress group)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void leaveGroup(InetAddress group)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omic Sans MS"/>
              </a:rPr>
              <a:t>void setTimeToLive(int ttl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2000"/>
                </a:solidFill>
                <a:latin typeface="Comic Sans MS"/>
              </a:rPr>
              <a:t>int getTimeToLive( )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5428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9:49:27Z</dcterms:created>
  <dc:creator>BR - IT Support</dc:creator>
  <dc:description/>
  <dc:language>en-US</dc:language>
  <cp:lastModifiedBy>Nuno Caminada</cp:lastModifiedBy>
  <cp:lastPrinted>2002-09-04T20:32:35Z</cp:lastPrinted>
  <dcterms:modified xsi:type="dcterms:W3CDTF">2002-12-12T20:06:16Z</dcterms:modified>
  <cp:revision>112</cp:revision>
  <dc:subject/>
  <dc:title>O CURSO DE AÇÕES</dc:title>
</cp:coreProperties>
</file>